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384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3840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FD360FD-2552-4DA9-B1E7-E65376F43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"/>
          <p:cNvSpPr txBox="1"/>
          <p:nvPr/>
        </p:nvSpPr>
        <p:spPr>
          <a:xfrm>
            <a:off x="393840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8FE159A-43BF-4493-A4BE-B4B349B3A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 txBox="1"/>
          <p:nvPr/>
        </p:nvSpPr>
        <p:spPr>
          <a:xfrm>
            <a:off x="-36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 txBox="1"/>
          <p:nvPr/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 txBox="1"/>
          <p:nvPr/>
        </p:nvSpPr>
        <p:spPr>
          <a:xfrm>
            <a:off x="39384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601" name="PlaceHolder 2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"/>
          <p:cNvSpPr txBox="1"/>
          <p:nvPr/>
        </p:nvSpPr>
        <p:spPr>
          <a:xfrm>
            <a:off x="393840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E7AEB73-8EB7-483E-B232-C39A61194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 txBox="1"/>
          <p:nvPr/>
        </p:nvSpPr>
        <p:spPr>
          <a:xfrm>
            <a:off x="-36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 txBox="1"/>
          <p:nvPr/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 txBox="1"/>
          <p:nvPr/>
        </p:nvSpPr>
        <p:spPr>
          <a:xfrm>
            <a:off x="39384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607" name="PlaceHolder 2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EE51C-6D81-4FEF-8ABD-7C557A46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46239-8F80-4177-B75D-CA28997C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D349E-DB71-4070-BF0E-EB480977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B0446-32A5-44AB-A559-386B9C6A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93A7-77D9-4553-B059-588DA240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4F75-3FEB-4509-80C0-71FFE940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8D28-A60C-4F1C-8845-B451475A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2C9F-E0DC-445A-9894-4ADD428B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D2F6-762B-4BFF-A21C-D02CC492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2B64-4A7D-40CC-A863-36910E6E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8250-82DA-4938-8599-3B2E5519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4E383-6CE9-4766-BFA7-1F10265C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CA80-DDBB-41AE-8C37-BF1BE28B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582C-6243-46E4-864A-8E514213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99DD-ABCB-497E-AA0A-9E9CE8C2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2BBB-792F-49B6-9B2C-6CBE5B85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AEA1-8203-4A1A-88C9-DD70CE62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90F92-463C-420A-8A15-2F80575D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F5AB7-D5B8-4BB3-839F-699AA52A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9BCC8-0BE0-4FF1-A5C0-39EF2CD6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A1B07-D55D-4758-A215-09218266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7D63-1378-4C6F-9296-EDE9229E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7F1D4-39AF-4E02-9655-269AD03D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D9A60-1747-4CDE-A82A-9509110B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AE77-AEC0-4BAB-9B2C-3D9CEEFB71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240" y="7920"/>
            <a:ext cx="9140760" cy="6850080"/>
            <a:chOff x="3240" y="792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6440" y="3548160"/>
              <a:ext cx="6392880" cy="3309840"/>
              <a:chOff x="2746440" y="354816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6440" y="420516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3280" y="424800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6920" y="531972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5720" y="354816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8520" y="368604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6880" y="213660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" y="792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64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201D-748F-4E92-BB2B-2447E2CACF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2362320"/>
            <a:ext cx="83822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rivation of the HL7 RIM Ont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Top-Down Method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222800"/>
            <a:ext cx="82296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ntologies: Materials &amp; Lab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046160" y="2133720"/>
            <a:ext cx="2763720" cy="28605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124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36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position: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ost = Materials + Labor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3" name=""/>
          <p:cNvSpPr/>
          <p:nvPr/>
        </p:nvSpPr>
        <p:spPr>
          <a:xfrm>
            <a:off x="1009800" y="12128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52680" y="124452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09800" y="1411200"/>
            <a:ext cx="1406520" cy="1855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09800" y="3143160"/>
            <a:ext cx="140652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37880" y="14335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37160" y="157464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37160" y="17146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35720" y="185724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38240" y="1998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37160" y="21416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36800" y="22827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37160" y="242244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38240" y="25653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38960" y="27068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37520" y="284940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719360" y="3279600"/>
            <a:ext cx="1440" cy="40032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52760" y="32796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69000" y="349416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16360" y="352908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69000" y="368928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69000" y="602928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4200" y="370836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4560" y="38498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93120" y="399096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4920" y="4132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3480" y="427356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93120" y="441648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3120" y="455760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90600" y="469908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3120" y="484020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498168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92760" y="512460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91320" y="52657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92040" y="540864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4560" y="554832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91680" y="56894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607080" y="6165720"/>
            <a:ext cx="180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40480" y="616572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496400">
            <a:off x="2628720" y="3180960"/>
            <a:ext cx="2900160" cy="925560"/>
          </a:xfrm>
          <a:prstGeom prst="leftRightArrow">
            <a:avLst>
              <a:gd name="adj1" fmla="val 50000"/>
              <a:gd name="adj2" fmla="val 6237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41960" y="18954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43880" y="48402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36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sociation Cla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5" name=""/>
          <p:cNvSpPr/>
          <p:nvPr/>
        </p:nvSpPr>
        <p:spPr>
          <a:xfrm>
            <a:off x="1009800" y="12128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52680" y="124452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09800" y="1411200"/>
            <a:ext cx="1406520" cy="1855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9800" y="3143160"/>
            <a:ext cx="140652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37880" y="14335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37160" y="157464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37160" y="17146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35720" y="185724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38240" y="1998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37160" y="21416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36800" y="22827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37160" y="242244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38240" y="25653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38960" y="27068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37520" y="284940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719360" y="3279600"/>
            <a:ext cx="1440" cy="40032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52760" y="32796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69000" y="349416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16360" y="352908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69000" y="368928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69000" y="602928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94200" y="370836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4560" y="38498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93120" y="399096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94920" y="4132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3480" y="427356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93120" y="441648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93120" y="455760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90600" y="469908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93120" y="484020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91320" y="498168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92760" y="512460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91320" y="52657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92040" y="540864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94560" y="554832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91680" y="56894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607080" y="6165720"/>
            <a:ext cx="180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40480" y="616572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41960" y="18954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86800" y="48402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3126960" y="3665520"/>
            <a:ext cx="932040" cy="11700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16320" y="2558880"/>
            <a:ext cx="3352680" cy="213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55840" y="4870440"/>
            <a:ext cx="1406520" cy="67464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437560" y="4902120"/>
            <a:ext cx="116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ociations Cl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55840" y="5068800"/>
            <a:ext cx="1406520" cy="4762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54400" y="5421240"/>
            <a:ext cx="140796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065400" y="5552640"/>
            <a:ext cx="1800" cy="39996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98800" y="55530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IM - Backbo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ff37"/>
                </a:solidFill>
                <a:latin typeface="Garamond"/>
              </a:rPr>
              <a:t>Ent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ople, Places, Physical Th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41"/>
                </a:solidFill>
                <a:latin typeface="Garamond"/>
              </a:rPr>
              <a:t>Associations</a:t>
            </a:r>
            <a:r>
              <a:rPr b="1" lang="en-US" sz="3200" spc="-1" strike="noStrike">
                <a:solidFill>
                  <a:srgbClr val="a886e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les &amp; Relationshi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Garamond"/>
              </a:rPr>
              <a:t>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llections of Ev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552600" y="5396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95480" y="5716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2600" y="738360"/>
            <a:ext cx="1406520" cy="1855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2600" y="2470320"/>
            <a:ext cx="1406520" cy="1234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0680" y="7603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9960" y="9018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9960" y="10414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8520" y="118440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81040" y="13255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9960" y="14684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9600" y="16095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9960" y="17496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1040" y="1892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81760" y="20336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0320" y="217656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16360" y="11080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968480" y="10825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85240" y="957240"/>
            <a:ext cx="36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71440" y="957240"/>
            <a:ext cx="19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968480" y="19843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61760" y="185724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38680" y="1857240"/>
            <a:ext cx="21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21400" y="2000160"/>
            <a:ext cx="11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62160" y="2606400"/>
            <a:ext cx="1440" cy="39996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95560" y="260676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3803760" y="2558880"/>
            <a:ext cx="1440" cy="4478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65360" y="3666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381400" y="36608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602080" y="223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85760" y="3898800"/>
            <a:ext cx="1995480" cy="19605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747800" y="39830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85760" y="4145040"/>
            <a:ext cx="1995480" cy="17143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085760" y="5727600"/>
            <a:ext cx="1995480" cy="131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07360" y="415908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108440" y="4302000"/>
            <a:ext cx="71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mr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07000" y="4443480"/>
            <a:ext cx="72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_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06280" y="458460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06640" y="47275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nction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06640" y="4867200"/>
            <a:ext cx="1085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wareness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06280" y="5010120"/>
            <a:ext cx="95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04120" y="5151600"/>
            <a:ext cx="191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ounter_accommodati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07000" y="52927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08080" y="54356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3096720" y="4906800"/>
            <a:ext cx="7606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171960" y="4756320"/>
            <a:ext cx="8568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38440" y="4756320"/>
            <a:ext cx="1191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284560" y="2376360"/>
            <a:ext cx="806400" cy="180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284560" y="2376000"/>
            <a:ext cx="1440" cy="1522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14720" y="638280"/>
            <a:ext cx="137484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66960" y="6746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14720" y="846000"/>
            <a:ext cx="1374840" cy="1706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14720" y="2428920"/>
            <a:ext cx="137484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38840" y="860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37760" y="10033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39920" y="114444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39200" y="12859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37760" y="1427040"/>
            <a:ext cx="1462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onNumber : LIST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40640" y="156852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37760" y="1711440"/>
            <a:ext cx="97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39920" y="1852560"/>
            <a:ext cx="842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dr : SET&lt;AD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39200" y="19940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39920" y="2135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738600" y="2558880"/>
            <a:ext cx="133200" cy="179640"/>
          </a:xfrm>
          <a:custGeom>
            <a:avLst/>
            <a:gdLst/>
            <a:ahLst/>
            <a:rect l="l" t="t" r="r" b="b"/>
            <a:pathLst>
              <a:path w="167" h="226">
                <a:moveTo>
                  <a:pt x="83" y="0"/>
                </a:moveTo>
                <a:lnTo>
                  <a:pt x="167" y="226"/>
                </a:lnTo>
                <a:lnTo>
                  <a:pt x="0" y="226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914920" y="110808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14920" y="20001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2960" y="2411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25720" y="368460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573080" y="371952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25720" y="387972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25720" y="621972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50920" y="3898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51280" y="404028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50200" y="4181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51640" y="4322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50200" y="44640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49840" y="46069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49840" y="474804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47320" y="488952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49840" y="503064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8400" y="517212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49480" y="531504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48040" y="545616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8760" y="559908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51280" y="573876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48760" y="58802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11880" y="4967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4664160" y="6356520"/>
            <a:ext cx="1440" cy="39528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97560" y="635652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900680" y="896400"/>
            <a:ext cx="377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sociativ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a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36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UML Ter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7" name=""/>
          <p:cNvSpPr/>
          <p:nvPr/>
        </p:nvSpPr>
        <p:spPr>
          <a:xfrm>
            <a:off x="1009800" y="12128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52680" y="124452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009800" y="1411200"/>
            <a:ext cx="1406520" cy="1855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09800" y="3143160"/>
            <a:ext cx="140652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037880" y="14335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37160" y="157464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37160" y="17146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035720" y="185724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38240" y="1998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37160" y="21416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036800" y="22827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37160" y="242244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038240" y="25653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038960" y="27068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037520" y="284940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719360" y="3279600"/>
            <a:ext cx="1440" cy="40032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52760" y="32796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69000" y="349416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516360" y="352908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769000" y="368928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69000" y="602928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94200" y="370836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94560" y="38498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3120" y="399096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94920" y="4132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93480" y="427356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93120" y="441648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93120" y="455760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790600" y="469908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93120" y="484020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1320" y="498168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92760" y="512460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91320" y="52657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792040" y="540864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794560" y="554832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791680" y="56894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607080" y="6165720"/>
            <a:ext cx="180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540480" y="616572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41960" y="18954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086800" y="48402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16320" y="2558880"/>
            <a:ext cx="3352680" cy="213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16720" y="1271520"/>
            <a:ext cx="1267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e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24280" y="1676520"/>
            <a:ext cx="1295640" cy="182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438280" y="1523880"/>
            <a:ext cx="1447920" cy="228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86440" y="4267080"/>
            <a:ext cx="152964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mp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r ‘hasA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soc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276720" y="3429000"/>
            <a:ext cx="533160" cy="838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695200" y="1905120"/>
            <a:ext cx="2887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ribute: value pai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6248520" y="2286000"/>
            <a:ext cx="914400" cy="1981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01520" y="2819520"/>
            <a:ext cx="14961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tatyp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781320" y="3200400"/>
            <a:ext cx="1295640" cy="12193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7960" y="4191120"/>
            <a:ext cx="159516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erarch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r ‘IsA’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soci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066680" y="3504960"/>
            <a:ext cx="533520" cy="685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395360" y="5943600"/>
            <a:ext cx="4516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rdinality’ or ‘multiplicity’ 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962520" y="5181120"/>
            <a:ext cx="1143000" cy="7621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552600" y="5396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095480" y="5716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52600" y="738360"/>
            <a:ext cx="1406520" cy="1855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52600" y="2470320"/>
            <a:ext cx="1406520" cy="1234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80680" y="7603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9960" y="9018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9960" y="10414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78520" y="118440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1040" y="13255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9960" y="14684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9600" y="16095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960" y="17496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81040" y="1892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81760" y="20336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0320" y="217656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16360" y="11080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1968480" y="10825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685240" y="957240"/>
            <a:ext cx="36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71440" y="957240"/>
            <a:ext cx="19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1968480" y="19843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61760" y="185724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38680" y="1857240"/>
            <a:ext cx="21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21400" y="2000160"/>
            <a:ext cx="11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1262160" y="2606400"/>
            <a:ext cx="1440" cy="39996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195560" y="260676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3803760" y="2558880"/>
            <a:ext cx="1440" cy="4478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665360" y="3666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381400" y="36608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02080" y="223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85760" y="3898800"/>
            <a:ext cx="1995480" cy="19605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747800" y="39830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85760" y="4145040"/>
            <a:ext cx="1995480" cy="17143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085760" y="5727600"/>
            <a:ext cx="1995480" cy="131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07360" y="415908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08440" y="4302000"/>
            <a:ext cx="71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mr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07000" y="4443480"/>
            <a:ext cx="72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_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106280" y="458460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106640" y="47275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nction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06640" y="4867200"/>
            <a:ext cx="1085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wareness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06280" y="5010120"/>
            <a:ext cx="95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04120" y="5151600"/>
            <a:ext cx="191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ounter_accommodati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7000" y="52927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108080" y="54356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3096720" y="4906800"/>
            <a:ext cx="7606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71960" y="4756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538440" y="4756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284560" y="2376360"/>
            <a:ext cx="80640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2284560" y="2376000"/>
            <a:ext cx="1440" cy="1522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14720" y="638280"/>
            <a:ext cx="137484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666960" y="6746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14720" y="846000"/>
            <a:ext cx="1374840" cy="1706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14720" y="2428920"/>
            <a:ext cx="137484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138840" y="860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137760" y="10033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39920" y="114444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139200" y="12859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37760" y="1427040"/>
            <a:ext cx="1462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onNumber : LIST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40640" y="156852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37760" y="1711440"/>
            <a:ext cx="97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39920" y="1852560"/>
            <a:ext cx="842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dr : SET&lt;AD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39200" y="19940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39920" y="2135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4495320" y="647640"/>
            <a:ext cx="2361960" cy="735480"/>
            <a:chOff x="4495320" y="647640"/>
            <a:chExt cx="2361960" cy="735480"/>
          </a:xfrm>
        </p:grpSpPr>
        <p:sp>
          <p:nvSpPr>
            <p:cNvPr id="636" name=""/>
            <p:cNvSpPr/>
            <p:nvPr/>
          </p:nvSpPr>
          <p:spPr>
            <a:xfrm>
              <a:off x="5600880" y="647640"/>
              <a:ext cx="1204560" cy="7081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692320" y="68436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600880" y="855720"/>
              <a:ext cx="1204560" cy="5000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97640" y="1231920"/>
              <a:ext cx="1204920" cy="1238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3560" y="870120"/>
              <a:ext cx="123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fectiveTime : IVL&lt;TS&gt;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25360" y="1011240"/>
              <a:ext cx="747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ype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4495320" y="903240"/>
              <a:ext cx="1089000" cy="180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158440" y="77148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out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18360" y="90792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10440" y="768240"/>
              <a:ext cx="21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sour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4495320" y="1270080"/>
              <a:ext cx="1089000" cy="144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55120" y="1138320"/>
              <a:ext cx="387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in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18360" y="127620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514040" y="1135080"/>
              <a:ext cx="18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targ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3738600" y="2558880"/>
            <a:ext cx="133200" cy="179640"/>
          </a:xfrm>
          <a:custGeom>
            <a:avLst/>
            <a:gdLst/>
            <a:ahLst/>
            <a:rect l="l" t="t" r="r" b="b"/>
            <a:pathLst>
              <a:path w="167" h="226">
                <a:moveTo>
                  <a:pt x="83" y="0"/>
                </a:moveTo>
                <a:lnTo>
                  <a:pt x="167" y="226"/>
                </a:lnTo>
                <a:lnTo>
                  <a:pt x="0" y="226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14920" y="110808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914920" y="20001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92960" y="2411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25720" y="368460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573080" y="371952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25720" y="387972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25720" y="621972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50920" y="3898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1280" y="404028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50200" y="4181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51640" y="4322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50200" y="44640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849840" y="46069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49840" y="474804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47320" y="488952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49840" y="503064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48400" y="517212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49480" y="531504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48040" y="545616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48760" y="559908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51280" y="573876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48760" y="58802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611880" y="4967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4664160" y="6356520"/>
            <a:ext cx="1440" cy="39528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97560" y="635652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rot="5400000">
            <a:off x="5346000" y="749880"/>
            <a:ext cx="517320" cy="658800"/>
          </a:xfrm>
          <a:custGeom>
            <a:avLst/>
            <a:gdLst>
              <a:gd name="textAreaLeft" fmla="*/ 0 w 517320"/>
              <a:gd name="textAreaRight" fmla="*/ 517680 w 51732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14219"/>
                <a:lnTo>
                  <a:pt x="3" y="10531"/>
                </a:lnTo>
                <a:arcTo wR="10800" hR="10800" stAng="-10714219" swAng="1071421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900680" y="1874520"/>
            <a:ext cx="377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ursiv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sociativ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a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2" name=""/>
          <p:cNvSpPr/>
          <p:nvPr/>
        </p:nvSpPr>
        <p:spPr>
          <a:xfrm>
            <a:off x="6510240" y="3720960"/>
            <a:ext cx="1158840" cy="191484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652800" y="3755880"/>
            <a:ext cx="87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10240" y="3919680"/>
            <a:ext cx="1158840" cy="17161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510240" y="5502240"/>
            <a:ext cx="1158840" cy="1335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535080" y="39355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33280" y="4076640"/>
            <a:ext cx="91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vers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534000" y="4218120"/>
            <a:ext cx="1188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quence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534720" y="4359240"/>
            <a:ext cx="103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535440" y="4500720"/>
            <a:ext cx="75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use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533280" y="4643280"/>
            <a:ext cx="10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eckpoin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535080" y="4784760"/>
            <a:ext cx="735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li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535080" y="492588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i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533640" y="5067360"/>
            <a:ext cx="89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gat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533280" y="5208480"/>
            <a:ext cx="1113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junctio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502240" y="473076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107760" y="3895560"/>
            <a:ext cx="43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539680" y="3895560"/>
            <a:ext cx="43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619960" y="478620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329520" y="478620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5502240" y="407052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71040" y="4541760"/>
            <a:ext cx="339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29520" y="41306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555520" y="4541760"/>
            <a:ext cx="18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619960" y="413064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5400000">
            <a:off x="6041880" y="3965400"/>
            <a:ext cx="906480" cy="890640"/>
          </a:xfrm>
          <a:custGeom>
            <a:avLst/>
            <a:gdLst>
              <a:gd name="textAreaLeft" fmla="*/ 0 w 906480"/>
              <a:gd name="textAreaRight" fmla="*/ 906840 w 90648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14219"/>
                <a:lnTo>
                  <a:pt x="3" y="10531"/>
                </a:lnTo>
                <a:arcTo wR="10800" hR="10800" stAng="-10714219" swAng="1071421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514960" y="1115280"/>
            <a:ext cx="1149480" cy="89028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890280"/>
              <a:gd name="textAreaBottom" fmla="*/ 890640 h 890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14219"/>
                <a:lnTo>
                  <a:pt x="3" y="10531"/>
                </a:lnTo>
                <a:arcTo wR="10800" hR="10800" stAng="-10714219" swAng="1071421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7ff37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552600" y="5396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095480" y="5716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52600" y="738360"/>
            <a:ext cx="1406520" cy="1855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52600" y="2470320"/>
            <a:ext cx="1406520" cy="1234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80680" y="7603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79960" y="9018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79960" y="10414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78520" y="118440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81040" y="13255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9960" y="14684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9600" y="16095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9960" y="17496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81040" y="1892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81760" y="20336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80320" y="217656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016360" y="11080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1968480" y="10825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685240" y="957240"/>
            <a:ext cx="36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71440" y="957240"/>
            <a:ext cx="19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1968480" y="19843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61760" y="185724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38680" y="1857240"/>
            <a:ext cx="21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021400" y="2000160"/>
            <a:ext cx="11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1262160" y="2606400"/>
            <a:ext cx="1440" cy="39996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95560" y="260676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3803760" y="2558880"/>
            <a:ext cx="1440" cy="4478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65360" y="3666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381400" y="36608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602080" y="223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085760" y="3898800"/>
            <a:ext cx="1995480" cy="19605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747800" y="39830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085760" y="4145040"/>
            <a:ext cx="1995480" cy="17143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85760" y="5727600"/>
            <a:ext cx="1995480" cy="131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07360" y="415908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08440" y="4302000"/>
            <a:ext cx="71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mr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107000" y="4443480"/>
            <a:ext cx="72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_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106280" y="458460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106640" y="47275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nction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106640" y="4867200"/>
            <a:ext cx="1085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wareness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06280" y="5010120"/>
            <a:ext cx="95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04120" y="5151600"/>
            <a:ext cx="191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ounter_accommodati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107000" y="52927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08080" y="54356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3096720" y="4906800"/>
            <a:ext cx="7606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171960" y="4756320"/>
            <a:ext cx="8568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538440" y="4756320"/>
            <a:ext cx="1191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2284560" y="2376360"/>
            <a:ext cx="80640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2284560" y="2376000"/>
            <a:ext cx="1440" cy="1522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114720" y="638280"/>
            <a:ext cx="137484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666960" y="6746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14720" y="846000"/>
            <a:ext cx="1374840" cy="1706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14720" y="2428920"/>
            <a:ext cx="137484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138840" y="860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37760" y="10033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139920" y="114444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39200" y="12859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37760" y="1427040"/>
            <a:ext cx="1462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onNumber : LIST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40640" y="156852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37760" y="1711440"/>
            <a:ext cx="97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139920" y="1852560"/>
            <a:ext cx="842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dr : SET&lt;AD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39200" y="19940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39920" y="2135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4495320" y="647640"/>
            <a:ext cx="2361960" cy="735480"/>
            <a:chOff x="4495320" y="647640"/>
            <a:chExt cx="2361960" cy="735480"/>
          </a:xfrm>
        </p:grpSpPr>
        <p:sp>
          <p:nvSpPr>
            <p:cNvPr id="773" name=""/>
            <p:cNvSpPr/>
            <p:nvPr/>
          </p:nvSpPr>
          <p:spPr>
            <a:xfrm>
              <a:off x="5600880" y="647640"/>
              <a:ext cx="1204560" cy="7081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92320" y="68436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600880" y="855720"/>
              <a:ext cx="1204560" cy="5000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597640" y="1231920"/>
              <a:ext cx="1204920" cy="1238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623560" y="870120"/>
              <a:ext cx="123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fectiveTime : IVL&lt;TS&gt;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625360" y="1011240"/>
              <a:ext cx="747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ype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495320" y="903240"/>
              <a:ext cx="1089000" cy="180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158440" y="77148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out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418360" y="90792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510440" y="768240"/>
              <a:ext cx="21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sour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4495320" y="1270080"/>
              <a:ext cx="1089000" cy="144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55120" y="1138320"/>
              <a:ext cx="387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in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418360" y="127620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514040" y="1135080"/>
              <a:ext cx="18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targ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738600" y="2558880"/>
            <a:ext cx="133200" cy="179640"/>
          </a:xfrm>
          <a:custGeom>
            <a:avLst/>
            <a:gdLst/>
            <a:ahLst/>
            <a:rect l="l" t="t" r="r" b="b"/>
            <a:pathLst>
              <a:path w="167" h="226">
                <a:moveTo>
                  <a:pt x="83" y="0"/>
                </a:moveTo>
                <a:lnTo>
                  <a:pt x="167" y="226"/>
                </a:lnTo>
                <a:lnTo>
                  <a:pt x="0" y="226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914920" y="110808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914920" y="20001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892960" y="2411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25720" y="368460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573080" y="371952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825720" y="387972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25720" y="621972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50920" y="3898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51280" y="404028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50200" y="4181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51640" y="4322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50200" y="44640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849840" y="46069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849840" y="474804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47320" y="488952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849840" y="503064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848400" y="517212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849480" y="531504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48040" y="545616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48760" y="559908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51280" y="573876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48760" y="58802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611880" y="4967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5502240" y="3720960"/>
            <a:ext cx="2219760" cy="1914840"/>
            <a:chOff x="5502240" y="3720960"/>
            <a:chExt cx="2219760" cy="1914840"/>
          </a:xfrm>
        </p:grpSpPr>
        <p:sp>
          <p:nvSpPr>
            <p:cNvPr id="816" name=""/>
            <p:cNvSpPr/>
            <p:nvPr/>
          </p:nvSpPr>
          <p:spPr>
            <a:xfrm>
              <a:off x="6510240" y="3720960"/>
              <a:ext cx="1158840" cy="191484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652800" y="3755880"/>
              <a:ext cx="874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ctRelationshi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10240" y="3919680"/>
              <a:ext cx="1158840" cy="171612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510240" y="5502240"/>
              <a:ext cx="1158840" cy="13356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535080" y="3935520"/>
              <a:ext cx="747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ype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33280" y="4076640"/>
              <a:ext cx="91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version_ind : B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534000" y="4218120"/>
              <a:ext cx="1188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quenceNumber : IN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534720" y="4359240"/>
              <a:ext cx="1033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orityNumber : IN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35440" y="4500720"/>
              <a:ext cx="75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useQty : P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533280" y="4643280"/>
              <a:ext cx="1081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eckpoint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535080" y="4784760"/>
              <a:ext cx="735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plit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535080" y="492588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oin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533640" y="5067360"/>
              <a:ext cx="896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gation_ind : B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533280" y="5208480"/>
              <a:ext cx="1113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junction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5502240" y="4730760"/>
              <a:ext cx="1008000" cy="144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07760" y="389556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out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539680" y="3895560"/>
              <a:ext cx="43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is_source_for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619960" y="478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329520" y="478620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5502240" y="4070520"/>
              <a:ext cx="1008000" cy="144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071040" y="4541760"/>
              <a:ext cx="339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has_targ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329520" y="413064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55520" y="4541760"/>
              <a:ext cx="18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targ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19960" y="413064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 flipV="1">
            <a:off x="4664160" y="6356520"/>
            <a:ext cx="1440" cy="39528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597560" y="635652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053760" y="3945600"/>
            <a:ext cx="909720" cy="876240"/>
          </a:xfrm>
          <a:custGeom>
            <a:avLst/>
            <a:gdLst>
              <a:gd name="textAreaLeft" fmla="*/ 0 w 909720"/>
              <a:gd name="textAreaRight" fmla="*/ 910080 w 90972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50034"/>
                <a:lnTo>
                  <a:pt x="1" y="10643"/>
                </a:lnTo>
                <a:arcTo wR="10800" hR="10800" stAng="-10750034" swAng="10750034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900680" y="1874520"/>
            <a:ext cx="377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-Relationship Recur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ctRelationship Recursions</a:t>
            </a:r>
            <a:br>
              <a:rPr sz="40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*Classes, Instances of Classes, &amp; Instance Diagram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5" name=""/>
          <p:cNvSpPr/>
          <p:nvPr/>
        </p:nvSpPr>
        <p:spPr>
          <a:xfrm>
            <a:off x="2949480" y="1504800"/>
            <a:ext cx="1481400" cy="93852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20840" y="1547640"/>
            <a:ext cx="1067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949480" y="1743120"/>
            <a:ext cx="1481400" cy="7002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949480" y="2227320"/>
            <a:ext cx="1481400" cy="2160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979360" y="1778040"/>
            <a:ext cx="67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Code 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971800" y="1941480"/>
            <a:ext cx="1316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s compon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76280" y="1460520"/>
            <a:ext cx="1192320" cy="460368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37800" y="150336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76280" y="1695600"/>
            <a:ext cx="1192320" cy="43686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80960" y="5910120"/>
            <a:ext cx="1187640" cy="1540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18400" y="1717560"/>
            <a:ext cx="74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19120" y="1887480"/>
            <a:ext cx="116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odCode : Ev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18760" y="2065320"/>
            <a:ext cx="913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de : Chem 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482920" y="17128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721880" y="17128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1679040" y="1922400"/>
            <a:ext cx="122724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1033560" y="6064200"/>
            <a:ext cx="1440" cy="4716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66960" y="6064200"/>
            <a:ext cx="158400" cy="214200"/>
          </a:xfrm>
          <a:custGeom>
            <a:avLst/>
            <a:gdLst/>
            <a:ahLst/>
            <a:rect l="l" t="t" r="r" b="b"/>
            <a:pathLst>
              <a:path w="100" h="135">
                <a:moveTo>
                  <a:pt x="50" y="0"/>
                </a:moveTo>
                <a:lnTo>
                  <a:pt x="100" y="135"/>
                </a:lnTo>
                <a:lnTo>
                  <a:pt x="0" y="135"/>
                </a:lnTo>
                <a:lnTo>
                  <a:pt x="5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4430880" y="2023920"/>
            <a:ext cx="122544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189760" y="179856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491720" y="1798560"/>
            <a:ext cx="23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711760" y="1589040"/>
            <a:ext cx="1336680" cy="100188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159240" y="163188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11760" y="1824120"/>
            <a:ext cx="1336680" cy="766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711760" y="2443320"/>
            <a:ext cx="1336680" cy="1476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741280" y="1930320"/>
            <a:ext cx="74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742000" y="2100240"/>
            <a:ext cx="116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odCode : Ev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742360" y="2278080"/>
            <a:ext cx="936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de : Glucos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933640" y="2712960"/>
            <a:ext cx="1481040" cy="9381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05000" y="2757600"/>
            <a:ext cx="1067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933640" y="2951280"/>
            <a:ext cx="1481040" cy="699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33640" y="3438360"/>
            <a:ext cx="1481040" cy="212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963160" y="2987640"/>
            <a:ext cx="67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Code 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55960" y="3151080"/>
            <a:ext cx="1316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s compon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467080" y="29224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706040" y="29224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663560" y="3133800"/>
            <a:ext cx="122904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4414320" y="3232080"/>
            <a:ext cx="122724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75360" y="300672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75880" y="3006720"/>
            <a:ext cx="23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697360" y="2797200"/>
            <a:ext cx="1351080" cy="100152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221160" y="284148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697360" y="3032280"/>
            <a:ext cx="1351080" cy="766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697360" y="3651120"/>
            <a:ext cx="1351080" cy="1476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725440" y="3138480"/>
            <a:ext cx="74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726160" y="3308400"/>
            <a:ext cx="116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odCode : Ev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726520" y="3487680"/>
            <a:ext cx="148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de : Total Cholestero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933640" y="3913200"/>
            <a:ext cx="1481040" cy="93492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105000" y="3956040"/>
            <a:ext cx="1067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933640" y="4151160"/>
            <a:ext cx="1481040" cy="6969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933640" y="4635360"/>
            <a:ext cx="1481040" cy="212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963160" y="4186080"/>
            <a:ext cx="67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Code 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955960" y="4349880"/>
            <a:ext cx="1316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s compon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467080" y="41212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706040" y="41212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1663560" y="4330800"/>
            <a:ext cx="122904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414320" y="4432320"/>
            <a:ext cx="122724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175360" y="420696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475880" y="4206960"/>
            <a:ext cx="23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697360" y="3997440"/>
            <a:ext cx="1351080" cy="100152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259320" y="404028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697360" y="4232160"/>
            <a:ext cx="1351080" cy="766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697360" y="4848120"/>
            <a:ext cx="1351080" cy="150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725440" y="4338720"/>
            <a:ext cx="74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726160" y="4508640"/>
            <a:ext cx="116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odCode : Ev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727240" y="4686480"/>
            <a:ext cx="896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de : Sodiu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933640" y="5094360"/>
            <a:ext cx="1481040" cy="9381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105000" y="5138640"/>
            <a:ext cx="1067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933640" y="5332320"/>
            <a:ext cx="1481040" cy="7002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933640" y="5819760"/>
            <a:ext cx="1481040" cy="212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963160" y="5369040"/>
            <a:ext cx="67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Code 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955960" y="5532480"/>
            <a:ext cx="1316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s compon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467080" y="53038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706040" y="53038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1663560" y="5514840"/>
            <a:ext cx="122904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4414320" y="5613480"/>
            <a:ext cx="122724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175360" y="538812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475880" y="5388120"/>
            <a:ext cx="23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697360" y="5178600"/>
            <a:ext cx="1351080" cy="100296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208200" y="522288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697360" y="5413320"/>
            <a:ext cx="1351080" cy="7682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697360" y="6032520"/>
            <a:ext cx="1351080" cy="1490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725440" y="5519880"/>
            <a:ext cx="74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726160" y="5689440"/>
            <a:ext cx="116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odCode : Ev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726160" y="5869080"/>
            <a:ext cx="1076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de : Potassiu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354720" y="6230880"/>
            <a:ext cx="1800" cy="4730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275520" y="6230880"/>
            <a:ext cx="158760" cy="216000"/>
          </a:xfrm>
          <a:custGeom>
            <a:avLst/>
            <a:gdLst/>
            <a:ahLst/>
            <a:rect l="l" t="t" r="r" b="b"/>
            <a:pathLst>
              <a:path w="100" h="136">
                <a:moveTo>
                  <a:pt x="50" y="0"/>
                </a:moveTo>
                <a:lnTo>
                  <a:pt x="100" y="136"/>
                </a:lnTo>
                <a:lnTo>
                  <a:pt x="0" y="136"/>
                </a:lnTo>
                <a:lnTo>
                  <a:pt x="5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552600" y="5396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095480" y="5716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52600" y="738360"/>
            <a:ext cx="1406520" cy="1855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52600" y="2470320"/>
            <a:ext cx="1406520" cy="1234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80680" y="7603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79960" y="9018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79960" y="10414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8520" y="118440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81040" y="13255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79960" y="14684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79600" y="16095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79960" y="17496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81040" y="1892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81760" y="20336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80320" y="217656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16360" y="11080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1968480" y="10825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685240" y="957240"/>
            <a:ext cx="36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71440" y="957240"/>
            <a:ext cx="19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1968480" y="19843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561760" y="185724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38680" y="1857240"/>
            <a:ext cx="21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021400" y="2000160"/>
            <a:ext cx="11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1262160" y="2606400"/>
            <a:ext cx="1440" cy="39996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195560" y="260676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3803760" y="2558880"/>
            <a:ext cx="1440" cy="4478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65360" y="3666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381400" y="36608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602080" y="223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85760" y="3898800"/>
            <a:ext cx="1995480" cy="19605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747800" y="39830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085760" y="4145040"/>
            <a:ext cx="1995480" cy="17143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085760" y="5727600"/>
            <a:ext cx="1995480" cy="131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07360" y="415908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108440" y="4302000"/>
            <a:ext cx="71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mr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107000" y="4443480"/>
            <a:ext cx="72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_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106280" y="458460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106640" y="47275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nction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106640" y="4867200"/>
            <a:ext cx="1085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wareness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06280" y="5010120"/>
            <a:ext cx="95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104120" y="5151600"/>
            <a:ext cx="191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ounter_accommodati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07000" y="52927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108080" y="54356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3096720" y="4906800"/>
            <a:ext cx="7606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171960" y="4756320"/>
            <a:ext cx="8568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538440" y="4756320"/>
            <a:ext cx="1191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2284560" y="2376360"/>
            <a:ext cx="80640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2284560" y="2376000"/>
            <a:ext cx="1440" cy="1522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114720" y="638280"/>
            <a:ext cx="137484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666960" y="6746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114720" y="846000"/>
            <a:ext cx="1374840" cy="1706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114720" y="2428920"/>
            <a:ext cx="137484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138840" y="860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137760" y="10033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139920" y="114444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139200" y="12859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137760" y="1427040"/>
            <a:ext cx="1462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onNumber : LIST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140640" y="156852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137760" y="1711440"/>
            <a:ext cx="97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39920" y="1852560"/>
            <a:ext cx="842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dr : SET&lt;AD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139200" y="19940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139920" y="2135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4495320" y="647640"/>
            <a:ext cx="2361960" cy="735480"/>
            <a:chOff x="4495320" y="647640"/>
            <a:chExt cx="2361960" cy="735480"/>
          </a:xfrm>
        </p:grpSpPr>
        <p:sp>
          <p:nvSpPr>
            <p:cNvPr id="997" name=""/>
            <p:cNvSpPr/>
            <p:nvPr/>
          </p:nvSpPr>
          <p:spPr>
            <a:xfrm>
              <a:off x="5600880" y="647640"/>
              <a:ext cx="1204560" cy="7081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692320" y="68436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600880" y="855720"/>
              <a:ext cx="1204560" cy="5000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597640" y="1231920"/>
              <a:ext cx="1204920" cy="1238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623560" y="870120"/>
              <a:ext cx="123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fectiveTime : IVL&lt;TS&gt;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625360" y="1011240"/>
              <a:ext cx="747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ype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4495320" y="903240"/>
              <a:ext cx="1089000" cy="180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58440" y="77148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out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418360" y="90792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10440" y="768240"/>
              <a:ext cx="21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sour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4495320" y="1270080"/>
              <a:ext cx="1089000" cy="144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055120" y="1138320"/>
              <a:ext cx="387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in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18360" y="127620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514040" y="1135080"/>
              <a:ext cx="18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targ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3738600" y="2558880"/>
            <a:ext cx="133200" cy="179640"/>
          </a:xfrm>
          <a:custGeom>
            <a:avLst/>
            <a:gdLst/>
            <a:ahLst/>
            <a:rect l="l" t="t" r="r" b="b"/>
            <a:pathLst>
              <a:path w="167" h="226">
                <a:moveTo>
                  <a:pt x="83" y="0"/>
                </a:moveTo>
                <a:lnTo>
                  <a:pt x="167" y="226"/>
                </a:lnTo>
                <a:lnTo>
                  <a:pt x="0" y="226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914920" y="110808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914920" y="20001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892960" y="2411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825720" y="368460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573080" y="371952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825720" y="387972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825720" y="621972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50920" y="3898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851280" y="404028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850200" y="4181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851640" y="4322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50200" y="44640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849840" y="46069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49840" y="474804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47320" y="488952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849840" y="503064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848400" y="517212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849480" y="531504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848040" y="545616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848760" y="559908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851280" y="573876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848760" y="58802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611880" y="4967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510240" y="3720960"/>
            <a:ext cx="1158840" cy="191484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652800" y="3755880"/>
            <a:ext cx="87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510240" y="3919680"/>
            <a:ext cx="1158840" cy="17161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510240" y="5502240"/>
            <a:ext cx="1158840" cy="1335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535080" y="39355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533280" y="4076640"/>
            <a:ext cx="91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vers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534000" y="4218120"/>
            <a:ext cx="1188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quence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534720" y="4359240"/>
            <a:ext cx="103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535440" y="4500720"/>
            <a:ext cx="75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use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533280" y="4643280"/>
            <a:ext cx="10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eckpoin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535080" y="4784760"/>
            <a:ext cx="735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li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535080" y="492588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i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533640" y="5067360"/>
            <a:ext cx="89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gat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33280" y="5208480"/>
            <a:ext cx="1113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junctio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5502240" y="473076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107760" y="3895560"/>
            <a:ext cx="43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539680" y="3895560"/>
            <a:ext cx="43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19960" y="478620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329520" y="478620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502240" y="407052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71040" y="4541760"/>
            <a:ext cx="339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329520" y="41306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555520" y="4541760"/>
            <a:ext cx="18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619960" y="413064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664160" y="6356520"/>
            <a:ext cx="1440" cy="39528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597560" y="635652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rot="5400000">
            <a:off x="6053760" y="3945600"/>
            <a:ext cx="909720" cy="876240"/>
          </a:xfrm>
          <a:custGeom>
            <a:avLst/>
            <a:gdLst>
              <a:gd name="textAreaLeft" fmla="*/ 0 w 909720"/>
              <a:gd name="textAreaRight" fmla="*/ 910080 w 90972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50034"/>
                <a:lnTo>
                  <a:pt x="1" y="10643"/>
                </a:lnTo>
                <a:arcTo wR="10800" hR="10800" stAng="-10750034" swAng="10750034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900680" y="1874520"/>
            <a:ext cx="377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init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s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7" name=""/>
          <p:cNvSpPr/>
          <p:nvPr/>
        </p:nvSpPr>
        <p:spPr>
          <a:xfrm flipH="1" flipV="1" rot="5400000">
            <a:off x="5050800" y="3971160"/>
            <a:ext cx="909360" cy="876240"/>
          </a:xfrm>
          <a:custGeom>
            <a:avLst/>
            <a:gdLst>
              <a:gd name="textAreaLeft" fmla="*/ 360 w 909360"/>
              <a:gd name="textAreaRight" fmla="*/ 910080 w 909360"/>
              <a:gd name="textAreaTop" fmla="*/ 360 h 876240"/>
              <a:gd name="textAreaBottom" fmla="*/ 876960 h 876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50034"/>
                <a:lnTo>
                  <a:pt x="1" y="10643"/>
                </a:lnTo>
                <a:arcTo wR="10800" hR="10800" stAng="-10750034" swAng="10750034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Concept -  “a thing in the minds eye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The image “http://www.communitymusicschool.org/teen_camp_2003/thursday/images/Card%20Game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0" y="2189160"/>
            <a:ext cx="6994440" cy="4668840"/>
          </a:xfrm>
          <a:prstGeom prst="rect">
            <a:avLst/>
          </a:prstGeom>
          <a:ln w="0">
            <a:noFill/>
          </a:ln>
        </p:spPr>
      </p:pic>
      <p:sp>
        <p:nvSpPr>
          <p:cNvPr id="113" name="Cloud"/>
          <p:cNvSpPr/>
          <p:nvPr/>
        </p:nvSpPr>
        <p:spPr>
          <a:xfrm>
            <a:off x="4191120" y="1143000"/>
            <a:ext cx="3124080" cy="1833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780840" cy="1244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010280" y="2209680"/>
            <a:ext cx="1752840" cy="2514600"/>
          </a:xfrm>
          <a:prstGeom prst="rect">
            <a:avLst/>
          </a:prstGeom>
          <a:noFill/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5e5ff"/>
                </a:solidFill>
                <a:latin typeface="Garamond"/>
              </a:rPr>
              <a:t>Hmmm -  “Frank needs an ace of hear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477120" y="1066680"/>
            <a:ext cx="1828800" cy="1459080"/>
            <a:chOff x="6477120" y="1066680"/>
            <a:chExt cx="1828800" cy="145908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6477120" y="1066680"/>
              <a:ext cx="1828800" cy="14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6782040" y="1219320"/>
              <a:ext cx="91440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18760" y="183960"/>
            <a:ext cx="60483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HL7 RIM Act Hierarch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9" name=""/>
          <p:cNvSpPr/>
          <p:nvPr/>
        </p:nvSpPr>
        <p:spPr>
          <a:xfrm>
            <a:off x="228600" y="2133720"/>
            <a:ext cx="1376280" cy="1077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19040" y="2160720"/>
            <a:ext cx="97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anceAdministr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28600" y="2278080"/>
            <a:ext cx="1376280" cy="933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51640" y="2292480"/>
            <a:ext cx="607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out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52360" y="239544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54520" y="2500200"/>
            <a:ext cx="956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55240" y="2603520"/>
            <a:ext cx="91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at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54520" y="2714760"/>
            <a:ext cx="130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Check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4520" y="2817720"/>
            <a:ext cx="123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xDose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54160" y="292104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tenc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52360" y="302580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itu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34800" y="3429000"/>
            <a:ext cx="1265400" cy="52560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65360" y="345600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34800" y="3573360"/>
            <a:ext cx="1265400" cy="381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51000" y="35877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51000" y="369108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51000" y="379584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052880" y="3581280"/>
            <a:ext cx="1204920" cy="4082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16200" y="360216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038480" y="3733920"/>
            <a:ext cx="1204920" cy="26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76640" y="3740040"/>
            <a:ext cx="50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78440" y="3844800"/>
            <a:ext cx="113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pectedUseTime : IVL&lt;TS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211880" y="4932360"/>
            <a:ext cx="1551240" cy="63036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22080" y="495936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11880" y="5078520"/>
            <a:ext cx="1551240" cy="484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235280" y="50911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ame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235640" y="5195880"/>
            <a:ext cx="744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urr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242120" y="5299200"/>
            <a:ext cx="1459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238160" y="5402160"/>
            <a:ext cx="1396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lowedBalanceQuantity : IVL&lt;M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937120" y="3581280"/>
            <a:ext cx="61596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999040" y="3610080"/>
            <a:ext cx="48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937120" y="3733920"/>
            <a:ext cx="6159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62320" y="3747960"/>
            <a:ext cx="49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etAmt : M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027080" y="5424480"/>
            <a:ext cx="1197000" cy="5191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268280" y="5451480"/>
            <a:ext cx="701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ublicHealthCas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027080" y="5568840"/>
            <a:ext cx="1197000" cy="374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052640" y="558324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tectionMetho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052280" y="5688000"/>
            <a:ext cx="1121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ansmissionMod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052640" y="579132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easeImporte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157880" y="1220760"/>
            <a:ext cx="1681200" cy="1293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652520" y="1241280"/>
            <a:ext cx="67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tientEncount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157880" y="1366920"/>
            <a:ext cx="1681200" cy="1147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180920" y="1379520"/>
            <a:ext cx="84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uity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181640" y="1484280"/>
            <a:ext cx="108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mission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183800" y="1587600"/>
            <a:ext cx="875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irthEncounter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181280" y="1692360"/>
            <a:ext cx="1220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chargeDispos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184880" y="1795320"/>
            <a:ext cx="103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engthOfSta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183800" y="1898640"/>
            <a:ext cx="82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eAdmitTes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183440" y="2003400"/>
            <a:ext cx="963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ferral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182720" y="2106720"/>
            <a:ext cx="1588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Accommod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181640" y="2209680"/>
            <a:ext cx="1378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Courtesies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181280" y="2314440"/>
            <a:ext cx="720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rg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467080" y="5410080"/>
            <a:ext cx="119052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732760" y="54388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gnosticImag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467080" y="5562720"/>
            <a:ext cx="119052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492280" y="5576760"/>
            <a:ext cx="111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jectOrienta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46400" y="4892760"/>
            <a:ext cx="1516320" cy="5173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394880" y="4919760"/>
            <a:ext cx="81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Transac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046400" y="5037120"/>
            <a:ext cx="1516320" cy="372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072680" y="5051520"/>
            <a:ext cx="1425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red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072320" y="5154480"/>
            <a:ext cx="1401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b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073760" y="5257800"/>
            <a:ext cx="1061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764320" y="4906800"/>
            <a:ext cx="1245960" cy="96048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091560" y="4933800"/>
            <a:ext cx="60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voiceEleme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764320" y="5051520"/>
            <a:ext cx="12459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787720" y="5065560"/>
            <a:ext cx="995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difier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790960" y="5168880"/>
            <a:ext cx="1113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Quantity : RTO&lt;PQ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790960" y="5273640"/>
            <a:ext cx="1157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PriceAmt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789160" y="537696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actor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788080" y="547992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ints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788800" y="5584680"/>
            <a:ext cx="104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verage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788440" y="5694480"/>
            <a:ext cx="80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ifySubjec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162920" y="388620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345440" y="3906720"/>
            <a:ext cx="68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Contr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162920" y="4032360"/>
            <a:ext cx="10587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189920" y="4044960"/>
            <a:ext cx="99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ymentTerms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162920" y="3352680"/>
            <a:ext cx="123804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58560" y="338148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viceTas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162920" y="3498840"/>
            <a:ext cx="1238040" cy="158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188480" y="3513240"/>
            <a:ext cx="1171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rameterValue : LIST&lt;ANY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1440" y="160668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833040" y="162720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ingLi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41440" y="1752480"/>
            <a:ext cx="1058760" cy="152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64480" y="1765440"/>
            <a:ext cx="1018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wnership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170840" y="2716200"/>
            <a:ext cx="830160" cy="407880"/>
          </a:xfrm>
          <a:prstGeom prst="rect">
            <a:avLst/>
          </a:prstGeom>
          <a:solidFill>
            <a:srgbClr val="ffcc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170840" y="2862360"/>
            <a:ext cx="830160" cy="2617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198200" y="2874960"/>
            <a:ext cx="73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ructureTypeId : II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194240" y="2979720"/>
            <a:ext cx="76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sponse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3962520" y="838080"/>
            <a:ext cx="1371240" cy="2511360"/>
            <a:chOff x="3962520" y="838080"/>
            <a:chExt cx="1371240" cy="2511360"/>
          </a:xfrm>
        </p:grpSpPr>
        <p:sp>
          <p:nvSpPr>
            <p:cNvPr id="1161" name=""/>
            <p:cNvSpPr/>
            <p:nvPr/>
          </p:nvSpPr>
          <p:spPr>
            <a:xfrm>
              <a:off x="4024800" y="838080"/>
              <a:ext cx="1308960" cy="2511360"/>
            </a:xfrm>
            <a:prstGeom prst="rect">
              <a:avLst/>
            </a:prstGeom>
            <a:solidFill>
              <a:srgbClr val="ffb0b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604040" y="858600"/>
              <a:ext cx="14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24800" y="982440"/>
              <a:ext cx="1308960" cy="2367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039200" y="9968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 : SET&lt;II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039200" y="11001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od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039200" y="12049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as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039200" y="13078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de : C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039200" y="14126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xt : E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039200" y="15159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tu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39200" y="16192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dential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039200" y="17240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ffective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039200" y="182700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tivity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039200" y="19303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39200" y="20350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vailabilityTime : 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039200" y="21384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textLock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039200" y="224136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ependent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039200" y="234612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039200" y="24494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gation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039200" y="25542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ior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039200" y="26575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eatNumber : IVL&lt;INT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039200" y="27604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on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039200" y="28652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bstitutionCondition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39200" y="29685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vel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039200" y="30798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certainty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1738440" y="4075200"/>
            <a:ext cx="1265040" cy="7477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134080" y="4103640"/>
            <a:ext cx="474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738440" y="4227480"/>
            <a:ext cx="1265040" cy="595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751760" y="4241880"/>
            <a:ext cx="46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ue : AN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755720" y="4344840"/>
            <a:ext cx="1195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pret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754280" y="44481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754280" y="455292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754280" y="465624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rivationExpr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3527280" y="4314960"/>
            <a:ext cx="1120680" cy="409320"/>
            <a:chOff x="3527280" y="4314960"/>
            <a:chExt cx="1120680" cy="409320"/>
          </a:xfrm>
        </p:grpSpPr>
        <p:sp>
          <p:nvSpPr>
            <p:cNvPr id="1196" name=""/>
            <p:cNvSpPr/>
            <p:nvPr/>
          </p:nvSpPr>
          <p:spPr>
            <a:xfrm>
              <a:off x="3527280" y="4314960"/>
              <a:ext cx="1120680" cy="409320"/>
            </a:xfrm>
            <a:prstGeom prst="rect">
              <a:avLst/>
            </a:prstGeom>
            <a:solidFill>
              <a:srgbClr val="ff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005000" y="434340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527280" y="4460760"/>
              <a:ext cx="1120680" cy="263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552840" y="4475160"/>
              <a:ext cx="797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nergy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54640" y="4578480"/>
              <a:ext cx="1041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rbohydrate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1" name=""/>
          <p:cNvSpPr/>
          <p:nvPr/>
        </p:nvSpPr>
        <p:spPr>
          <a:xfrm>
            <a:off x="7371720" y="2736720"/>
            <a:ext cx="41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ro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662360" y="3352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114800" y="39625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6248520" y="38858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876920" y="449568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487692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632448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784872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286000" y="4800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00200" y="51055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160020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304812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1600200" y="2590560"/>
            <a:ext cx="24382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1600200" y="2209680"/>
            <a:ext cx="2438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600200" y="17524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 flipV="1">
            <a:off x="5334120" y="297144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 flipV="1">
            <a:off x="5334120" y="2361960"/>
            <a:ext cx="18288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 flipV="1">
            <a:off x="5334120" y="1981080"/>
            <a:ext cx="182880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 flipV="1">
            <a:off x="5334120" y="1752480"/>
            <a:ext cx="182880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 flipV="1">
            <a:off x="5334120" y="159984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2438280" y="3124080"/>
            <a:ext cx="1600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9536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ttom-Up Modeling Artif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3" name=""/>
          <p:cNvSpPr/>
          <p:nvPr/>
        </p:nvSpPr>
        <p:spPr>
          <a:xfrm>
            <a:off x="1009800" y="12128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52680" y="124452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009800" y="1411200"/>
            <a:ext cx="1406520" cy="1855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009800" y="3143160"/>
            <a:ext cx="140652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037880" y="14335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037160" y="157464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037160" y="17146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035720" y="185724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038240" y="1998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037160" y="21416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036800" y="22827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037160" y="242244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038240" y="25653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038960" y="27068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037520" y="284940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1719360" y="3279600"/>
            <a:ext cx="1440" cy="40032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652760" y="32796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769000" y="349416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516360" y="352908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769000" y="368928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769000" y="602928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794200" y="370836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94560" y="38498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793120" y="399096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94920" y="4132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793480" y="427356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793120" y="441648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3120" y="455760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790600" y="469908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793120" y="484020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791320" y="498168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792760" y="512460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791320" y="52657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792040" y="540864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794560" y="554832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791680" y="56894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6607080" y="6165720"/>
            <a:ext cx="180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540480" y="616572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41960" y="18954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086800" y="48402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416320" y="2558880"/>
            <a:ext cx="3352680" cy="213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816720" y="1271520"/>
            <a:ext cx="1267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e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724280" y="1676520"/>
            <a:ext cx="1295640" cy="182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2438280" y="1523880"/>
            <a:ext cx="1447920" cy="228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386440" y="4267080"/>
            <a:ext cx="152964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mp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r ‘hasA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soc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3276720" y="3429000"/>
            <a:ext cx="533160" cy="838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695200" y="1905120"/>
            <a:ext cx="2887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ribute: value pai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6248520" y="2286000"/>
            <a:ext cx="914400" cy="1981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301520" y="2819520"/>
            <a:ext cx="14961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tatyp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6781320" y="3200400"/>
            <a:ext cx="1295640" cy="12193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27960" y="4191120"/>
            <a:ext cx="159516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erarch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r ‘IsA’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soci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1066680" y="3504960"/>
            <a:ext cx="533520" cy="685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395360" y="5943600"/>
            <a:ext cx="4516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rdinality’ or ‘multiplicity’ 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3962520" y="5181120"/>
            <a:ext cx="1143000" cy="7621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rot="1069200">
            <a:off x="3580920" y="1066320"/>
            <a:ext cx="5639040" cy="221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418760" y="183960"/>
            <a:ext cx="60483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Meaning of Hierarch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9" name=""/>
          <p:cNvSpPr/>
          <p:nvPr/>
        </p:nvSpPr>
        <p:spPr>
          <a:xfrm>
            <a:off x="228600" y="2133720"/>
            <a:ext cx="1376280" cy="1077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19040" y="2160720"/>
            <a:ext cx="97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anceAdministr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28600" y="2278080"/>
            <a:ext cx="1376280" cy="933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51640" y="2292480"/>
            <a:ext cx="607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out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52360" y="239544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54520" y="2500200"/>
            <a:ext cx="956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55240" y="2603520"/>
            <a:ext cx="91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at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54520" y="2714760"/>
            <a:ext cx="130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Check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54520" y="2817720"/>
            <a:ext cx="123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xDose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54160" y="292104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tenc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52360" y="302580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itu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34800" y="3429000"/>
            <a:ext cx="1265400" cy="52560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65360" y="345600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34800" y="3573360"/>
            <a:ext cx="1265400" cy="381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51000" y="35877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51000" y="369108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1000" y="379584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052880" y="3581280"/>
            <a:ext cx="1204920" cy="4082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516200" y="360216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038480" y="3733920"/>
            <a:ext cx="1204920" cy="26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076640" y="3740040"/>
            <a:ext cx="50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078440" y="3844800"/>
            <a:ext cx="113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pectedUseTime : IVL&lt;TS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211880" y="4932360"/>
            <a:ext cx="1551240" cy="63036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822080" y="495936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211880" y="5078520"/>
            <a:ext cx="1551240" cy="484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235280" y="50911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ame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235640" y="5195880"/>
            <a:ext cx="744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urr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242120" y="5299200"/>
            <a:ext cx="1459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238160" y="5402160"/>
            <a:ext cx="1396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lowedBalanceQuantity : IVL&lt;M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937120" y="3581280"/>
            <a:ext cx="61596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999040" y="3610080"/>
            <a:ext cx="48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937120" y="3733920"/>
            <a:ext cx="6159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962320" y="3747960"/>
            <a:ext cx="49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etAmt : M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027080" y="5424480"/>
            <a:ext cx="1197000" cy="5191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268280" y="5451480"/>
            <a:ext cx="701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ublicHealthCas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027080" y="5568840"/>
            <a:ext cx="1197000" cy="374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052640" y="558324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tectionMetho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052280" y="5688000"/>
            <a:ext cx="1121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ansmissionMod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052640" y="579132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easeImporte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157880" y="1220760"/>
            <a:ext cx="1681200" cy="1293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652520" y="1241280"/>
            <a:ext cx="67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tientEncount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157880" y="1366920"/>
            <a:ext cx="1681200" cy="1147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180920" y="1379520"/>
            <a:ext cx="84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uity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181640" y="1484280"/>
            <a:ext cx="108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mission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183800" y="1587600"/>
            <a:ext cx="875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irthEncounter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181280" y="1692360"/>
            <a:ext cx="1220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chargeDispos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184880" y="1795320"/>
            <a:ext cx="103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engthOfSta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183800" y="1898640"/>
            <a:ext cx="82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eAdmitTes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183440" y="2003400"/>
            <a:ext cx="963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ferral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182720" y="2106720"/>
            <a:ext cx="1588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Accommod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181640" y="2209680"/>
            <a:ext cx="1378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Courtesies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181280" y="2314440"/>
            <a:ext cx="720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rg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467080" y="5410080"/>
            <a:ext cx="119052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732760" y="54388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gnosticImag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467080" y="5562720"/>
            <a:ext cx="119052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492280" y="5576760"/>
            <a:ext cx="111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jectOrienta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046400" y="4892760"/>
            <a:ext cx="1516320" cy="5173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394880" y="4919760"/>
            <a:ext cx="81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Transac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046400" y="5037120"/>
            <a:ext cx="1516320" cy="372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072680" y="5051520"/>
            <a:ext cx="1425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red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072320" y="5154480"/>
            <a:ext cx="1401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b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073760" y="5257800"/>
            <a:ext cx="1061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764320" y="4906800"/>
            <a:ext cx="1245960" cy="96048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091560" y="4933800"/>
            <a:ext cx="60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voiceEleme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764320" y="5051520"/>
            <a:ext cx="12459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787720" y="5065560"/>
            <a:ext cx="995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difier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790960" y="5168880"/>
            <a:ext cx="1113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Quantity : RTO&lt;PQ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790960" y="5273640"/>
            <a:ext cx="1157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PriceAmt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789160" y="537696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actor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788080" y="547992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ints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88800" y="5584680"/>
            <a:ext cx="104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verage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788440" y="5694480"/>
            <a:ext cx="80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ifySubjec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162920" y="388620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345440" y="3906720"/>
            <a:ext cx="68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Contr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162920" y="4032360"/>
            <a:ext cx="10587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189920" y="4044960"/>
            <a:ext cx="99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ymentTerms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162920" y="3352680"/>
            <a:ext cx="123804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558560" y="338148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viceTas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162920" y="3498840"/>
            <a:ext cx="1238040" cy="158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188480" y="3513240"/>
            <a:ext cx="1171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rameterValue : LIST&lt;ANY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41440" y="160668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833040" y="162720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ingLi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41440" y="1752480"/>
            <a:ext cx="1058760" cy="152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64480" y="1765440"/>
            <a:ext cx="1018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wnership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170840" y="2716200"/>
            <a:ext cx="830160" cy="407880"/>
          </a:xfrm>
          <a:prstGeom prst="rect">
            <a:avLst/>
          </a:prstGeom>
          <a:solidFill>
            <a:srgbClr val="ffcc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170840" y="2862360"/>
            <a:ext cx="830160" cy="2617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198200" y="2874960"/>
            <a:ext cx="73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ructureTypeId : II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194240" y="2979720"/>
            <a:ext cx="76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sponse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3962520" y="838080"/>
            <a:ext cx="1371240" cy="2511360"/>
            <a:chOff x="3962520" y="838080"/>
            <a:chExt cx="1371240" cy="2511360"/>
          </a:xfrm>
        </p:grpSpPr>
        <p:sp>
          <p:nvSpPr>
            <p:cNvPr id="1371" name=""/>
            <p:cNvSpPr/>
            <p:nvPr/>
          </p:nvSpPr>
          <p:spPr>
            <a:xfrm>
              <a:off x="4024800" y="838080"/>
              <a:ext cx="1308960" cy="2511360"/>
            </a:xfrm>
            <a:prstGeom prst="rect">
              <a:avLst/>
            </a:prstGeom>
            <a:solidFill>
              <a:srgbClr val="ffb0b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604040" y="858600"/>
              <a:ext cx="14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024800" y="982440"/>
              <a:ext cx="1308960" cy="2367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039200" y="9968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 : SET&lt;II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039200" y="11001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od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039200" y="12049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as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039200" y="13078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de : C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039200" y="14126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xt : E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039200" y="15159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tu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039200" y="16192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dential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039200" y="17240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ffective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039200" y="182700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tivity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039200" y="19303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039200" y="20350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vailabilityTime : 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039200" y="21384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textLock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039200" y="224136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ependent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039200" y="234612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039200" y="24494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gation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039200" y="25542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ior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039200" y="26575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eatNumber : IVL&lt;INT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39200" y="27604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on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039200" y="28652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bstitutionCondition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039200" y="29685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vel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39200" y="30798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certainty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7" name=""/>
          <p:cNvSpPr/>
          <p:nvPr/>
        </p:nvSpPr>
        <p:spPr>
          <a:xfrm>
            <a:off x="1738440" y="4075200"/>
            <a:ext cx="1265040" cy="7477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134080" y="4103640"/>
            <a:ext cx="474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738440" y="4227480"/>
            <a:ext cx="1265040" cy="595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751760" y="4241880"/>
            <a:ext cx="46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ue : AN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755720" y="4344840"/>
            <a:ext cx="1195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pret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754280" y="44481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754280" y="455292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754280" y="465624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rivationExpr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3527280" y="4314960"/>
            <a:ext cx="1120680" cy="409320"/>
            <a:chOff x="3527280" y="4314960"/>
            <a:chExt cx="1120680" cy="409320"/>
          </a:xfrm>
        </p:grpSpPr>
        <p:sp>
          <p:nvSpPr>
            <p:cNvPr id="1406" name=""/>
            <p:cNvSpPr/>
            <p:nvPr/>
          </p:nvSpPr>
          <p:spPr>
            <a:xfrm>
              <a:off x="3527280" y="4314960"/>
              <a:ext cx="1120680" cy="409320"/>
            </a:xfrm>
            <a:prstGeom prst="rect">
              <a:avLst/>
            </a:prstGeom>
            <a:solidFill>
              <a:srgbClr val="ff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005000" y="434340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527280" y="4460760"/>
              <a:ext cx="1120680" cy="263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552840" y="4475160"/>
              <a:ext cx="797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nergy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554640" y="4578480"/>
              <a:ext cx="1041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rbohydrate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>
            <a:off x="7371720" y="2736720"/>
            <a:ext cx="41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ro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4662360" y="3352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114800" y="39625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6248520" y="38858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876920" y="449568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487692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632448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784872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2286000" y="4800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600200" y="51055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160020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304812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1600200" y="2590560"/>
            <a:ext cx="24382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1600200" y="2209680"/>
            <a:ext cx="2438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600200" y="17524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 flipV="1">
            <a:off x="5334120" y="297144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H="1" flipV="1">
            <a:off x="5334120" y="2361960"/>
            <a:ext cx="18288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 flipV="1">
            <a:off x="5334120" y="1981080"/>
            <a:ext cx="182880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 flipV="1">
            <a:off x="5334120" y="1752480"/>
            <a:ext cx="182880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H="1" flipV="1">
            <a:off x="5334120" y="159984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2438280" y="3124080"/>
            <a:ext cx="1600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819520" y="609480"/>
            <a:ext cx="3047760" cy="4267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418760" y="183960"/>
            <a:ext cx="60483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Act-Supply-Diet Hierarch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4" name=""/>
          <p:cNvSpPr/>
          <p:nvPr/>
        </p:nvSpPr>
        <p:spPr>
          <a:xfrm>
            <a:off x="4052880" y="3581280"/>
            <a:ext cx="1204920" cy="4082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516200" y="360216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038480" y="3733920"/>
            <a:ext cx="1204920" cy="26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076640" y="3740040"/>
            <a:ext cx="50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078440" y="3844800"/>
            <a:ext cx="113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pectedUseTime : IVL&lt;TS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3962520" y="838080"/>
            <a:ext cx="1371240" cy="2511360"/>
            <a:chOff x="3962520" y="838080"/>
            <a:chExt cx="1371240" cy="2511360"/>
          </a:xfrm>
        </p:grpSpPr>
        <p:sp>
          <p:nvSpPr>
            <p:cNvPr id="1443" name=""/>
            <p:cNvSpPr/>
            <p:nvPr/>
          </p:nvSpPr>
          <p:spPr>
            <a:xfrm>
              <a:off x="4024800" y="838080"/>
              <a:ext cx="1308960" cy="2511360"/>
            </a:xfrm>
            <a:prstGeom prst="rect">
              <a:avLst/>
            </a:prstGeom>
            <a:solidFill>
              <a:srgbClr val="ffb0b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04040" y="858600"/>
              <a:ext cx="14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024800" y="982440"/>
              <a:ext cx="1308960" cy="2367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039200" y="9968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 : SET&lt;II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039200" y="11001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od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039200" y="12049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as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039200" y="13078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de : C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39200" y="14126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xt : E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039200" y="15159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tu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039200" y="16192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dential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039200" y="17240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ffective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039200" y="182700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tivity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039200" y="19303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039200" y="20350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vailabilityTime : 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039200" y="21384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textLock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039200" y="224136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ependent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039200" y="234612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039200" y="24494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gation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039200" y="25542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ior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039200" y="26575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eatNumber : IVL&lt;INT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039200" y="27604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on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039200" y="28652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bstitutionCondition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039200" y="29685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vel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039200" y="30798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certainty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3527280" y="4314960"/>
            <a:ext cx="1120680" cy="409320"/>
            <a:chOff x="3527280" y="4314960"/>
            <a:chExt cx="1120680" cy="409320"/>
          </a:xfrm>
        </p:grpSpPr>
        <p:sp>
          <p:nvSpPr>
            <p:cNvPr id="1470" name=""/>
            <p:cNvSpPr/>
            <p:nvPr/>
          </p:nvSpPr>
          <p:spPr>
            <a:xfrm>
              <a:off x="3527280" y="4314960"/>
              <a:ext cx="1120680" cy="409320"/>
            </a:xfrm>
            <a:prstGeom prst="rect">
              <a:avLst/>
            </a:prstGeom>
            <a:solidFill>
              <a:srgbClr val="ff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005000" y="434340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527280" y="4460760"/>
              <a:ext cx="1120680" cy="263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552840" y="4475160"/>
              <a:ext cx="797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nergy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554640" y="4578480"/>
              <a:ext cx="1041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rbohydrate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5" name=""/>
          <p:cNvSpPr/>
          <p:nvPr/>
        </p:nvSpPr>
        <p:spPr>
          <a:xfrm flipV="1">
            <a:off x="4662360" y="3352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4114800" y="39625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304560" y="183960"/>
            <a:ext cx="8458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Diet Act Combines Attributes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8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024440" y="838080"/>
            <a:ext cx="1309680" cy="2819520"/>
          </a:xfrm>
          <a:prstGeom prst="rect">
            <a:avLst/>
          </a:prstGeom>
          <a:solidFill>
            <a:srgbClr val="ffb0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65800" y="85896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et 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024440" y="982800"/>
            <a:ext cx="1309680" cy="2674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038480" y="9968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038480" y="11001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038480" y="12049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038480" y="130824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038480" y="1413000"/>
            <a:ext cx="1198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ext : E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038480" y="15177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038480" y="162072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038480" y="17254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038480" y="182880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038480" y="19321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038480" y="20368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vailabilityTime : 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038480" y="21398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extLock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038480" y="22431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dependen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038480" y="23479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038480" y="245124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egation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038480" y="255600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ior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038480" y="2658960"/>
            <a:ext cx="1198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038480" y="276372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as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038480" y="28684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itutionCond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038480" y="297180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038480" y="308304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certaint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962520" y="16146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962520" y="16146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064400" y="342900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nerg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066200" y="3532320"/>
            <a:ext cx="104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rbohydrate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076640" y="3206880"/>
            <a:ext cx="50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078440" y="3322800"/>
            <a:ext cx="113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pectedUseTime : IVL&lt;TS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614600" y="28684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om Supp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048120" y="3124080"/>
            <a:ext cx="99036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048120" y="3124080"/>
            <a:ext cx="9903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006960" y="304812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om Di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5105160" y="3276720"/>
            <a:ext cx="99036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5028840" y="3276720"/>
            <a:ext cx="10666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418760" y="183960"/>
            <a:ext cx="60483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Meaning of Hierarch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8" name=""/>
          <p:cNvSpPr/>
          <p:nvPr/>
        </p:nvSpPr>
        <p:spPr>
          <a:xfrm>
            <a:off x="228600" y="2133720"/>
            <a:ext cx="1376280" cy="1077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19040" y="2160720"/>
            <a:ext cx="97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anceAdministr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228600" y="2278080"/>
            <a:ext cx="1376280" cy="933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51640" y="2292480"/>
            <a:ext cx="607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out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252360" y="239544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54520" y="2500200"/>
            <a:ext cx="956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55240" y="2603520"/>
            <a:ext cx="91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at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54520" y="2714760"/>
            <a:ext cx="130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Check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54520" y="2817720"/>
            <a:ext cx="123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xDose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54160" y="292104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tenc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52360" y="302580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itu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34800" y="3429000"/>
            <a:ext cx="1265400" cy="52560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65360" y="345600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34800" y="3573360"/>
            <a:ext cx="1265400" cy="381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51000" y="35877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51000" y="369108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51000" y="379584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052880" y="3581280"/>
            <a:ext cx="1204920" cy="4082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516200" y="360216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038480" y="3733920"/>
            <a:ext cx="1204920" cy="26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076640" y="3740040"/>
            <a:ext cx="50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078440" y="3844800"/>
            <a:ext cx="113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pectedUseTime : IVL&lt;TS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211880" y="4932360"/>
            <a:ext cx="1551240" cy="63036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822080" y="495936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211880" y="5078520"/>
            <a:ext cx="1551240" cy="484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235280" y="50911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ame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235640" y="5195880"/>
            <a:ext cx="744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urr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242120" y="5299200"/>
            <a:ext cx="1459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238160" y="5402160"/>
            <a:ext cx="1396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lowedBalanceQuantity : IVL&lt;M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937120" y="3581280"/>
            <a:ext cx="61596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999040" y="3610080"/>
            <a:ext cx="48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937120" y="3733920"/>
            <a:ext cx="6159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962320" y="3747960"/>
            <a:ext cx="49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etAmt : M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027080" y="5424480"/>
            <a:ext cx="1197000" cy="5191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268280" y="5451480"/>
            <a:ext cx="701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ublicHealthCas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027080" y="5568840"/>
            <a:ext cx="1197000" cy="374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052640" y="558324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tectionMetho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052280" y="5688000"/>
            <a:ext cx="1121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ansmissionMod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052640" y="579132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easeImporte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157880" y="1220760"/>
            <a:ext cx="1681200" cy="1293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7652520" y="1241280"/>
            <a:ext cx="67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tientEncount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157880" y="1366920"/>
            <a:ext cx="1681200" cy="1147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180920" y="1379520"/>
            <a:ext cx="84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uity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181640" y="1484280"/>
            <a:ext cx="108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mission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183800" y="1587600"/>
            <a:ext cx="875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irthEncounter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181280" y="1692360"/>
            <a:ext cx="1220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chargeDispos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184880" y="1795320"/>
            <a:ext cx="103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engthOfSta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7183800" y="1898640"/>
            <a:ext cx="82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eAdmitTes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183440" y="2003400"/>
            <a:ext cx="963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ferral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182720" y="2106720"/>
            <a:ext cx="1588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Accommod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7181640" y="2209680"/>
            <a:ext cx="1378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Courtesies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181280" y="2314440"/>
            <a:ext cx="720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rg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467080" y="5410080"/>
            <a:ext cx="119052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732760" y="54388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gnosticImag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467080" y="5562720"/>
            <a:ext cx="119052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492280" y="5576760"/>
            <a:ext cx="111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jectOrienta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046400" y="4892760"/>
            <a:ext cx="1516320" cy="5173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394880" y="4919760"/>
            <a:ext cx="81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Transac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046400" y="5037120"/>
            <a:ext cx="1516320" cy="372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072680" y="5051520"/>
            <a:ext cx="1425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red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072320" y="5154480"/>
            <a:ext cx="1401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b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073760" y="5257800"/>
            <a:ext cx="1061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764320" y="4906800"/>
            <a:ext cx="1245960" cy="96048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091560" y="4933800"/>
            <a:ext cx="60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voiceEleme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764320" y="5051520"/>
            <a:ext cx="12459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787720" y="5065560"/>
            <a:ext cx="995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difier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790960" y="5168880"/>
            <a:ext cx="1113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Quantity : RTO&lt;PQ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790960" y="5273640"/>
            <a:ext cx="1157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PriceAmt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789160" y="537696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actor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788080" y="547992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ints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788800" y="5584680"/>
            <a:ext cx="104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verage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788440" y="5694480"/>
            <a:ext cx="80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ifySubjec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162920" y="388620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345440" y="3906720"/>
            <a:ext cx="68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Contr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162920" y="4032360"/>
            <a:ext cx="10587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189920" y="4044960"/>
            <a:ext cx="99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ymentTerms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162920" y="3352680"/>
            <a:ext cx="123804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558560" y="338148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viceTas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3498840"/>
            <a:ext cx="1238040" cy="158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88480" y="3513240"/>
            <a:ext cx="1171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rameterValue : LIST&lt;ANY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41440" y="160668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833040" y="162720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ingLi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41440" y="1752480"/>
            <a:ext cx="1058760" cy="152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64480" y="1765440"/>
            <a:ext cx="1018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wnership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170840" y="2716200"/>
            <a:ext cx="830160" cy="407880"/>
          </a:xfrm>
          <a:prstGeom prst="rect">
            <a:avLst/>
          </a:prstGeom>
          <a:solidFill>
            <a:srgbClr val="ffcc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170840" y="2862360"/>
            <a:ext cx="830160" cy="2617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7198200" y="2874960"/>
            <a:ext cx="73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ructureTypeId : II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194240" y="2979720"/>
            <a:ext cx="76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sponse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3962520" y="838080"/>
            <a:ext cx="1371240" cy="2511360"/>
            <a:chOff x="3962520" y="838080"/>
            <a:chExt cx="1371240" cy="2511360"/>
          </a:xfrm>
        </p:grpSpPr>
        <p:sp>
          <p:nvSpPr>
            <p:cNvPr id="1610" name=""/>
            <p:cNvSpPr/>
            <p:nvPr/>
          </p:nvSpPr>
          <p:spPr>
            <a:xfrm>
              <a:off x="4024800" y="838080"/>
              <a:ext cx="1308960" cy="2511360"/>
            </a:xfrm>
            <a:prstGeom prst="rect">
              <a:avLst/>
            </a:prstGeom>
            <a:solidFill>
              <a:srgbClr val="ffb0b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04040" y="858600"/>
              <a:ext cx="14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024800" y="982440"/>
              <a:ext cx="1308960" cy="2367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039200" y="9968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 : SET&lt;II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039200" y="11001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od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039200" y="12049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as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039200" y="13078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de : C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039200" y="14126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xt : E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039200" y="15159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tu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039200" y="16192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dential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039200" y="17240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ffective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039200" y="182700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tivity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039200" y="19303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039200" y="20350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vailabilityTime : 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039200" y="21384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textLock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039200" y="224136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ependent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039200" y="234612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039200" y="24494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gation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039200" y="25542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ior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039200" y="26575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eatNumber : IVL&lt;INT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039200" y="27604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on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039200" y="28652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bstitutionCondition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039200" y="29685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vel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039200" y="30798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certainty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1738440" y="4075200"/>
            <a:ext cx="1265040" cy="7477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134080" y="4103640"/>
            <a:ext cx="474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738440" y="4227480"/>
            <a:ext cx="1265040" cy="595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751760" y="4241880"/>
            <a:ext cx="46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ue : AN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755720" y="4344840"/>
            <a:ext cx="1195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pret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754280" y="44481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754280" y="455292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754280" y="465624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rivationExpr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4" name=""/>
          <p:cNvGrpSpPr/>
          <p:nvPr/>
        </p:nvGrpSpPr>
        <p:grpSpPr>
          <a:xfrm>
            <a:off x="3527280" y="4314960"/>
            <a:ext cx="1120680" cy="409320"/>
            <a:chOff x="3527280" y="4314960"/>
            <a:chExt cx="1120680" cy="409320"/>
          </a:xfrm>
        </p:grpSpPr>
        <p:sp>
          <p:nvSpPr>
            <p:cNvPr id="1645" name=""/>
            <p:cNvSpPr/>
            <p:nvPr/>
          </p:nvSpPr>
          <p:spPr>
            <a:xfrm>
              <a:off x="3527280" y="4314960"/>
              <a:ext cx="1120680" cy="409320"/>
            </a:xfrm>
            <a:prstGeom prst="rect">
              <a:avLst/>
            </a:prstGeom>
            <a:solidFill>
              <a:srgbClr val="ff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005000" y="434340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527280" y="4460760"/>
              <a:ext cx="1120680" cy="263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552840" y="4475160"/>
              <a:ext cx="797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nergy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554640" y="4578480"/>
              <a:ext cx="1041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rbohydrate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7371720" y="2736720"/>
            <a:ext cx="41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ro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V="1">
            <a:off x="4662360" y="3352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4114800" y="39625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V="1">
            <a:off x="6248520" y="38858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876920" y="449568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487692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V="1">
            <a:off x="632448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 flipV="1">
            <a:off x="784872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V="1">
            <a:off x="2286000" y="4800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600200" y="51055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160020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304812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1600200" y="2590560"/>
            <a:ext cx="24382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1600200" y="2209680"/>
            <a:ext cx="2438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1600200" y="17524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 flipV="1">
            <a:off x="5334120" y="297144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H="1" flipV="1">
            <a:off x="5334120" y="2361960"/>
            <a:ext cx="18288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H="1" flipV="1">
            <a:off x="5334120" y="1981080"/>
            <a:ext cx="182880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H="1" flipV="1">
            <a:off x="5334120" y="1752480"/>
            <a:ext cx="182880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 flipV="1">
            <a:off x="5334120" y="159984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2438280" y="3124080"/>
            <a:ext cx="1600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rot="2299200">
            <a:off x="2331720" y="167760"/>
            <a:ext cx="2438280" cy="5334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Observation Act = Act Attributes + Observation Attribute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3" name=""/>
          <p:cNvSpPr/>
          <p:nvPr/>
        </p:nvSpPr>
        <p:spPr>
          <a:xfrm>
            <a:off x="4367160" y="1295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367160" y="1295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024440" y="1447920"/>
            <a:ext cx="1309680" cy="3047760"/>
          </a:xfrm>
          <a:prstGeom prst="rect">
            <a:avLst/>
          </a:prstGeom>
          <a:solidFill>
            <a:srgbClr val="ffb0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345920" y="1468440"/>
            <a:ext cx="67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Observation 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024440" y="1592280"/>
            <a:ext cx="1309680" cy="290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038480" y="16066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038480" y="17096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038480" y="181440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038480" y="19177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038480" y="2022480"/>
            <a:ext cx="1198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ext : E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038480" y="212724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038480" y="22305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038480" y="23353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4038480" y="24382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038480" y="254160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038480" y="26463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vailabilityTime : 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038480" y="27496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extLock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038480" y="28526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dependen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038480" y="295740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038480" y="30607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egation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038480" y="31654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ior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038480" y="3268800"/>
            <a:ext cx="1198800" cy="1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038480" y="33735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as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038480" y="34783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itutionCond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038480" y="35812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038480" y="36925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certaint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962520" y="22240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962520" y="22240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587960" y="388620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om Obser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053600" y="3809880"/>
            <a:ext cx="46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ue : AN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057560" y="3913200"/>
            <a:ext cx="1195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pret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056120" y="401652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056480" y="412128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056120" y="422424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rivationExpr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657600" y="3809880"/>
            <a:ext cx="304920" cy="533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Observation.code / Observation.value</a:t>
            </a:r>
            <a:br>
              <a:rPr sz="36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What is the Question? / What is the Answer?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0" name=""/>
          <p:cNvSpPr/>
          <p:nvPr/>
        </p:nvSpPr>
        <p:spPr>
          <a:xfrm>
            <a:off x="4367160" y="1295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367160" y="1295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024440" y="1447920"/>
            <a:ext cx="1309680" cy="3047760"/>
          </a:xfrm>
          <a:prstGeom prst="rect">
            <a:avLst/>
          </a:prstGeom>
          <a:solidFill>
            <a:srgbClr val="ffb0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345920" y="1468440"/>
            <a:ext cx="67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Observation 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024440" y="1592280"/>
            <a:ext cx="1309680" cy="290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038480" y="16066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id : SET&lt;II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038480" y="17096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mood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038480" y="181440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clas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038480" y="19177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038480" y="2022480"/>
            <a:ext cx="1198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text : E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038480" y="212724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statu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038480" y="22305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confidential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038480" y="23353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effective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038480" y="24382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activity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038480" y="254160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038480" y="26463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availabilityTime : 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038480" y="27496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contextLock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038480" y="28526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independen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038480" y="295740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038480" y="30607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negation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038480" y="31654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prior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038480" y="3268800"/>
            <a:ext cx="1198800" cy="1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repeatNumber : IVL&lt;INT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038480" y="33735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reas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038480" y="34783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substitutionCond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038480" y="35812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038480" y="36925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uncertaint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962520" y="22240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962520" y="22240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587960" y="388620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om Obser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054680" y="380988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value : AN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057560" y="3913200"/>
            <a:ext cx="1195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interpret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056120" y="401652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056480" y="412128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056120" y="422424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derivationExpr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657600" y="3809880"/>
            <a:ext cx="304920" cy="533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486400" y="1828800"/>
            <a:ext cx="1235160" cy="265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ite Blood Count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TP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yz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918480" y="1828800"/>
            <a:ext cx="1234800" cy="265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ablish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agnosis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NOMED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657009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lig Tumor of Breast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NOMED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54837009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705720" y="2362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705720" y="3886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ample Gloss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51" name=""/>
          <p:cNvGraphicFramePr/>
          <p:nvPr/>
        </p:nvGraphicFramePr>
        <p:xfrm>
          <a:off x="457200" y="746280"/>
          <a:ext cx="8305920" cy="60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46280"/>
                    <a:ext cx="8305920" cy="60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an Information Model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scribes Relationships Between Concepts (in UM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concep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ribute concep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sociation concep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ta-type concep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vides Data-type Links to Vocabulary Concep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NOM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IN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CN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t a Data Model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t concerned with application performance in a relational databa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t concerned with ease of application programm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 concerned with communicating knowledge of doma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63280" y="-76320"/>
            <a:ext cx="68454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he Concept Challeng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1662120" y="50626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08800" y="422100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3429000"/>
            <a:ext cx="2009880" cy="712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552120" y="289476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Concep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01720" y="1599120"/>
            <a:ext cx="26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marine ani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eats smaller th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nice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10000" y="4475160"/>
            <a:ext cx="3792240" cy="0"/>
          </a:xfrm>
          <a:prstGeom prst="line">
            <a:avLst/>
          </a:prstGeom>
          <a:ln w="38160">
            <a:solidFill>
              <a:srgbClr val="0099cc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187720" y="2722320"/>
            <a:ext cx="1641240" cy="1546200"/>
          </a:xfrm>
          <a:prstGeom prst="line">
            <a:avLst/>
          </a:prstGeom>
          <a:ln w="38160">
            <a:solidFill>
              <a:srgbClr val="0099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03680" y="2722680"/>
            <a:ext cx="2869920" cy="144288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51280" y="2722680"/>
            <a:ext cx="1435320" cy="1442880"/>
          </a:xfrm>
          <a:prstGeom prst="line">
            <a:avLst/>
          </a:prstGeom>
          <a:ln w="38160">
            <a:solidFill>
              <a:srgbClr val="0099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7280" y="4174560"/>
            <a:ext cx="175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mbo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Man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39520" y="3427920"/>
            <a:ext cx="27547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n’t put the “thing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n this sl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ince the in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xists onl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 physical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1760" y="2145600"/>
            <a:ext cx="201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ep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601992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Adapted from  Charlie Mead &amp; the Semantic Triang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3600" y="5029200"/>
            <a:ext cx="52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“</a:t>
            </a:r>
            <a:r>
              <a:rPr b="1" i="1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Frank the Shark” (in Englis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The image “http://www.communitymusicschool.org/teen_camp_2003/thursday/images/Card%20Game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533520" y="5638680"/>
            <a:ext cx="182880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4343400" y="1066680"/>
            <a:ext cx="1828800" cy="1459080"/>
            <a:chOff x="4343400" y="1066680"/>
            <a:chExt cx="1828800" cy="1459080"/>
          </a:xfrm>
        </p:grpSpPr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4343400" y="1066680"/>
              <a:ext cx="1828800" cy="14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4648320" y="1219320"/>
              <a:ext cx="91440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an Information Model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cribes Relationships Between Concepts (in UM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ass concep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tribute concep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ociation concep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Data-typ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oncep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s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Data-typ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Links to Vocabulary Concep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NOM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IN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CN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7" name=""/>
          <p:cNvSpPr/>
          <p:nvPr/>
        </p:nvSpPr>
        <p:spPr>
          <a:xfrm>
            <a:off x="472284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472284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73580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0" name=""/>
          <p:cNvGrpSpPr/>
          <p:nvPr/>
        </p:nvGrpSpPr>
        <p:grpSpPr>
          <a:xfrm>
            <a:off x="4734360" y="2698920"/>
            <a:ext cx="596520" cy="562680"/>
            <a:chOff x="4734360" y="2698920"/>
            <a:chExt cx="596520" cy="562680"/>
          </a:xfrm>
        </p:grpSpPr>
        <p:sp>
          <p:nvSpPr>
            <p:cNvPr id="1761" name=""/>
            <p:cNvSpPr/>
            <p:nvPr/>
          </p:nvSpPr>
          <p:spPr>
            <a:xfrm>
              <a:off x="4735800" y="2698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734360" y="284004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735440" y="298116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735440" y="312408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5" name=""/>
          <p:cNvSpPr/>
          <p:nvPr/>
        </p:nvSpPr>
        <p:spPr>
          <a:xfrm>
            <a:off x="472284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72284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94100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5486400" y="2771640"/>
            <a:ext cx="1981080" cy="809640"/>
            <a:chOff x="5486400" y="2771640"/>
            <a:chExt cx="1981080" cy="809640"/>
          </a:xfrm>
        </p:grpSpPr>
        <p:sp>
          <p:nvSpPr>
            <p:cNvPr id="1769" name=""/>
            <p:cNvSpPr/>
            <p:nvPr/>
          </p:nvSpPr>
          <p:spPr>
            <a:xfrm>
              <a:off x="6526080" y="2984400"/>
              <a:ext cx="941400" cy="596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0" name=""/>
            <p:cNvGrpSpPr/>
            <p:nvPr/>
          </p:nvGrpSpPr>
          <p:grpSpPr>
            <a:xfrm>
              <a:off x="6535800" y="3000240"/>
              <a:ext cx="596520" cy="563040"/>
              <a:chOff x="6535800" y="3000240"/>
              <a:chExt cx="596520" cy="563040"/>
            </a:xfrm>
          </p:grpSpPr>
          <p:sp>
            <p:nvSpPr>
              <p:cNvPr id="1771" name=""/>
              <p:cNvSpPr/>
              <p:nvPr/>
            </p:nvSpPr>
            <p:spPr>
              <a:xfrm>
                <a:off x="6537240" y="3000240"/>
                <a:ext cx="28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code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535800" y="3141720"/>
                <a:ext cx="596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ocabulary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6537240" y="328428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6537240" y="342576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s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5" name=""/>
            <p:cNvSpPr/>
            <p:nvPr/>
          </p:nvSpPr>
          <p:spPr>
            <a:xfrm>
              <a:off x="6526080" y="2771640"/>
              <a:ext cx="9414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526080" y="2771640"/>
              <a:ext cx="941400" cy="212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536880" y="2803680"/>
              <a:ext cx="803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direct Objec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486400" y="312408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9" name=""/>
          <p:cNvSpPr/>
          <p:nvPr/>
        </p:nvSpPr>
        <p:spPr>
          <a:xfrm>
            <a:off x="5713200" y="3276720"/>
            <a:ext cx="613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onBehalfOf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rot="285600">
            <a:off x="3124080" y="2298240"/>
            <a:ext cx="1524240" cy="228600"/>
          </a:xfrm>
          <a:prstGeom prst="rightArrow">
            <a:avLst>
              <a:gd name="adj1" fmla="val 65278"/>
              <a:gd name="adj2" fmla="val 163050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rot="285600">
            <a:off x="3580920" y="2743200"/>
            <a:ext cx="1219320" cy="228600"/>
          </a:xfrm>
          <a:prstGeom prst="rightArrow">
            <a:avLst>
              <a:gd name="adj1" fmla="val 65278"/>
              <a:gd name="adj2" fmla="val 130432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rot="285600">
            <a:off x="3808080" y="3134880"/>
            <a:ext cx="1828800" cy="228600"/>
          </a:xfrm>
          <a:prstGeom prst="rightArrow">
            <a:avLst>
              <a:gd name="adj1" fmla="val 65278"/>
              <a:gd name="adj2" fmla="val 195630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 an Information Model</a:t>
            </a:r>
            <a:br>
              <a:rPr sz="40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-an iterative proces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Basic Concep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 Basic Concepts in Gloss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Relationships Between Concep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ltiplic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oci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stract Basic Concepts into Hierarchi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dentify attributes that can be sha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fine Abstract Concepts in Gloss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fy Basic Concep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jects (acto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r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hysici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 care a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36576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k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view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d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i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v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cume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ok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erbaliz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8" name=""/>
          <p:cNvSpPr/>
          <p:nvPr/>
        </p:nvSpPr>
        <p:spPr>
          <a:xfrm>
            <a:off x="6248520" y="1569960"/>
            <a:ext cx="2819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rate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reast can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us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m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r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fy Abstract Concep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jects (acto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r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hysici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 care a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3657600" y="210348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k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view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d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i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v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cume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ok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erbaliz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2" name=""/>
          <p:cNvSpPr/>
          <p:nvPr/>
        </p:nvSpPr>
        <p:spPr>
          <a:xfrm>
            <a:off x="6248520" y="2073240"/>
            <a:ext cx="2819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rate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reast can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us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m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r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461400" y="14968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erbs = “Action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915480" y="146196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ubjects = “Person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438280" y="1523880"/>
            <a:ext cx="304920" cy="304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947520" y="176688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ubjects = “Do’er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239520" y="152388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bjects = “?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fine Abstract Concepts in Glossar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’er is someone who performs an 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on is a word that describes what a do’er is doing to the obj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ject is a direct object or an indirect object of a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direct object of a sentence is the thing being done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 indirect object of a sentence is the 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ta-Type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“kinds of” values can an attribute hav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ing (date-timestamps; frequency text;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de (alphanumeric text strings from code field of published vocabular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cabulary (string with official identifier for published vocabular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text (string with English text corresponding to code in published vocabular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xt (string with exact text from storyboar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2" name=""/>
          <p:cNvSpPr/>
          <p:nvPr/>
        </p:nvSpPr>
        <p:spPr>
          <a:xfrm>
            <a:off x="1600200" y="133200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1600200" y="593640"/>
            <a:ext cx="80028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613520" y="60804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1611720" y="750960"/>
            <a:ext cx="596520" cy="562680"/>
            <a:chOff x="1611720" y="750960"/>
            <a:chExt cx="596520" cy="562680"/>
          </a:xfrm>
        </p:grpSpPr>
        <p:sp>
          <p:nvSpPr>
            <p:cNvPr id="1806" name=""/>
            <p:cNvSpPr/>
            <p:nvPr/>
          </p:nvSpPr>
          <p:spPr>
            <a:xfrm>
              <a:off x="1613160" y="7509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611720" y="89208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612800" y="103320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612800" y="117612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0" name=""/>
          <p:cNvSpPr/>
          <p:nvPr/>
        </p:nvSpPr>
        <p:spPr>
          <a:xfrm>
            <a:off x="1600200" y="3808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600200" y="3808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818360" y="41436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dentify Relationships Between Concep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4" name=""/>
          <p:cNvSpPr/>
          <p:nvPr/>
        </p:nvSpPr>
        <p:spPr>
          <a:xfrm>
            <a:off x="182736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82736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84032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7" name=""/>
          <p:cNvGrpSpPr/>
          <p:nvPr/>
        </p:nvGrpSpPr>
        <p:grpSpPr>
          <a:xfrm>
            <a:off x="1838520" y="2698920"/>
            <a:ext cx="596520" cy="562680"/>
            <a:chOff x="1838520" y="2698920"/>
            <a:chExt cx="596520" cy="562680"/>
          </a:xfrm>
        </p:grpSpPr>
        <p:sp>
          <p:nvSpPr>
            <p:cNvPr id="1818" name=""/>
            <p:cNvSpPr/>
            <p:nvPr/>
          </p:nvSpPr>
          <p:spPr>
            <a:xfrm>
              <a:off x="1839960" y="2698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838520" y="284004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839960" y="298116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839960" y="312408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2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204552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5815080" y="1836720"/>
            <a:ext cx="941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5824800" y="1852560"/>
            <a:ext cx="596520" cy="563040"/>
            <a:chOff x="5824800" y="1852560"/>
            <a:chExt cx="596520" cy="563040"/>
          </a:xfrm>
        </p:grpSpPr>
        <p:sp>
          <p:nvSpPr>
            <p:cNvPr id="1827" name=""/>
            <p:cNvSpPr/>
            <p:nvPr/>
          </p:nvSpPr>
          <p:spPr>
            <a:xfrm>
              <a:off x="5826240" y="18525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824800" y="199404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826240" y="213660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826240" y="227808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1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825880" y="1655640"/>
            <a:ext cx="886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ject of 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2427120" y="2122560"/>
            <a:ext cx="3387960" cy="206280"/>
          </a:xfrm>
          <a:custGeom>
            <a:avLst/>
            <a:gdLst/>
            <a:ahLst/>
            <a:rect l="l" t="t" r="r" b="b"/>
            <a:pathLst>
              <a:path w="2134" h="130">
                <a:moveTo>
                  <a:pt x="0" y="130"/>
                </a:moveTo>
                <a:lnTo>
                  <a:pt x="0" y="0"/>
                </a:lnTo>
                <a:lnTo>
                  <a:pt x="2134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52320" y="2714760"/>
            <a:ext cx="8035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52320" y="1976400"/>
            <a:ext cx="80352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66000" y="199080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65640" y="213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9" name=""/>
          <p:cNvGrpSpPr/>
          <p:nvPr/>
        </p:nvGrpSpPr>
        <p:grpSpPr>
          <a:xfrm>
            <a:off x="663840" y="2274840"/>
            <a:ext cx="596520" cy="420120"/>
            <a:chOff x="663840" y="2274840"/>
            <a:chExt cx="596520" cy="420120"/>
          </a:xfrm>
        </p:grpSpPr>
        <p:sp>
          <p:nvSpPr>
            <p:cNvPr id="1840" name=""/>
            <p:cNvSpPr/>
            <p:nvPr/>
          </p:nvSpPr>
          <p:spPr>
            <a:xfrm>
              <a:off x="665280" y="22748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63840" y="241632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65280" y="255744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3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66000" y="17971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’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455840" y="2612880"/>
            <a:ext cx="371520" cy="3240"/>
          </a:xfrm>
          <a:custGeom>
            <a:avLst/>
            <a:gdLst/>
            <a:ahLst/>
            <a:rect l="l" t="t" r="r" b="b"/>
            <a:pathLst>
              <a:path w="234" h="2">
                <a:moveTo>
                  <a:pt x="0" y="2"/>
                </a:moveTo>
                <a:lnTo>
                  <a:pt x="126" y="2"/>
                </a:lnTo>
                <a:lnTo>
                  <a:pt x="126" y="0"/>
                </a:lnTo>
                <a:lnTo>
                  <a:pt x="234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3027600" y="1944720"/>
            <a:ext cx="4032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ts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8" name=""/>
          <p:cNvGrpSpPr/>
          <p:nvPr/>
        </p:nvGrpSpPr>
        <p:grpSpPr>
          <a:xfrm>
            <a:off x="228600" y="3597120"/>
            <a:ext cx="8610480" cy="3108600"/>
            <a:chOff x="228600" y="3597120"/>
            <a:chExt cx="8610480" cy="3108600"/>
          </a:xfrm>
        </p:grpSpPr>
        <p:sp>
          <p:nvSpPr>
            <p:cNvPr id="1849" name=""/>
            <p:cNvSpPr/>
            <p:nvPr/>
          </p:nvSpPr>
          <p:spPr>
            <a:xfrm>
              <a:off x="228600" y="3627360"/>
              <a:ext cx="320040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o’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Nur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hysici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 care ai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429000" y="3627360"/>
              <a:ext cx="281952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sk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Review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ecid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rin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Mo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ocumen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Spok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erbaliz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ss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019920" y="3597120"/>
              <a:ext cx="281916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Objects (direct &amp; indirect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Strateg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Breast canc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Nause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omi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Interven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ide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4952880" y="2438280"/>
            <a:ext cx="2667240" cy="1143000"/>
            <a:chOff x="4952880" y="2438280"/>
            <a:chExt cx="2667240" cy="1143000"/>
          </a:xfrm>
        </p:grpSpPr>
        <p:sp>
          <p:nvSpPr>
            <p:cNvPr id="1853" name=""/>
            <p:cNvSpPr/>
            <p:nvPr/>
          </p:nvSpPr>
          <p:spPr>
            <a:xfrm>
              <a:off x="4952880" y="2984400"/>
              <a:ext cx="941400" cy="596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54" name=""/>
            <p:cNvGrpSpPr/>
            <p:nvPr/>
          </p:nvGrpSpPr>
          <p:grpSpPr>
            <a:xfrm>
              <a:off x="4962960" y="3000240"/>
              <a:ext cx="596520" cy="563040"/>
              <a:chOff x="4962960" y="3000240"/>
              <a:chExt cx="596520" cy="563040"/>
            </a:xfrm>
          </p:grpSpPr>
          <p:sp>
            <p:nvSpPr>
              <p:cNvPr id="1855" name=""/>
              <p:cNvSpPr/>
              <p:nvPr/>
            </p:nvSpPr>
            <p:spPr>
              <a:xfrm>
                <a:off x="4964400" y="3000240"/>
                <a:ext cx="28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code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962960" y="3141720"/>
                <a:ext cx="596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ocabulary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964040" y="328428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964040" y="342576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s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9" name=""/>
            <p:cNvSpPr/>
            <p:nvPr/>
          </p:nvSpPr>
          <p:spPr>
            <a:xfrm>
              <a:off x="4952880" y="2771640"/>
              <a:ext cx="9414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952880" y="2771640"/>
              <a:ext cx="941400" cy="212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964040" y="2803680"/>
              <a:ext cx="803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direct Objec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678720" y="2984400"/>
              <a:ext cx="941400" cy="596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63" name=""/>
            <p:cNvGrpSpPr/>
            <p:nvPr/>
          </p:nvGrpSpPr>
          <p:grpSpPr>
            <a:xfrm>
              <a:off x="6688440" y="3000240"/>
              <a:ext cx="596520" cy="563040"/>
              <a:chOff x="6688440" y="3000240"/>
              <a:chExt cx="596520" cy="563040"/>
            </a:xfrm>
          </p:grpSpPr>
          <p:sp>
            <p:nvSpPr>
              <p:cNvPr id="1864" name=""/>
              <p:cNvSpPr/>
              <p:nvPr/>
            </p:nvSpPr>
            <p:spPr>
              <a:xfrm>
                <a:off x="6689880" y="3000240"/>
                <a:ext cx="28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code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688440" y="3141720"/>
                <a:ext cx="596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ocabulary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6689520" y="328428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689520" y="342576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s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68" name=""/>
            <p:cNvSpPr/>
            <p:nvPr/>
          </p:nvSpPr>
          <p:spPr>
            <a:xfrm>
              <a:off x="6678720" y="2771640"/>
              <a:ext cx="9414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678720" y="2771640"/>
              <a:ext cx="941400" cy="212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690240" y="2803680"/>
              <a:ext cx="713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irect Objec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410080" y="2590920"/>
              <a:ext cx="1676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410080" y="25909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086600" y="25909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6248520" y="2438280"/>
              <a:ext cx="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5" name=""/>
          <p:cNvSpPr/>
          <p:nvPr/>
        </p:nvSpPr>
        <p:spPr>
          <a:xfrm>
            <a:off x="5638680" y="2514600"/>
            <a:ext cx="1219320" cy="1143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dentify Relationships Between Concep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7" name=""/>
          <p:cNvSpPr/>
          <p:nvPr/>
        </p:nvSpPr>
        <p:spPr>
          <a:xfrm>
            <a:off x="182736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82736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84032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0" name=""/>
          <p:cNvGrpSpPr/>
          <p:nvPr/>
        </p:nvGrpSpPr>
        <p:grpSpPr>
          <a:xfrm>
            <a:off x="1838520" y="2698920"/>
            <a:ext cx="596520" cy="562680"/>
            <a:chOff x="1838520" y="2698920"/>
            <a:chExt cx="596520" cy="562680"/>
          </a:xfrm>
        </p:grpSpPr>
        <p:sp>
          <p:nvSpPr>
            <p:cNvPr id="1881" name=""/>
            <p:cNvSpPr/>
            <p:nvPr/>
          </p:nvSpPr>
          <p:spPr>
            <a:xfrm>
              <a:off x="1839960" y="2698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838520" y="284004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839960" y="298116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39960" y="312408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04552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5815080" y="1836720"/>
            <a:ext cx="941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9" name=""/>
          <p:cNvGrpSpPr/>
          <p:nvPr/>
        </p:nvGrpSpPr>
        <p:grpSpPr>
          <a:xfrm>
            <a:off x="5824800" y="1852560"/>
            <a:ext cx="596520" cy="563040"/>
            <a:chOff x="5824800" y="1852560"/>
            <a:chExt cx="596520" cy="563040"/>
          </a:xfrm>
        </p:grpSpPr>
        <p:sp>
          <p:nvSpPr>
            <p:cNvPr id="1890" name=""/>
            <p:cNvSpPr/>
            <p:nvPr/>
          </p:nvSpPr>
          <p:spPr>
            <a:xfrm>
              <a:off x="5826240" y="18525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824800" y="199404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826240" y="213660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826240" y="227808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825880" y="1655640"/>
            <a:ext cx="886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ject of 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2427120" y="2122560"/>
            <a:ext cx="3387960" cy="206280"/>
          </a:xfrm>
          <a:custGeom>
            <a:avLst/>
            <a:gdLst/>
            <a:ahLst/>
            <a:rect l="l" t="t" r="r" b="b"/>
            <a:pathLst>
              <a:path w="2134" h="130">
                <a:moveTo>
                  <a:pt x="0" y="130"/>
                </a:moveTo>
                <a:lnTo>
                  <a:pt x="0" y="0"/>
                </a:lnTo>
                <a:lnTo>
                  <a:pt x="2134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52320" y="2714760"/>
            <a:ext cx="8035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652320" y="1976400"/>
            <a:ext cx="80352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666000" y="199080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665640" y="213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663840" y="2274840"/>
            <a:ext cx="596520" cy="420120"/>
            <a:chOff x="663840" y="2274840"/>
            <a:chExt cx="596520" cy="420120"/>
          </a:xfrm>
        </p:grpSpPr>
        <p:sp>
          <p:nvSpPr>
            <p:cNvPr id="1903" name=""/>
            <p:cNvSpPr/>
            <p:nvPr/>
          </p:nvSpPr>
          <p:spPr>
            <a:xfrm>
              <a:off x="665280" y="22748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63840" y="241632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65280" y="255744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6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666000" y="17971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’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455840" y="2612880"/>
            <a:ext cx="371520" cy="3240"/>
          </a:xfrm>
          <a:custGeom>
            <a:avLst/>
            <a:gdLst/>
            <a:ahLst/>
            <a:rect l="l" t="t" r="r" b="b"/>
            <a:pathLst>
              <a:path w="234" h="2">
                <a:moveTo>
                  <a:pt x="0" y="2"/>
                </a:moveTo>
                <a:lnTo>
                  <a:pt x="126" y="2"/>
                </a:lnTo>
                <a:lnTo>
                  <a:pt x="126" y="0"/>
                </a:lnTo>
                <a:lnTo>
                  <a:pt x="234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027600" y="1944720"/>
            <a:ext cx="4032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ts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1" name=""/>
          <p:cNvGrpSpPr/>
          <p:nvPr/>
        </p:nvGrpSpPr>
        <p:grpSpPr>
          <a:xfrm>
            <a:off x="228600" y="3597120"/>
            <a:ext cx="8610480" cy="3108600"/>
            <a:chOff x="228600" y="3597120"/>
            <a:chExt cx="8610480" cy="3108600"/>
          </a:xfrm>
        </p:grpSpPr>
        <p:sp>
          <p:nvSpPr>
            <p:cNvPr id="1912" name=""/>
            <p:cNvSpPr/>
            <p:nvPr/>
          </p:nvSpPr>
          <p:spPr>
            <a:xfrm>
              <a:off x="228600" y="3627360"/>
              <a:ext cx="320040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o’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Nur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hysici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 care ai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429000" y="3627360"/>
              <a:ext cx="281952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sk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Review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ecid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rin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Mo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ocumen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Spok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erbaliz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ss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019920" y="3597120"/>
              <a:ext cx="281916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Objects (direct &amp; indirect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Strateg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Breast canc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Nause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omi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Interven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ide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2590920" y="2771640"/>
            <a:ext cx="1981080" cy="809640"/>
            <a:chOff x="2590920" y="2771640"/>
            <a:chExt cx="1981080" cy="809640"/>
          </a:xfrm>
        </p:grpSpPr>
        <p:sp>
          <p:nvSpPr>
            <p:cNvPr id="1916" name=""/>
            <p:cNvSpPr/>
            <p:nvPr/>
          </p:nvSpPr>
          <p:spPr>
            <a:xfrm>
              <a:off x="3630600" y="2984400"/>
              <a:ext cx="941400" cy="596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7" name=""/>
            <p:cNvGrpSpPr/>
            <p:nvPr/>
          </p:nvGrpSpPr>
          <p:grpSpPr>
            <a:xfrm>
              <a:off x="3640320" y="3000240"/>
              <a:ext cx="596520" cy="563040"/>
              <a:chOff x="3640320" y="3000240"/>
              <a:chExt cx="596520" cy="563040"/>
            </a:xfrm>
          </p:grpSpPr>
          <p:sp>
            <p:nvSpPr>
              <p:cNvPr id="1918" name=""/>
              <p:cNvSpPr/>
              <p:nvPr/>
            </p:nvSpPr>
            <p:spPr>
              <a:xfrm>
                <a:off x="3641760" y="3000240"/>
                <a:ext cx="28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code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3640320" y="3141720"/>
                <a:ext cx="596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ocabulary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3641760" y="328428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641760" y="342576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s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2" name=""/>
            <p:cNvSpPr/>
            <p:nvPr/>
          </p:nvSpPr>
          <p:spPr>
            <a:xfrm>
              <a:off x="3630600" y="2771640"/>
              <a:ext cx="9414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630600" y="2771640"/>
              <a:ext cx="941400" cy="212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641400" y="2803680"/>
              <a:ext cx="803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direct Objec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590920" y="312408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2817720" y="3276720"/>
            <a:ext cx="613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onBehalfOf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oryboard Information Model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stance Diagram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st the combination of Information Model and vocabularies against the storyboa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the Storyboard Glossary to provide the vocabulary for the instance dia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ursing Domain Information Mod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0" name=""/>
          <p:cNvSpPr/>
          <p:nvPr/>
        </p:nvSpPr>
        <p:spPr>
          <a:xfrm>
            <a:off x="182736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182736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84032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839960" y="26989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838520" y="2840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839960" y="2981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839960" y="3124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04552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484200" y="4611600"/>
            <a:ext cx="798480" cy="1875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84200" y="4014720"/>
            <a:ext cx="7984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97160" y="40291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95720" y="41702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97160" y="4313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97160" y="44546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74000" y="3833640"/>
            <a:ext cx="21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064880" y="32418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884160" y="3181320"/>
            <a:ext cx="943200" cy="620640"/>
          </a:xfrm>
          <a:custGeom>
            <a:avLst/>
            <a:gdLst/>
            <a:ahLst/>
            <a:rect l="l" t="t" r="r" b="b"/>
            <a:pathLst>
              <a:path w="594" h="391">
                <a:moveTo>
                  <a:pt x="594" y="0"/>
                </a:moveTo>
                <a:lnTo>
                  <a:pt x="0" y="0"/>
                </a:lnTo>
                <a:lnTo>
                  <a:pt x="0" y="39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42704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142704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44000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143856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144000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144000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659960" y="382896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1979280" y="3616200"/>
            <a:ext cx="531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827360" y="3465360"/>
            <a:ext cx="199800" cy="331920"/>
          </a:xfrm>
          <a:custGeom>
            <a:avLst/>
            <a:gdLst/>
            <a:ahLst/>
            <a:rect l="l" t="t" r="r" b="b"/>
            <a:pathLst>
              <a:path w="126" h="209">
                <a:moveTo>
                  <a:pt x="126" y="0"/>
                </a:moveTo>
                <a:lnTo>
                  <a:pt x="126" y="77"/>
                </a:lnTo>
                <a:lnTo>
                  <a:pt x="0" y="77"/>
                </a:lnTo>
                <a:lnTo>
                  <a:pt x="0" y="20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45736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45736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247032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46888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47032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47032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2670840" y="382896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5815080" y="2433600"/>
            <a:ext cx="94140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815080" y="1836720"/>
            <a:ext cx="941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826240" y="18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824800" y="1994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5826240" y="21366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826240" y="2278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825880" y="1655640"/>
            <a:ext cx="886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ject of 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2894400" y="3317760"/>
            <a:ext cx="345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2627280" y="3181320"/>
            <a:ext cx="230400" cy="615960"/>
          </a:xfrm>
          <a:custGeom>
            <a:avLst/>
            <a:gdLst/>
            <a:ahLst/>
            <a:rect l="l" t="t" r="r" b="b"/>
            <a:pathLst>
              <a:path w="145" h="388">
                <a:moveTo>
                  <a:pt x="0" y="0"/>
                </a:moveTo>
                <a:lnTo>
                  <a:pt x="145" y="0"/>
                </a:lnTo>
                <a:lnTo>
                  <a:pt x="145" y="38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027600" y="1944720"/>
            <a:ext cx="4032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ts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427120" y="2122560"/>
            <a:ext cx="3387960" cy="206280"/>
          </a:xfrm>
          <a:custGeom>
            <a:avLst/>
            <a:gdLst/>
            <a:ahLst/>
            <a:rect l="l" t="t" r="r" b="b"/>
            <a:pathLst>
              <a:path w="2134" h="130">
                <a:moveTo>
                  <a:pt x="0" y="130"/>
                </a:moveTo>
                <a:lnTo>
                  <a:pt x="0" y="0"/>
                </a:lnTo>
                <a:lnTo>
                  <a:pt x="21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3970440" y="3192480"/>
            <a:ext cx="100476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3970440" y="2454120"/>
            <a:ext cx="100476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983760" y="247032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983400" y="26114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3983040" y="27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981600" y="289548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3983040" y="30369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982680" y="2273400"/>
            <a:ext cx="94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ipient of 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739960" y="2419200"/>
            <a:ext cx="10735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ecipientOf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627280" y="2612880"/>
            <a:ext cx="1343160" cy="196920"/>
          </a:xfrm>
          <a:custGeom>
            <a:avLst/>
            <a:gdLst/>
            <a:ahLst/>
            <a:rect l="l" t="t" r="r" b="b"/>
            <a:pathLst>
              <a:path w="846" h="124">
                <a:moveTo>
                  <a:pt x="0" y="0"/>
                </a:moveTo>
                <a:lnTo>
                  <a:pt x="705" y="0"/>
                </a:lnTo>
                <a:lnTo>
                  <a:pt x="705" y="124"/>
                </a:lnTo>
                <a:lnTo>
                  <a:pt x="846" y="12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78680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778680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7807680" y="353700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Objec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562720" y="5159520"/>
            <a:ext cx="761760" cy="1396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562720" y="4564080"/>
            <a:ext cx="761760" cy="595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5575320" y="4578480"/>
            <a:ext cx="39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degre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573880" y="4719600"/>
            <a:ext cx="59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potential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574960" y="4862520"/>
            <a:ext cx="34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u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5575680" y="500364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5562720" y="4351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562720" y="4308480"/>
            <a:ext cx="76176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644800" y="438300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284880" y="2752560"/>
            <a:ext cx="1901880" cy="752760"/>
          </a:xfrm>
          <a:custGeom>
            <a:avLst/>
            <a:gdLst/>
            <a:ahLst/>
            <a:rect l="l" t="t" r="r" b="b"/>
            <a:pathLst>
              <a:path w="1198" h="474">
                <a:moveTo>
                  <a:pt x="0" y="0"/>
                </a:moveTo>
                <a:lnTo>
                  <a:pt x="0" y="131"/>
                </a:lnTo>
                <a:lnTo>
                  <a:pt x="1198" y="131"/>
                </a:lnTo>
                <a:lnTo>
                  <a:pt x="1198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932360" y="396720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4932360" y="3652920"/>
            <a:ext cx="800280" cy="3142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4945680" y="366876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4944240" y="3811680"/>
            <a:ext cx="57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focusTyp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158080" y="347328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154320" y="6081840"/>
            <a:ext cx="129240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154320" y="5484960"/>
            <a:ext cx="1292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167280" y="55008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165840" y="56419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167280" y="5783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167280" y="592452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166200" y="5303880"/>
            <a:ext cx="1218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bject of 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5332320" y="5832360"/>
            <a:ext cx="7275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bje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f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446720" y="4152960"/>
            <a:ext cx="885600" cy="1616040"/>
          </a:xfrm>
          <a:custGeom>
            <a:avLst/>
            <a:gdLst/>
            <a:ahLst/>
            <a:rect l="l" t="t" r="r" b="b"/>
            <a:pathLst>
              <a:path w="558" h="1018">
                <a:moveTo>
                  <a:pt x="0" y="1018"/>
                </a:moveTo>
                <a:lnTo>
                  <a:pt x="558" y="1018"/>
                </a:lnTo>
                <a:lnTo>
                  <a:pt x="55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4493880" y="48420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884160" y="4152960"/>
            <a:ext cx="4249800" cy="900000"/>
          </a:xfrm>
          <a:custGeom>
            <a:avLst/>
            <a:gdLst/>
            <a:ahLst/>
            <a:rect l="l" t="t" r="r" b="b"/>
            <a:pathLst>
              <a:path w="2677" h="567">
                <a:moveTo>
                  <a:pt x="0" y="407"/>
                </a:moveTo>
                <a:lnTo>
                  <a:pt x="0" y="567"/>
                </a:lnTo>
                <a:lnTo>
                  <a:pt x="2677" y="567"/>
                </a:lnTo>
                <a:lnTo>
                  <a:pt x="2677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6284880" y="2752560"/>
            <a:ext cx="895320" cy="752760"/>
          </a:xfrm>
          <a:custGeom>
            <a:avLst/>
            <a:gdLst/>
            <a:ahLst/>
            <a:rect l="l" t="t" r="r" b="b"/>
            <a:pathLst>
              <a:path w="564" h="474">
                <a:moveTo>
                  <a:pt x="0" y="0"/>
                </a:moveTo>
                <a:lnTo>
                  <a:pt x="0" y="131"/>
                </a:lnTo>
                <a:lnTo>
                  <a:pt x="564" y="131"/>
                </a:lnTo>
                <a:lnTo>
                  <a:pt x="564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52320" y="2714760"/>
            <a:ext cx="8035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52320" y="1976400"/>
            <a:ext cx="80352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66000" y="199080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65640" y="213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665280" y="227484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663840" y="24163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665280" y="25574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65280" y="1797120"/>
            <a:ext cx="745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vider 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1455840" y="2612880"/>
            <a:ext cx="371520" cy="3240"/>
          </a:xfrm>
          <a:custGeom>
            <a:avLst/>
            <a:gdLst/>
            <a:ahLst/>
            <a:rect l="l" t="t" r="r" b="b"/>
            <a:pathLst>
              <a:path w="234" h="2">
                <a:moveTo>
                  <a:pt x="0" y="2"/>
                </a:moveTo>
                <a:lnTo>
                  <a:pt x="126" y="2"/>
                </a:lnTo>
                <a:lnTo>
                  <a:pt x="126" y="0"/>
                </a:lnTo>
                <a:lnTo>
                  <a:pt x="2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678024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678024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6793200" y="373392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esul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963120" y="353700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332320" y="2752560"/>
            <a:ext cx="952560" cy="687600"/>
          </a:xfrm>
          <a:custGeom>
            <a:avLst/>
            <a:gdLst/>
            <a:ahLst/>
            <a:rect l="l" t="t" r="r" b="b"/>
            <a:pathLst>
              <a:path w="600" h="433">
                <a:moveTo>
                  <a:pt x="600" y="0"/>
                </a:moveTo>
                <a:lnTo>
                  <a:pt x="600" y="131"/>
                </a:lnTo>
                <a:lnTo>
                  <a:pt x="0" y="131"/>
                </a:lnTo>
                <a:lnTo>
                  <a:pt x="0" y="43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732640" y="3797280"/>
            <a:ext cx="1047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6780240" y="495144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780240" y="4764240"/>
            <a:ext cx="79992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894720" y="4584600"/>
            <a:ext cx="54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7180200" y="4222800"/>
            <a:ext cx="1800" cy="328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7097760" y="4089240"/>
            <a:ext cx="166680" cy="133560"/>
          </a:xfrm>
          <a:custGeom>
            <a:avLst/>
            <a:gdLst/>
            <a:ahLst/>
            <a:rect l="l" t="t" r="r" b="b"/>
            <a:pathLst>
              <a:path w="105" h="84">
                <a:moveTo>
                  <a:pt x="0" y="84"/>
                </a:moveTo>
                <a:lnTo>
                  <a:pt x="105" y="84"/>
                </a:lnTo>
                <a:lnTo>
                  <a:pt x="52" y="0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421080" y="46134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421080" y="4010040"/>
            <a:ext cx="799920" cy="603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3621600" y="382896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15200" y="2952720"/>
            <a:ext cx="5767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17720" y="303228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627280" y="2898720"/>
            <a:ext cx="992160" cy="898560"/>
          </a:xfrm>
          <a:custGeom>
            <a:avLst/>
            <a:gdLst/>
            <a:ahLst/>
            <a:rect l="l" t="t" r="r" b="b"/>
            <a:pathLst>
              <a:path w="625" h="566">
                <a:moveTo>
                  <a:pt x="0" y="0"/>
                </a:moveTo>
                <a:lnTo>
                  <a:pt x="625" y="0"/>
                </a:lnTo>
                <a:lnTo>
                  <a:pt x="625" y="56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6680160" y="5375160"/>
            <a:ext cx="1473120" cy="1254240"/>
          </a:xfrm>
          <a:custGeom>
            <a:avLst/>
            <a:gdLst/>
            <a:ahLst/>
            <a:rect l="l" t="t" r="r" b="b"/>
            <a:pathLst>
              <a:path w="832" h="790">
                <a:moveTo>
                  <a:pt x="832" y="101"/>
                </a:moveTo>
                <a:lnTo>
                  <a:pt x="749" y="0"/>
                </a:lnTo>
                <a:lnTo>
                  <a:pt x="749" y="101"/>
                </a:lnTo>
                <a:lnTo>
                  <a:pt x="832" y="101"/>
                </a:lnTo>
                <a:close/>
                <a:moveTo>
                  <a:pt x="0" y="790"/>
                </a:moveTo>
                <a:lnTo>
                  <a:pt x="832" y="790"/>
                </a:lnTo>
                <a:lnTo>
                  <a:pt x="832" y="101"/>
                </a:lnTo>
                <a:lnTo>
                  <a:pt x="749" y="101"/>
                </a:lnTo>
                <a:lnTo>
                  <a:pt x="749" y="0"/>
                </a:lnTo>
                <a:lnTo>
                  <a:pt x="0" y="0"/>
                </a:lnTo>
                <a:lnTo>
                  <a:pt x="0" y="79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6734160" y="5437080"/>
            <a:ext cx="116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cusType Value Set =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6734520" y="5730840"/>
            <a:ext cx="105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tient Function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6735600" y="6032520"/>
            <a:ext cx="1170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F and other simila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in othe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ocabulari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6989760" y="1996920"/>
            <a:ext cx="1244520" cy="827280"/>
          </a:xfrm>
          <a:custGeom>
            <a:avLst/>
            <a:gdLst/>
            <a:ahLst/>
            <a:rect l="l" t="t" r="r" b="b"/>
            <a:pathLst>
              <a:path w="784" h="521">
                <a:moveTo>
                  <a:pt x="784" y="100"/>
                </a:moveTo>
                <a:lnTo>
                  <a:pt x="700" y="0"/>
                </a:lnTo>
                <a:lnTo>
                  <a:pt x="700" y="100"/>
                </a:lnTo>
                <a:lnTo>
                  <a:pt x="784" y="100"/>
                </a:lnTo>
                <a:close/>
                <a:moveTo>
                  <a:pt x="0" y="521"/>
                </a:moveTo>
                <a:lnTo>
                  <a:pt x="784" y="521"/>
                </a:lnTo>
                <a:lnTo>
                  <a:pt x="784" y="100"/>
                </a:lnTo>
                <a:lnTo>
                  <a:pt x="700" y="100"/>
                </a:lnTo>
                <a:lnTo>
                  <a:pt x="700" y="0"/>
                </a:lnTo>
                <a:lnTo>
                  <a:pt x="0" y="0"/>
                </a:lnTo>
                <a:lnTo>
                  <a:pt x="0" y="52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7043400" y="2057400"/>
            <a:ext cx="102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ding includes th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7043760" y="21985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of Goal 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7045200" y="2340000"/>
            <a:ext cx="1035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come depe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043760" y="24811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 relationship 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7044480" y="2624040"/>
            <a:ext cx="88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other actio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1573200" y="5410080"/>
            <a:ext cx="1309680" cy="542880"/>
          </a:xfrm>
          <a:custGeom>
            <a:avLst/>
            <a:gdLst/>
            <a:ahLst/>
            <a:rect l="l" t="t" r="r" b="b"/>
            <a:pathLst>
              <a:path w="825" h="342">
                <a:moveTo>
                  <a:pt x="825" y="100"/>
                </a:moveTo>
                <a:lnTo>
                  <a:pt x="740" y="0"/>
                </a:lnTo>
                <a:lnTo>
                  <a:pt x="740" y="100"/>
                </a:lnTo>
                <a:lnTo>
                  <a:pt x="825" y="100"/>
                </a:lnTo>
                <a:close/>
                <a:moveTo>
                  <a:pt x="0" y="342"/>
                </a:moveTo>
                <a:lnTo>
                  <a:pt x="825" y="342"/>
                </a:lnTo>
                <a:lnTo>
                  <a:pt x="825" y="100"/>
                </a:lnTo>
                <a:lnTo>
                  <a:pt x="740" y="100"/>
                </a:lnTo>
                <a:lnTo>
                  <a:pt x="740" y="0"/>
                </a:lnTo>
                <a:lnTo>
                  <a:pt x="0" y="0"/>
                </a:lnTo>
                <a:lnTo>
                  <a:pt x="0" y="34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1627200" y="5467320"/>
            <a:ext cx="101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ject is coded 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627920" y="5610240"/>
            <a:ext cx="878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, family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1626120" y="5751360"/>
            <a:ext cx="115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other physical ent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427560" y="4003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426120" y="4145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427560" y="4286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427560" y="4429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5941080" y="3622680"/>
            <a:ext cx="53856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399000" y="4232160"/>
            <a:ext cx="5691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6324480" y="4842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457200" y="1523880"/>
            <a:ext cx="1143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676520" y="2057400"/>
            <a:ext cx="1143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886200" y="1828800"/>
            <a:ext cx="1143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5715000" y="1295280"/>
            <a:ext cx="1143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dicate Logic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DF, RIM, and SNOM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604800" y="1871640"/>
            <a:ext cx="1604880" cy="581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1871640"/>
            <a:ext cx="2057400" cy="581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48400" y="1871640"/>
            <a:ext cx="1604880" cy="581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09320" y="217656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409720" y="217656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3041640"/>
            <a:ext cx="1605240" cy="947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-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7720" y="3041640"/>
            <a:ext cx="205740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ion Su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3041640"/>
            <a:ext cx="160524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214360" y="334656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414760" y="334656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4608360"/>
            <a:ext cx="1605240" cy="947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cture of Fem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57720" y="4608360"/>
            <a:ext cx="205740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ing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608360"/>
            <a:ext cx="160524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 of Neck of Fem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214360" y="491328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414760" y="491328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6640" y="14479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DF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4120" y="41911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NOMED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160" y="25909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I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 Instance Diagram</a:t>
            </a:r>
            <a:br>
              <a:rPr sz="40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“Susan , an RN , reviews Christine's chart”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5" name=""/>
          <p:cNvSpPr/>
          <p:nvPr/>
        </p:nvSpPr>
        <p:spPr>
          <a:xfrm>
            <a:off x="182736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182736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84032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839960" y="26989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1838520" y="2840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839960" y="2981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1839960" y="3124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04552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484200" y="4611600"/>
            <a:ext cx="798480" cy="1875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484200" y="4014720"/>
            <a:ext cx="7984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97160" y="40291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495720" y="41702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497160" y="4313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97160" y="44546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774000" y="3833640"/>
            <a:ext cx="21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064880" y="32418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884160" y="3181320"/>
            <a:ext cx="943200" cy="620640"/>
          </a:xfrm>
          <a:custGeom>
            <a:avLst/>
            <a:gdLst/>
            <a:ahLst/>
            <a:rect l="l" t="t" r="r" b="b"/>
            <a:pathLst>
              <a:path w="594" h="391">
                <a:moveTo>
                  <a:pt x="594" y="0"/>
                </a:moveTo>
                <a:lnTo>
                  <a:pt x="0" y="0"/>
                </a:lnTo>
                <a:lnTo>
                  <a:pt x="0" y="39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42704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42704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44000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143856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44000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144000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1659960" y="382896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1979280" y="3616200"/>
            <a:ext cx="531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827360" y="3465360"/>
            <a:ext cx="199800" cy="331920"/>
          </a:xfrm>
          <a:custGeom>
            <a:avLst/>
            <a:gdLst/>
            <a:ahLst/>
            <a:rect l="l" t="t" r="r" b="b"/>
            <a:pathLst>
              <a:path w="126" h="209">
                <a:moveTo>
                  <a:pt x="126" y="0"/>
                </a:moveTo>
                <a:lnTo>
                  <a:pt x="126" y="77"/>
                </a:lnTo>
                <a:lnTo>
                  <a:pt x="0" y="77"/>
                </a:lnTo>
                <a:lnTo>
                  <a:pt x="0" y="20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245736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245736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47032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246888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47032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47032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670840" y="382896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5815080" y="2433600"/>
            <a:ext cx="94140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5815080" y="1836720"/>
            <a:ext cx="941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5826240" y="18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5824800" y="1994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5826240" y="21366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826240" y="2278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5825880" y="1655640"/>
            <a:ext cx="886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ject of 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894400" y="3317760"/>
            <a:ext cx="345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2627280" y="3181320"/>
            <a:ext cx="230400" cy="615960"/>
          </a:xfrm>
          <a:custGeom>
            <a:avLst/>
            <a:gdLst/>
            <a:ahLst/>
            <a:rect l="l" t="t" r="r" b="b"/>
            <a:pathLst>
              <a:path w="145" h="388">
                <a:moveTo>
                  <a:pt x="0" y="0"/>
                </a:moveTo>
                <a:lnTo>
                  <a:pt x="145" y="0"/>
                </a:lnTo>
                <a:lnTo>
                  <a:pt x="145" y="38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3027600" y="1944720"/>
            <a:ext cx="4032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ts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2427120" y="2122560"/>
            <a:ext cx="3387960" cy="206280"/>
          </a:xfrm>
          <a:custGeom>
            <a:avLst/>
            <a:gdLst/>
            <a:ahLst/>
            <a:rect l="l" t="t" r="r" b="b"/>
            <a:pathLst>
              <a:path w="2134" h="130">
                <a:moveTo>
                  <a:pt x="0" y="130"/>
                </a:moveTo>
                <a:lnTo>
                  <a:pt x="0" y="0"/>
                </a:lnTo>
                <a:lnTo>
                  <a:pt x="21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3970440" y="3192480"/>
            <a:ext cx="100476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970440" y="2454120"/>
            <a:ext cx="100476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983760" y="247032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983400" y="26114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983040" y="27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981600" y="289548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3983040" y="30369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982680" y="2273400"/>
            <a:ext cx="94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ipient of 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2739960" y="2419200"/>
            <a:ext cx="10735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ecipientOf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627280" y="2612880"/>
            <a:ext cx="1343160" cy="196920"/>
          </a:xfrm>
          <a:custGeom>
            <a:avLst/>
            <a:gdLst/>
            <a:ahLst/>
            <a:rect l="l" t="t" r="r" b="b"/>
            <a:pathLst>
              <a:path w="846" h="124">
                <a:moveTo>
                  <a:pt x="0" y="0"/>
                </a:moveTo>
                <a:lnTo>
                  <a:pt x="705" y="0"/>
                </a:lnTo>
                <a:lnTo>
                  <a:pt x="705" y="124"/>
                </a:lnTo>
                <a:lnTo>
                  <a:pt x="846" y="12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778680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778680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7807680" y="353700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Objec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5562720" y="5159520"/>
            <a:ext cx="761760" cy="1396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5562720" y="4564080"/>
            <a:ext cx="761760" cy="595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575320" y="4578480"/>
            <a:ext cx="39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degre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5573880" y="4719600"/>
            <a:ext cx="59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potential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574960" y="4862520"/>
            <a:ext cx="34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u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5575680" y="500364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5562720" y="4351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5562720" y="4308480"/>
            <a:ext cx="76176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5644800" y="438300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284880" y="2752560"/>
            <a:ext cx="1901880" cy="752760"/>
          </a:xfrm>
          <a:custGeom>
            <a:avLst/>
            <a:gdLst/>
            <a:ahLst/>
            <a:rect l="l" t="t" r="r" b="b"/>
            <a:pathLst>
              <a:path w="1198" h="474">
                <a:moveTo>
                  <a:pt x="0" y="0"/>
                </a:moveTo>
                <a:lnTo>
                  <a:pt x="0" y="131"/>
                </a:lnTo>
                <a:lnTo>
                  <a:pt x="1198" y="131"/>
                </a:lnTo>
                <a:lnTo>
                  <a:pt x="1198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4932360" y="396720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4932360" y="3652920"/>
            <a:ext cx="800280" cy="3142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4945680" y="366876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4944240" y="3811680"/>
            <a:ext cx="57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focusTyp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158080" y="347328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3154320" y="6081840"/>
            <a:ext cx="129240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3154320" y="5484960"/>
            <a:ext cx="1292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167280" y="55008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165840" y="56419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3167280" y="5783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3167280" y="592452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166200" y="5303880"/>
            <a:ext cx="1218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bject of 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332320" y="5832360"/>
            <a:ext cx="7275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bje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f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4446720" y="4152960"/>
            <a:ext cx="885600" cy="1616040"/>
          </a:xfrm>
          <a:custGeom>
            <a:avLst/>
            <a:gdLst/>
            <a:ahLst/>
            <a:rect l="l" t="t" r="r" b="b"/>
            <a:pathLst>
              <a:path w="558" h="1018">
                <a:moveTo>
                  <a:pt x="0" y="1018"/>
                </a:moveTo>
                <a:lnTo>
                  <a:pt x="558" y="1018"/>
                </a:lnTo>
                <a:lnTo>
                  <a:pt x="55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493880" y="48420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884160" y="4152960"/>
            <a:ext cx="4249800" cy="900000"/>
          </a:xfrm>
          <a:custGeom>
            <a:avLst/>
            <a:gdLst/>
            <a:ahLst/>
            <a:rect l="l" t="t" r="r" b="b"/>
            <a:pathLst>
              <a:path w="2677" h="567">
                <a:moveTo>
                  <a:pt x="0" y="407"/>
                </a:moveTo>
                <a:lnTo>
                  <a:pt x="0" y="567"/>
                </a:lnTo>
                <a:lnTo>
                  <a:pt x="2677" y="567"/>
                </a:lnTo>
                <a:lnTo>
                  <a:pt x="2677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284880" y="2752560"/>
            <a:ext cx="895320" cy="752760"/>
          </a:xfrm>
          <a:custGeom>
            <a:avLst/>
            <a:gdLst/>
            <a:ahLst/>
            <a:rect l="l" t="t" r="r" b="b"/>
            <a:pathLst>
              <a:path w="564" h="474">
                <a:moveTo>
                  <a:pt x="0" y="0"/>
                </a:moveTo>
                <a:lnTo>
                  <a:pt x="0" y="131"/>
                </a:lnTo>
                <a:lnTo>
                  <a:pt x="564" y="131"/>
                </a:lnTo>
                <a:lnTo>
                  <a:pt x="564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52320" y="2714760"/>
            <a:ext cx="8035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52320" y="1976400"/>
            <a:ext cx="80352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66000" y="199080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65640" y="213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65280" y="227484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663840" y="24163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665280" y="25574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665280" y="1797120"/>
            <a:ext cx="745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vider 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1455840" y="2612880"/>
            <a:ext cx="371520" cy="3240"/>
          </a:xfrm>
          <a:custGeom>
            <a:avLst/>
            <a:gdLst/>
            <a:ahLst/>
            <a:rect l="l" t="t" r="r" b="b"/>
            <a:pathLst>
              <a:path w="234" h="2">
                <a:moveTo>
                  <a:pt x="0" y="2"/>
                </a:moveTo>
                <a:lnTo>
                  <a:pt x="126" y="2"/>
                </a:lnTo>
                <a:lnTo>
                  <a:pt x="126" y="0"/>
                </a:lnTo>
                <a:lnTo>
                  <a:pt x="2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78024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678024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6793200" y="373392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esul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6963120" y="353700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332320" y="2752560"/>
            <a:ext cx="952560" cy="687600"/>
          </a:xfrm>
          <a:custGeom>
            <a:avLst/>
            <a:gdLst/>
            <a:ahLst/>
            <a:rect l="l" t="t" r="r" b="b"/>
            <a:pathLst>
              <a:path w="600" h="433">
                <a:moveTo>
                  <a:pt x="600" y="0"/>
                </a:moveTo>
                <a:lnTo>
                  <a:pt x="600" y="131"/>
                </a:lnTo>
                <a:lnTo>
                  <a:pt x="0" y="131"/>
                </a:lnTo>
                <a:lnTo>
                  <a:pt x="0" y="43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732640" y="3797280"/>
            <a:ext cx="1047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780240" y="495144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780240" y="4764240"/>
            <a:ext cx="79992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894720" y="4584600"/>
            <a:ext cx="54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7180200" y="4222800"/>
            <a:ext cx="1800" cy="328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097760" y="4089240"/>
            <a:ext cx="166680" cy="133560"/>
          </a:xfrm>
          <a:custGeom>
            <a:avLst/>
            <a:gdLst/>
            <a:ahLst/>
            <a:rect l="l" t="t" r="r" b="b"/>
            <a:pathLst>
              <a:path w="105" h="84">
                <a:moveTo>
                  <a:pt x="0" y="84"/>
                </a:moveTo>
                <a:lnTo>
                  <a:pt x="105" y="84"/>
                </a:lnTo>
                <a:lnTo>
                  <a:pt x="52" y="0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421080" y="46134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3421080" y="4010040"/>
            <a:ext cx="799920" cy="603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3621600" y="382896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2815200" y="2952720"/>
            <a:ext cx="5767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817720" y="303228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2627280" y="2898720"/>
            <a:ext cx="992160" cy="898560"/>
          </a:xfrm>
          <a:custGeom>
            <a:avLst/>
            <a:gdLst/>
            <a:ahLst/>
            <a:rect l="l" t="t" r="r" b="b"/>
            <a:pathLst>
              <a:path w="625" h="566">
                <a:moveTo>
                  <a:pt x="0" y="0"/>
                </a:moveTo>
                <a:lnTo>
                  <a:pt x="625" y="0"/>
                </a:lnTo>
                <a:lnTo>
                  <a:pt x="625" y="56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6680160" y="5375160"/>
            <a:ext cx="1473120" cy="1254240"/>
          </a:xfrm>
          <a:custGeom>
            <a:avLst/>
            <a:gdLst/>
            <a:ahLst/>
            <a:rect l="l" t="t" r="r" b="b"/>
            <a:pathLst>
              <a:path w="832" h="790">
                <a:moveTo>
                  <a:pt x="832" y="101"/>
                </a:moveTo>
                <a:lnTo>
                  <a:pt x="749" y="0"/>
                </a:lnTo>
                <a:lnTo>
                  <a:pt x="749" y="101"/>
                </a:lnTo>
                <a:lnTo>
                  <a:pt x="832" y="101"/>
                </a:lnTo>
                <a:close/>
                <a:moveTo>
                  <a:pt x="0" y="790"/>
                </a:moveTo>
                <a:lnTo>
                  <a:pt x="832" y="790"/>
                </a:lnTo>
                <a:lnTo>
                  <a:pt x="832" y="101"/>
                </a:lnTo>
                <a:lnTo>
                  <a:pt x="749" y="101"/>
                </a:lnTo>
                <a:lnTo>
                  <a:pt x="749" y="0"/>
                </a:lnTo>
                <a:lnTo>
                  <a:pt x="0" y="0"/>
                </a:lnTo>
                <a:lnTo>
                  <a:pt x="0" y="79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734160" y="5437080"/>
            <a:ext cx="116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cusType Value Set =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734520" y="5730840"/>
            <a:ext cx="105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tient Function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735600" y="6032520"/>
            <a:ext cx="1170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F and other simila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in othe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ocabulari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989760" y="1996920"/>
            <a:ext cx="1244520" cy="827280"/>
          </a:xfrm>
          <a:custGeom>
            <a:avLst/>
            <a:gdLst/>
            <a:ahLst/>
            <a:rect l="l" t="t" r="r" b="b"/>
            <a:pathLst>
              <a:path w="784" h="521">
                <a:moveTo>
                  <a:pt x="784" y="100"/>
                </a:moveTo>
                <a:lnTo>
                  <a:pt x="700" y="0"/>
                </a:lnTo>
                <a:lnTo>
                  <a:pt x="700" y="100"/>
                </a:lnTo>
                <a:lnTo>
                  <a:pt x="784" y="100"/>
                </a:lnTo>
                <a:close/>
                <a:moveTo>
                  <a:pt x="0" y="521"/>
                </a:moveTo>
                <a:lnTo>
                  <a:pt x="784" y="521"/>
                </a:lnTo>
                <a:lnTo>
                  <a:pt x="784" y="100"/>
                </a:lnTo>
                <a:lnTo>
                  <a:pt x="700" y="100"/>
                </a:lnTo>
                <a:lnTo>
                  <a:pt x="700" y="0"/>
                </a:lnTo>
                <a:lnTo>
                  <a:pt x="0" y="0"/>
                </a:lnTo>
                <a:lnTo>
                  <a:pt x="0" y="52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7043400" y="2057400"/>
            <a:ext cx="102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ding includes th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7043760" y="21985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of Goal 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7045200" y="2340000"/>
            <a:ext cx="1035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come depe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7043760" y="24811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 relationship 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7044480" y="2624040"/>
            <a:ext cx="88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other actio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1573200" y="5410080"/>
            <a:ext cx="1309680" cy="542880"/>
          </a:xfrm>
          <a:custGeom>
            <a:avLst/>
            <a:gdLst/>
            <a:ahLst/>
            <a:rect l="l" t="t" r="r" b="b"/>
            <a:pathLst>
              <a:path w="825" h="342">
                <a:moveTo>
                  <a:pt x="825" y="100"/>
                </a:moveTo>
                <a:lnTo>
                  <a:pt x="740" y="0"/>
                </a:lnTo>
                <a:lnTo>
                  <a:pt x="740" y="100"/>
                </a:lnTo>
                <a:lnTo>
                  <a:pt x="825" y="100"/>
                </a:lnTo>
                <a:close/>
                <a:moveTo>
                  <a:pt x="0" y="342"/>
                </a:moveTo>
                <a:lnTo>
                  <a:pt x="825" y="342"/>
                </a:lnTo>
                <a:lnTo>
                  <a:pt x="825" y="100"/>
                </a:lnTo>
                <a:lnTo>
                  <a:pt x="740" y="100"/>
                </a:lnTo>
                <a:lnTo>
                  <a:pt x="740" y="0"/>
                </a:lnTo>
                <a:lnTo>
                  <a:pt x="0" y="0"/>
                </a:lnTo>
                <a:lnTo>
                  <a:pt x="0" y="34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627200" y="5467320"/>
            <a:ext cx="101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ject is coded 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1627920" y="5610240"/>
            <a:ext cx="878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, family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1626120" y="5751360"/>
            <a:ext cx="115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other physical ent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427560" y="4003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3426120" y="4145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427560" y="4286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3427560" y="4429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5941080" y="3622680"/>
            <a:ext cx="53856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6399000" y="4232160"/>
            <a:ext cx="5691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324480" y="4842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972360" y="192420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us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973800" y="208296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915120" y="2235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24535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1188000" y="2362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884160" y="251460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gister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Nur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2058120" y="2666880"/>
            <a:ext cx="75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55210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2033640" y="29559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view 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2043720" y="310824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view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2407320" y="280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184640" y="2727360"/>
            <a:ext cx="127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B.2.1.1.1.1.1.1.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4233960" y="24382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Chris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4196880" y="257508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Pati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4530240" y="2879640"/>
            <a:ext cx="49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ICN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6368400" y="1965240"/>
            <a:ext cx="49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ICN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6027480" y="211788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cord cha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6193080" y="227016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cha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pping from Nursing to HL7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272" name=""/>
          <p:cNvGraphicFramePr/>
          <p:nvPr/>
        </p:nvGraphicFramePr>
        <p:xfrm>
          <a:off x="457200" y="1600200"/>
          <a:ext cx="8229600" cy="4368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Nursing Dom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o HL7 R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vider R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tity (Person) + R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re Recip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tity (Person) + R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ion + Object of A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upp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iagnosis.res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bservation.val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nding.res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bservation.val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ubstAdmin.routeC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 Instance Diagram</a:t>
            </a:r>
            <a:br>
              <a:rPr sz="40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“Susan , an RN , reviews Christine's chart”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4" name=""/>
          <p:cNvSpPr/>
          <p:nvPr/>
        </p:nvSpPr>
        <p:spPr>
          <a:xfrm>
            <a:off x="182736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182736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184032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1839960" y="26989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1838520" y="2840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1839960" y="2981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1839960" y="3124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04552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84200" y="4611600"/>
            <a:ext cx="798480" cy="1875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84200" y="4014720"/>
            <a:ext cx="7984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497160" y="40291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495720" y="41702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497160" y="4313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497160" y="44546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774000" y="3833640"/>
            <a:ext cx="21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1064880" y="32418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884160" y="3181320"/>
            <a:ext cx="943200" cy="620640"/>
          </a:xfrm>
          <a:custGeom>
            <a:avLst/>
            <a:gdLst/>
            <a:ahLst/>
            <a:rect l="l" t="t" r="r" b="b"/>
            <a:pathLst>
              <a:path w="594" h="391">
                <a:moveTo>
                  <a:pt x="594" y="0"/>
                </a:moveTo>
                <a:lnTo>
                  <a:pt x="0" y="0"/>
                </a:lnTo>
                <a:lnTo>
                  <a:pt x="0" y="39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142704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142704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144000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143856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144000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144000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1659960" y="382896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1979280" y="3616200"/>
            <a:ext cx="531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827360" y="3465360"/>
            <a:ext cx="199800" cy="331920"/>
          </a:xfrm>
          <a:custGeom>
            <a:avLst/>
            <a:gdLst/>
            <a:ahLst/>
            <a:rect l="l" t="t" r="r" b="b"/>
            <a:pathLst>
              <a:path w="126" h="209">
                <a:moveTo>
                  <a:pt x="126" y="0"/>
                </a:moveTo>
                <a:lnTo>
                  <a:pt x="126" y="77"/>
                </a:lnTo>
                <a:lnTo>
                  <a:pt x="0" y="77"/>
                </a:lnTo>
                <a:lnTo>
                  <a:pt x="0" y="20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245736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245736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247032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246888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47032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47032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670840" y="382896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5815080" y="2433600"/>
            <a:ext cx="94140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5815080" y="1836720"/>
            <a:ext cx="941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5826240" y="18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5824800" y="1994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826240" y="21366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826240" y="2278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825880" y="1655640"/>
            <a:ext cx="886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ject of 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2894400" y="3317760"/>
            <a:ext cx="345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2627280" y="3181320"/>
            <a:ext cx="230400" cy="615960"/>
          </a:xfrm>
          <a:custGeom>
            <a:avLst/>
            <a:gdLst/>
            <a:ahLst/>
            <a:rect l="l" t="t" r="r" b="b"/>
            <a:pathLst>
              <a:path w="145" h="388">
                <a:moveTo>
                  <a:pt x="0" y="0"/>
                </a:moveTo>
                <a:lnTo>
                  <a:pt x="145" y="0"/>
                </a:lnTo>
                <a:lnTo>
                  <a:pt x="145" y="38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3027600" y="1944720"/>
            <a:ext cx="4032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ts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427120" y="2122560"/>
            <a:ext cx="3387960" cy="206280"/>
          </a:xfrm>
          <a:custGeom>
            <a:avLst/>
            <a:gdLst/>
            <a:ahLst/>
            <a:rect l="l" t="t" r="r" b="b"/>
            <a:pathLst>
              <a:path w="2134" h="130">
                <a:moveTo>
                  <a:pt x="0" y="130"/>
                </a:moveTo>
                <a:lnTo>
                  <a:pt x="0" y="0"/>
                </a:lnTo>
                <a:lnTo>
                  <a:pt x="21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970440" y="3192480"/>
            <a:ext cx="100476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970440" y="2454120"/>
            <a:ext cx="100476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983760" y="247032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3983400" y="26114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3983040" y="27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81600" y="289548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983040" y="30369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3982680" y="2273400"/>
            <a:ext cx="94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ipient of 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739960" y="2419200"/>
            <a:ext cx="10735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ecipientOf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2627280" y="2612880"/>
            <a:ext cx="1343160" cy="196920"/>
          </a:xfrm>
          <a:custGeom>
            <a:avLst/>
            <a:gdLst/>
            <a:ahLst/>
            <a:rect l="l" t="t" r="r" b="b"/>
            <a:pathLst>
              <a:path w="846" h="124">
                <a:moveTo>
                  <a:pt x="0" y="0"/>
                </a:moveTo>
                <a:lnTo>
                  <a:pt x="705" y="0"/>
                </a:lnTo>
                <a:lnTo>
                  <a:pt x="705" y="124"/>
                </a:lnTo>
                <a:lnTo>
                  <a:pt x="846" y="12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778680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778680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7807680" y="353700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Objec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562720" y="5159520"/>
            <a:ext cx="761760" cy="1396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5562720" y="4564080"/>
            <a:ext cx="761760" cy="595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575320" y="4578480"/>
            <a:ext cx="39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degre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5573880" y="4719600"/>
            <a:ext cx="59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potential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5574960" y="4862520"/>
            <a:ext cx="34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u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5575680" y="500364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562720" y="4351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5562720" y="4308480"/>
            <a:ext cx="76176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5644800" y="438300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284880" y="2752560"/>
            <a:ext cx="1901880" cy="752760"/>
          </a:xfrm>
          <a:custGeom>
            <a:avLst/>
            <a:gdLst/>
            <a:ahLst/>
            <a:rect l="l" t="t" r="r" b="b"/>
            <a:pathLst>
              <a:path w="1198" h="474">
                <a:moveTo>
                  <a:pt x="0" y="0"/>
                </a:moveTo>
                <a:lnTo>
                  <a:pt x="0" y="131"/>
                </a:lnTo>
                <a:lnTo>
                  <a:pt x="1198" y="131"/>
                </a:lnTo>
                <a:lnTo>
                  <a:pt x="1198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4932360" y="396720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4932360" y="3652920"/>
            <a:ext cx="800280" cy="3142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4945680" y="366876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944240" y="3811680"/>
            <a:ext cx="57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focusTyp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158080" y="347328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3154320" y="6081840"/>
            <a:ext cx="129240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154320" y="5484960"/>
            <a:ext cx="1292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3167280" y="55008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3165840" y="56419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3167280" y="5783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167280" y="592452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3166200" y="5303880"/>
            <a:ext cx="1218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bject of 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5332320" y="5832360"/>
            <a:ext cx="7275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bje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f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4446720" y="4152960"/>
            <a:ext cx="885600" cy="1616040"/>
          </a:xfrm>
          <a:custGeom>
            <a:avLst/>
            <a:gdLst/>
            <a:ahLst/>
            <a:rect l="l" t="t" r="r" b="b"/>
            <a:pathLst>
              <a:path w="558" h="1018">
                <a:moveTo>
                  <a:pt x="0" y="1018"/>
                </a:moveTo>
                <a:lnTo>
                  <a:pt x="558" y="1018"/>
                </a:lnTo>
                <a:lnTo>
                  <a:pt x="55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4493880" y="48420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884160" y="4152960"/>
            <a:ext cx="4249800" cy="900000"/>
          </a:xfrm>
          <a:custGeom>
            <a:avLst/>
            <a:gdLst/>
            <a:ahLst/>
            <a:rect l="l" t="t" r="r" b="b"/>
            <a:pathLst>
              <a:path w="2677" h="567">
                <a:moveTo>
                  <a:pt x="0" y="407"/>
                </a:moveTo>
                <a:lnTo>
                  <a:pt x="0" y="567"/>
                </a:lnTo>
                <a:lnTo>
                  <a:pt x="2677" y="567"/>
                </a:lnTo>
                <a:lnTo>
                  <a:pt x="2677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284880" y="2752560"/>
            <a:ext cx="895320" cy="752760"/>
          </a:xfrm>
          <a:custGeom>
            <a:avLst/>
            <a:gdLst/>
            <a:ahLst/>
            <a:rect l="l" t="t" r="r" b="b"/>
            <a:pathLst>
              <a:path w="564" h="474">
                <a:moveTo>
                  <a:pt x="0" y="0"/>
                </a:moveTo>
                <a:lnTo>
                  <a:pt x="0" y="131"/>
                </a:lnTo>
                <a:lnTo>
                  <a:pt x="564" y="131"/>
                </a:lnTo>
                <a:lnTo>
                  <a:pt x="564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52320" y="2714760"/>
            <a:ext cx="8035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652320" y="1976400"/>
            <a:ext cx="80352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66000" y="199080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665640" y="213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665280" y="227484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663840" y="24163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65280" y="25574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665280" y="1797120"/>
            <a:ext cx="745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vider 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1455840" y="2612880"/>
            <a:ext cx="371520" cy="3240"/>
          </a:xfrm>
          <a:custGeom>
            <a:avLst/>
            <a:gdLst/>
            <a:ahLst/>
            <a:rect l="l" t="t" r="r" b="b"/>
            <a:pathLst>
              <a:path w="234" h="2">
                <a:moveTo>
                  <a:pt x="0" y="2"/>
                </a:moveTo>
                <a:lnTo>
                  <a:pt x="126" y="2"/>
                </a:lnTo>
                <a:lnTo>
                  <a:pt x="126" y="0"/>
                </a:lnTo>
                <a:lnTo>
                  <a:pt x="2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678024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78024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793200" y="373392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esul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6963120" y="353700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5332320" y="2752560"/>
            <a:ext cx="952560" cy="687600"/>
          </a:xfrm>
          <a:custGeom>
            <a:avLst/>
            <a:gdLst/>
            <a:ahLst/>
            <a:rect l="l" t="t" r="r" b="b"/>
            <a:pathLst>
              <a:path w="600" h="433">
                <a:moveTo>
                  <a:pt x="600" y="0"/>
                </a:moveTo>
                <a:lnTo>
                  <a:pt x="600" y="131"/>
                </a:lnTo>
                <a:lnTo>
                  <a:pt x="0" y="131"/>
                </a:lnTo>
                <a:lnTo>
                  <a:pt x="0" y="43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5732640" y="3797280"/>
            <a:ext cx="1047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780240" y="495144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780240" y="4764240"/>
            <a:ext cx="79992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894720" y="4584600"/>
            <a:ext cx="54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7180200" y="4222800"/>
            <a:ext cx="1800" cy="328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7097760" y="4089240"/>
            <a:ext cx="166680" cy="133560"/>
          </a:xfrm>
          <a:custGeom>
            <a:avLst/>
            <a:gdLst/>
            <a:ahLst/>
            <a:rect l="l" t="t" r="r" b="b"/>
            <a:pathLst>
              <a:path w="105" h="84">
                <a:moveTo>
                  <a:pt x="0" y="84"/>
                </a:moveTo>
                <a:lnTo>
                  <a:pt x="105" y="84"/>
                </a:lnTo>
                <a:lnTo>
                  <a:pt x="52" y="0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3421080" y="46134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421080" y="4010040"/>
            <a:ext cx="799920" cy="603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3621600" y="382896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2815200" y="2952720"/>
            <a:ext cx="5767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817720" y="303228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2627280" y="2898720"/>
            <a:ext cx="992160" cy="898560"/>
          </a:xfrm>
          <a:custGeom>
            <a:avLst/>
            <a:gdLst/>
            <a:ahLst/>
            <a:rect l="l" t="t" r="r" b="b"/>
            <a:pathLst>
              <a:path w="625" h="566">
                <a:moveTo>
                  <a:pt x="0" y="0"/>
                </a:moveTo>
                <a:lnTo>
                  <a:pt x="625" y="0"/>
                </a:lnTo>
                <a:lnTo>
                  <a:pt x="625" y="56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6680160" y="5375160"/>
            <a:ext cx="1473120" cy="1254240"/>
          </a:xfrm>
          <a:custGeom>
            <a:avLst/>
            <a:gdLst/>
            <a:ahLst/>
            <a:rect l="l" t="t" r="r" b="b"/>
            <a:pathLst>
              <a:path w="832" h="790">
                <a:moveTo>
                  <a:pt x="832" y="101"/>
                </a:moveTo>
                <a:lnTo>
                  <a:pt x="749" y="0"/>
                </a:lnTo>
                <a:lnTo>
                  <a:pt x="749" y="101"/>
                </a:lnTo>
                <a:lnTo>
                  <a:pt x="832" y="101"/>
                </a:lnTo>
                <a:close/>
                <a:moveTo>
                  <a:pt x="0" y="790"/>
                </a:moveTo>
                <a:lnTo>
                  <a:pt x="832" y="790"/>
                </a:lnTo>
                <a:lnTo>
                  <a:pt x="832" y="101"/>
                </a:lnTo>
                <a:lnTo>
                  <a:pt x="749" y="101"/>
                </a:lnTo>
                <a:lnTo>
                  <a:pt x="749" y="0"/>
                </a:lnTo>
                <a:lnTo>
                  <a:pt x="0" y="0"/>
                </a:lnTo>
                <a:lnTo>
                  <a:pt x="0" y="79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6734160" y="5437080"/>
            <a:ext cx="116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cusType Value Set =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6734520" y="5730840"/>
            <a:ext cx="105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tient Function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735600" y="6032520"/>
            <a:ext cx="1170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F and other simila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in othe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ocabulari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6989760" y="1996920"/>
            <a:ext cx="1244520" cy="827280"/>
          </a:xfrm>
          <a:custGeom>
            <a:avLst/>
            <a:gdLst/>
            <a:ahLst/>
            <a:rect l="l" t="t" r="r" b="b"/>
            <a:pathLst>
              <a:path w="784" h="521">
                <a:moveTo>
                  <a:pt x="784" y="100"/>
                </a:moveTo>
                <a:lnTo>
                  <a:pt x="700" y="0"/>
                </a:lnTo>
                <a:lnTo>
                  <a:pt x="700" y="100"/>
                </a:lnTo>
                <a:lnTo>
                  <a:pt x="784" y="100"/>
                </a:lnTo>
                <a:close/>
                <a:moveTo>
                  <a:pt x="0" y="521"/>
                </a:moveTo>
                <a:lnTo>
                  <a:pt x="784" y="521"/>
                </a:lnTo>
                <a:lnTo>
                  <a:pt x="784" y="100"/>
                </a:lnTo>
                <a:lnTo>
                  <a:pt x="700" y="100"/>
                </a:lnTo>
                <a:lnTo>
                  <a:pt x="700" y="0"/>
                </a:lnTo>
                <a:lnTo>
                  <a:pt x="0" y="0"/>
                </a:lnTo>
                <a:lnTo>
                  <a:pt x="0" y="52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7043400" y="2057400"/>
            <a:ext cx="102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ding includes th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7043760" y="21985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of Goal 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7045200" y="2340000"/>
            <a:ext cx="1035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come depe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7043760" y="24811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 relationship 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7044480" y="2624040"/>
            <a:ext cx="88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other actio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1573200" y="5410080"/>
            <a:ext cx="1309680" cy="542880"/>
          </a:xfrm>
          <a:custGeom>
            <a:avLst/>
            <a:gdLst/>
            <a:ahLst/>
            <a:rect l="l" t="t" r="r" b="b"/>
            <a:pathLst>
              <a:path w="825" h="342">
                <a:moveTo>
                  <a:pt x="825" y="100"/>
                </a:moveTo>
                <a:lnTo>
                  <a:pt x="740" y="0"/>
                </a:lnTo>
                <a:lnTo>
                  <a:pt x="740" y="100"/>
                </a:lnTo>
                <a:lnTo>
                  <a:pt x="825" y="100"/>
                </a:lnTo>
                <a:close/>
                <a:moveTo>
                  <a:pt x="0" y="342"/>
                </a:moveTo>
                <a:lnTo>
                  <a:pt x="825" y="342"/>
                </a:lnTo>
                <a:lnTo>
                  <a:pt x="825" y="100"/>
                </a:lnTo>
                <a:lnTo>
                  <a:pt x="740" y="100"/>
                </a:lnTo>
                <a:lnTo>
                  <a:pt x="740" y="0"/>
                </a:lnTo>
                <a:lnTo>
                  <a:pt x="0" y="0"/>
                </a:lnTo>
                <a:lnTo>
                  <a:pt x="0" y="34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627200" y="5467320"/>
            <a:ext cx="101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ject is coded 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627920" y="5610240"/>
            <a:ext cx="878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, family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1626120" y="5751360"/>
            <a:ext cx="115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other physical ent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3427560" y="4003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3426120" y="4145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3427560" y="4286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427560" y="4429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5941080" y="3622680"/>
            <a:ext cx="53856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6399000" y="4232160"/>
            <a:ext cx="5691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324480" y="4842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972360" y="192420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us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973800" y="208296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915120" y="2235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24535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1188000" y="2362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884160" y="251460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gister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Nur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2058120" y="2666880"/>
            <a:ext cx="75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55210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2033640" y="29559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view 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2043720" y="310824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view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2407320" y="280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4184640" y="2727360"/>
            <a:ext cx="127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B.2.1.1.1.1.1.1.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4233960" y="24382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Chris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4196880" y="257508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Pati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4530240" y="2879640"/>
            <a:ext cx="49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ICN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6368400" y="1965240"/>
            <a:ext cx="49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ICN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027480" y="211788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cord cha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6193080" y="227016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cha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"/>
          <p:cNvSpPr/>
          <p:nvPr/>
        </p:nvSpPr>
        <p:spPr>
          <a:xfrm>
            <a:off x="3349800" y="905040"/>
            <a:ext cx="137448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762120" y="765000"/>
            <a:ext cx="1406520" cy="205452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552600" y="5396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1095480" y="5716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552600" y="738360"/>
            <a:ext cx="1406520" cy="1855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552600" y="2470320"/>
            <a:ext cx="1406520" cy="1234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580680" y="7603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579960" y="9018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579960" y="10414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578520" y="118440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581040" y="13255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79960" y="14684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79600" y="16095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579960" y="17496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581040" y="1892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581760" y="20336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580320" y="217656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016360" y="11080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1968480" y="10825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2685240" y="957240"/>
            <a:ext cx="36036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2071440" y="957240"/>
            <a:ext cx="19728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 flipH="1">
            <a:off x="1968480" y="19843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561760" y="1857240"/>
            <a:ext cx="38016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2038680" y="1857240"/>
            <a:ext cx="21708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2021400" y="2000160"/>
            <a:ext cx="11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 flipV="1">
            <a:off x="1262160" y="2606400"/>
            <a:ext cx="1440" cy="39996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195560" y="260676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 flipV="1">
            <a:off x="3803760" y="2558880"/>
            <a:ext cx="1440" cy="44784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665360" y="3666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2381400" y="36608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602080" y="223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085760" y="3898800"/>
            <a:ext cx="1995480" cy="19605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747800" y="39830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085760" y="4145040"/>
            <a:ext cx="1995480" cy="17143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085760" y="5727600"/>
            <a:ext cx="1995480" cy="131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107360" y="415908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1108440" y="4302000"/>
            <a:ext cx="71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mr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107000" y="4443480"/>
            <a:ext cx="72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_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1106280" y="458460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106640" y="47275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nction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106640" y="4867200"/>
            <a:ext cx="1085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wareness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106280" y="5010120"/>
            <a:ext cx="95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104120" y="5151600"/>
            <a:ext cx="191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ounter_accommodati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1107000" y="52927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108080" y="54356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 flipH="1">
            <a:off x="3096720" y="4906800"/>
            <a:ext cx="7606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3538440" y="4756320"/>
            <a:ext cx="1191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 flipH="1">
            <a:off x="2284560" y="2376360"/>
            <a:ext cx="80640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 flipV="1">
            <a:off x="2284560" y="2376000"/>
            <a:ext cx="1440" cy="1522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6171840" y="5943600"/>
            <a:ext cx="274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adapted from RIM V1.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600880" y="647640"/>
            <a:ext cx="1204560" cy="70812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5692320" y="684360"/>
            <a:ext cx="53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5600880" y="855720"/>
            <a:ext cx="1204560" cy="5000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5600880" y="1231920"/>
            <a:ext cx="120456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5623560" y="8701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5625360" y="101124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114720" y="638280"/>
            <a:ext cx="137484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3666960" y="6746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3114720" y="846000"/>
            <a:ext cx="1374840" cy="1706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114720" y="2428920"/>
            <a:ext cx="137484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3138840" y="860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3137760" y="10033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3139920" y="114444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139200" y="12859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3137760" y="1427040"/>
            <a:ext cx="1462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onNumber : LIST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140640" y="156852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137760" y="1711440"/>
            <a:ext cx="97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3139920" y="1852560"/>
            <a:ext cx="842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dr : SET&lt;AD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3139200" y="19940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3139920" y="2135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563000" y="90792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H="1">
            <a:off x="4495320" y="903240"/>
            <a:ext cx="108900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158440" y="771480"/>
            <a:ext cx="43056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418360" y="90792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510440" y="768240"/>
            <a:ext cx="21708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our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63000" y="90792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563000" y="127620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 flipH="1">
            <a:off x="4495320" y="1270080"/>
            <a:ext cx="1089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5055120" y="1138320"/>
            <a:ext cx="38772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inboundLin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418360" y="127620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14040" y="1135080"/>
            <a:ext cx="18360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563000" y="127620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738600" y="2558880"/>
            <a:ext cx="133200" cy="179640"/>
          </a:xfrm>
          <a:custGeom>
            <a:avLst/>
            <a:gdLst/>
            <a:ahLst/>
            <a:rect l="l" t="t" r="r" b="b"/>
            <a:pathLst>
              <a:path w="167" h="226">
                <a:moveTo>
                  <a:pt x="83" y="0"/>
                </a:moveTo>
                <a:lnTo>
                  <a:pt x="167" y="226"/>
                </a:lnTo>
                <a:lnTo>
                  <a:pt x="0" y="226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2914920" y="110808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2914920" y="20001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2892960" y="2411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510240" y="3720960"/>
            <a:ext cx="1158840" cy="191484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6652800" y="3755880"/>
            <a:ext cx="87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510240" y="3919680"/>
            <a:ext cx="1158840" cy="17161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6510240" y="5502240"/>
            <a:ext cx="1158840" cy="1335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6535080" y="39355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6533280" y="4076640"/>
            <a:ext cx="91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vers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534000" y="4218120"/>
            <a:ext cx="1188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quence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534720" y="4359240"/>
            <a:ext cx="103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535440" y="4500720"/>
            <a:ext cx="75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use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6533280" y="4643280"/>
            <a:ext cx="10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eckpoin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6535080" y="4784760"/>
            <a:ext cx="735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li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535080" y="492588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i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6533640" y="5067360"/>
            <a:ext cx="89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gat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533280" y="5208480"/>
            <a:ext cx="1113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junctio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3825720" y="368460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4573080" y="371952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825720" y="387972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3825720" y="621972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850920" y="3898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3851280" y="404028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3850200" y="4181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3851640" y="4322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3850200" y="44640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3849840" y="46069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3849840" y="474804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847320" y="488952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3849840" y="503064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3848400" y="517212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3849480" y="531504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3848040" y="545616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3848760" y="559908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3851280" y="573876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3848760" y="58802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611880" y="4967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 flipH="1">
            <a:off x="5502240" y="473076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6107760" y="3895560"/>
            <a:ext cx="43056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5539680" y="3895560"/>
            <a:ext cx="43344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5619960" y="478620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6329520" y="478620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 flipH="1">
            <a:off x="5502240" y="407052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6071040" y="4541760"/>
            <a:ext cx="33912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329520" y="41306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5555520" y="4541760"/>
            <a:ext cx="18360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5619960" y="413064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flipV="1">
            <a:off x="4664160" y="6356520"/>
            <a:ext cx="144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4597560" y="635652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4900680" y="1874520"/>
            <a:ext cx="377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pping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 th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I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5" name=""/>
          <p:cNvSpPr/>
          <p:nvPr/>
        </p:nvSpPr>
        <p:spPr>
          <a:xfrm>
            <a:off x="1289880" y="198108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us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658320" y="211788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3963240" y="211788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24535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5495040" y="211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4694400" y="196524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gister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Nur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4108320" y="2575080"/>
            <a:ext cx="127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B.2.1.1.1.1.1.1.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3627000" y="257508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Pati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331960" y="2575080"/>
            <a:ext cx="49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ICN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4318200" y="5699160"/>
            <a:ext cx="25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312853008 Medical Record Review      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4150800" y="4267080"/>
            <a:ext cx="117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Reviewed Cha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1487880" y="259092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Chris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NOMED in the HL7 RI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04800" y="1447920"/>
            <a:ext cx="7553520" cy="5092560"/>
            <a:chOff x="604800" y="1447920"/>
            <a:chExt cx="7553520" cy="5092560"/>
          </a:xfrm>
        </p:grpSpPr>
        <p:sp>
          <p:nvSpPr>
            <p:cNvPr id="159" name=""/>
            <p:cNvSpPr/>
            <p:nvPr/>
          </p:nvSpPr>
          <p:spPr>
            <a:xfrm>
              <a:off x="604800" y="1447920"/>
              <a:ext cx="1604880" cy="5814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Subjec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52680" y="1447920"/>
              <a:ext cx="2057400" cy="5814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Predicat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48400" y="1447920"/>
              <a:ext cx="1604880" cy="5814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Objec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209320" y="175248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5409720" y="175248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480" y="2506680"/>
              <a:ext cx="1605240" cy="947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bserv-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57720" y="2506680"/>
              <a:ext cx="2057400" cy="11912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rticipation Subj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53080" y="2506680"/>
              <a:ext cx="1605240" cy="5205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at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4360" y="281160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414760" y="281160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480" y="4184640"/>
              <a:ext cx="1605240" cy="947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racture of Femu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57720" y="4184640"/>
              <a:ext cx="2057400" cy="825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inding S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53080" y="4184640"/>
              <a:ext cx="1605240" cy="916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ructure of Neck of Femu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4360" y="448956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414760" y="448956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2680" y="5175360"/>
              <a:ext cx="2057400" cy="11912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ssociated Morpholog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48400" y="5264280"/>
              <a:ext cx="1604880" cy="6426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ression Fractu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209320" y="547992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409720" y="547992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914400" y="3205080"/>
              <a:ext cx="6620400" cy="3335400"/>
              <a:chOff x="914400" y="3205080"/>
              <a:chExt cx="6620400" cy="333540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914400" y="3504960"/>
                <a:ext cx="914400" cy="685080"/>
                <a:chOff x="914400" y="3504960"/>
                <a:chExt cx="914400" cy="6850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914400" y="3676320"/>
                  <a:ext cx="914400" cy="3427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hasResult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1371600" y="3504960"/>
                  <a:ext cx="1440" cy="171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1371600" y="4019040"/>
                  <a:ext cx="1440" cy="171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5788440" y="3205080"/>
                <a:ext cx="1600920" cy="520560"/>
              </a:xfrm>
              <a:prstGeom prst="rect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HL7 RIM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98160" y="6019920"/>
                <a:ext cx="1736640" cy="520560"/>
              </a:xfrm>
              <a:prstGeom prst="rect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SNOMED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positions &amp; Asser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positions in RDF trip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ject | Predicate | Obj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positions may be true or fal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ertions are believed by the author to be tr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3657600"/>
            <a:ext cx="923760" cy="23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14840" y="3657600"/>
            <a:ext cx="1184040" cy="23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edica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54800" y="3657600"/>
            <a:ext cx="923760" cy="23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057480" y="3814920"/>
            <a:ext cx="657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900320" y="3814920"/>
            <a:ext cx="657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6600" y="4203720"/>
            <a:ext cx="924120" cy="23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bserv-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18080" y="4203720"/>
            <a:ext cx="1184040" cy="505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rticipation Subje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57680" y="4203720"/>
            <a:ext cx="924120" cy="23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ti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060720" y="4361040"/>
            <a:ext cx="657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902120" y="4361040"/>
            <a:ext cx="658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6600" y="5067360"/>
            <a:ext cx="924120" cy="36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racture of Femu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18080" y="5067360"/>
            <a:ext cx="1184040" cy="36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inding 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57680" y="5067360"/>
            <a:ext cx="924120" cy="505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ructure of Neck of Femu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060720" y="5224320"/>
            <a:ext cx="657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902120" y="5224320"/>
            <a:ext cx="658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14840" y="5576760"/>
            <a:ext cx="1184040" cy="505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ssociated Morpholog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54800" y="5626080"/>
            <a:ext cx="923760" cy="36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mpression Fractu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057480" y="5735520"/>
            <a:ext cx="657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900320" y="5735520"/>
            <a:ext cx="657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311560" y="4495680"/>
            <a:ext cx="527040" cy="533160"/>
            <a:chOff x="2311560" y="4495680"/>
            <a:chExt cx="527040" cy="533160"/>
          </a:xfrm>
        </p:grpSpPr>
        <p:sp>
          <p:nvSpPr>
            <p:cNvPr id="207" name=""/>
            <p:cNvSpPr/>
            <p:nvPr/>
          </p:nvSpPr>
          <p:spPr>
            <a:xfrm>
              <a:off x="2311560" y="4628880"/>
              <a:ext cx="527040" cy="266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hasResul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575080" y="4495680"/>
              <a:ext cx="720" cy="13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575080" y="4895640"/>
              <a:ext cx="720" cy="13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259600" y="4673520"/>
            <a:ext cx="637920" cy="2311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3300"/>
                </a:solidFill>
                <a:latin typeface="Arial"/>
              </a:rPr>
              <a:t>HL7 RI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82640" y="6299280"/>
            <a:ext cx="680760" cy="2311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3300"/>
                </a:solidFill>
                <a:latin typeface="Arial"/>
              </a:rPr>
              <a:t>SNOM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ntologies:  Mass &amp; Energy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971800" y="1219320"/>
            <a:ext cx="5810400" cy="5433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102320" y="1447920"/>
            <a:ext cx="3364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Proposition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e=mc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736560" y="1392120"/>
            <a:ext cx="2822400" cy="2447640"/>
            <a:chOff x="736560" y="1392120"/>
            <a:chExt cx="2822400" cy="2447640"/>
          </a:xfrm>
        </p:grpSpPr>
        <p:sp>
          <p:nvSpPr>
            <p:cNvPr id="216" name=""/>
            <p:cNvSpPr/>
            <p:nvPr/>
          </p:nvSpPr>
          <p:spPr>
            <a:xfrm>
              <a:off x="921960" y="2057400"/>
              <a:ext cx="324720" cy="606600"/>
            </a:xfrm>
            <a:custGeom>
              <a:avLst/>
              <a:gdLst/>
              <a:ahLst/>
              <a:rect l="l" t="t" r="r" b="b"/>
              <a:pathLst>
                <a:path w="220" h="437">
                  <a:moveTo>
                    <a:pt x="73" y="175"/>
                  </a:moveTo>
                  <a:lnTo>
                    <a:pt x="87" y="150"/>
                  </a:lnTo>
                  <a:lnTo>
                    <a:pt x="101" y="126"/>
                  </a:lnTo>
                  <a:lnTo>
                    <a:pt x="119" y="103"/>
                  </a:lnTo>
                  <a:lnTo>
                    <a:pt x="136" y="80"/>
                  </a:lnTo>
                  <a:lnTo>
                    <a:pt x="156" y="59"/>
                  </a:lnTo>
                  <a:lnTo>
                    <a:pt x="176" y="38"/>
                  </a:lnTo>
                  <a:lnTo>
                    <a:pt x="198" y="19"/>
                  </a:lnTo>
                  <a:lnTo>
                    <a:pt x="220" y="0"/>
                  </a:lnTo>
                  <a:lnTo>
                    <a:pt x="204" y="27"/>
                  </a:lnTo>
                  <a:lnTo>
                    <a:pt x="188" y="53"/>
                  </a:lnTo>
                  <a:lnTo>
                    <a:pt x="172" y="80"/>
                  </a:lnTo>
                  <a:lnTo>
                    <a:pt x="156" y="106"/>
                  </a:lnTo>
                  <a:lnTo>
                    <a:pt x="141" y="133"/>
                  </a:lnTo>
                  <a:lnTo>
                    <a:pt x="126" y="159"/>
                  </a:lnTo>
                  <a:lnTo>
                    <a:pt x="111" y="187"/>
                  </a:lnTo>
                  <a:lnTo>
                    <a:pt x="97" y="213"/>
                  </a:lnTo>
                  <a:lnTo>
                    <a:pt x="83" y="241"/>
                  </a:lnTo>
                  <a:lnTo>
                    <a:pt x="69" y="269"/>
                  </a:lnTo>
                  <a:lnTo>
                    <a:pt x="57" y="296"/>
                  </a:lnTo>
                  <a:lnTo>
                    <a:pt x="44" y="324"/>
                  </a:lnTo>
                  <a:lnTo>
                    <a:pt x="32" y="352"/>
                  </a:lnTo>
                  <a:lnTo>
                    <a:pt x="21" y="380"/>
                  </a:lnTo>
                  <a:lnTo>
                    <a:pt x="10" y="408"/>
                  </a:lnTo>
                  <a:lnTo>
                    <a:pt x="0" y="437"/>
                  </a:lnTo>
                  <a:lnTo>
                    <a:pt x="2" y="402"/>
                  </a:lnTo>
                  <a:lnTo>
                    <a:pt x="6" y="369"/>
                  </a:lnTo>
                  <a:lnTo>
                    <a:pt x="13" y="336"/>
                  </a:lnTo>
                  <a:lnTo>
                    <a:pt x="21" y="302"/>
                  </a:lnTo>
                  <a:lnTo>
                    <a:pt x="32" y="270"/>
                  </a:lnTo>
                  <a:lnTo>
                    <a:pt x="44" y="238"/>
                  </a:lnTo>
                  <a:lnTo>
                    <a:pt x="58" y="207"/>
                  </a:lnTo>
                  <a:lnTo>
                    <a:pt x="73" y="175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6560" y="1392120"/>
              <a:ext cx="2822400" cy="2447640"/>
            </a:xfrm>
            <a:custGeom>
              <a:avLst/>
              <a:gdLst/>
              <a:ahLst/>
              <a:rect l="l" t="t" r="r" b="b"/>
              <a:pathLst>
                <a:path w="1909" h="1758">
                  <a:moveTo>
                    <a:pt x="1592" y="406"/>
                  </a:moveTo>
                  <a:lnTo>
                    <a:pt x="1676" y="418"/>
                  </a:lnTo>
                  <a:lnTo>
                    <a:pt x="1678" y="403"/>
                  </a:lnTo>
                  <a:lnTo>
                    <a:pt x="1681" y="388"/>
                  </a:lnTo>
                  <a:lnTo>
                    <a:pt x="1687" y="376"/>
                  </a:lnTo>
                  <a:lnTo>
                    <a:pt x="1695" y="362"/>
                  </a:lnTo>
                  <a:lnTo>
                    <a:pt x="1703" y="350"/>
                  </a:lnTo>
                  <a:lnTo>
                    <a:pt x="1713" y="339"/>
                  </a:lnTo>
                  <a:lnTo>
                    <a:pt x="1724" y="327"/>
                  </a:lnTo>
                  <a:lnTo>
                    <a:pt x="1735" y="317"/>
                  </a:lnTo>
                  <a:lnTo>
                    <a:pt x="1739" y="305"/>
                  </a:lnTo>
                  <a:lnTo>
                    <a:pt x="1746" y="294"/>
                  </a:lnTo>
                  <a:lnTo>
                    <a:pt x="1749" y="284"/>
                  </a:lnTo>
                  <a:lnTo>
                    <a:pt x="1740" y="273"/>
                  </a:lnTo>
                  <a:lnTo>
                    <a:pt x="1734" y="258"/>
                  </a:lnTo>
                  <a:lnTo>
                    <a:pt x="1733" y="247"/>
                  </a:lnTo>
                  <a:lnTo>
                    <a:pt x="1736" y="236"/>
                  </a:lnTo>
                  <a:lnTo>
                    <a:pt x="1746" y="228"/>
                  </a:lnTo>
                  <a:lnTo>
                    <a:pt x="1750" y="225"/>
                  </a:lnTo>
                  <a:lnTo>
                    <a:pt x="1756" y="223"/>
                  </a:lnTo>
                  <a:lnTo>
                    <a:pt x="1761" y="220"/>
                  </a:lnTo>
                  <a:lnTo>
                    <a:pt x="1766" y="218"/>
                  </a:lnTo>
                  <a:lnTo>
                    <a:pt x="1772" y="217"/>
                  </a:lnTo>
                  <a:lnTo>
                    <a:pt x="1779" y="217"/>
                  </a:lnTo>
                  <a:lnTo>
                    <a:pt x="1785" y="217"/>
                  </a:lnTo>
                  <a:lnTo>
                    <a:pt x="1791" y="218"/>
                  </a:lnTo>
                  <a:lnTo>
                    <a:pt x="1797" y="221"/>
                  </a:lnTo>
                  <a:lnTo>
                    <a:pt x="1806" y="224"/>
                  </a:lnTo>
                  <a:lnTo>
                    <a:pt x="1815" y="225"/>
                  </a:lnTo>
                  <a:lnTo>
                    <a:pt x="1824" y="226"/>
                  </a:lnTo>
                  <a:lnTo>
                    <a:pt x="1833" y="227"/>
                  </a:lnTo>
                  <a:lnTo>
                    <a:pt x="1841" y="231"/>
                  </a:lnTo>
                  <a:lnTo>
                    <a:pt x="1849" y="235"/>
                  </a:lnTo>
                  <a:lnTo>
                    <a:pt x="1856" y="242"/>
                  </a:lnTo>
                  <a:lnTo>
                    <a:pt x="1865" y="248"/>
                  </a:lnTo>
                  <a:lnTo>
                    <a:pt x="1874" y="256"/>
                  </a:lnTo>
                  <a:lnTo>
                    <a:pt x="1880" y="264"/>
                  </a:lnTo>
                  <a:lnTo>
                    <a:pt x="1886" y="273"/>
                  </a:lnTo>
                  <a:lnTo>
                    <a:pt x="1892" y="282"/>
                  </a:lnTo>
                  <a:lnTo>
                    <a:pt x="1897" y="292"/>
                  </a:lnTo>
                  <a:lnTo>
                    <a:pt x="1902" y="302"/>
                  </a:lnTo>
                  <a:lnTo>
                    <a:pt x="1907" y="311"/>
                  </a:lnTo>
                  <a:lnTo>
                    <a:pt x="1909" y="330"/>
                  </a:lnTo>
                  <a:lnTo>
                    <a:pt x="1907" y="347"/>
                  </a:lnTo>
                  <a:lnTo>
                    <a:pt x="1902" y="364"/>
                  </a:lnTo>
                  <a:lnTo>
                    <a:pt x="1893" y="380"/>
                  </a:lnTo>
                  <a:lnTo>
                    <a:pt x="1898" y="390"/>
                  </a:lnTo>
                  <a:lnTo>
                    <a:pt x="1902" y="400"/>
                  </a:lnTo>
                  <a:lnTo>
                    <a:pt x="1902" y="411"/>
                  </a:lnTo>
                  <a:lnTo>
                    <a:pt x="1897" y="421"/>
                  </a:lnTo>
                  <a:lnTo>
                    <a:pt x="1890" y="429"/>
                  </a:lnTo>
                  <a:lnTo>
                    <a:pt x="1882" y="433"/>
                  </a:lnTo>
                  <a:lnTo>
                    <a:pt x="1874" y="438"/>
                  </a:lnTo>
                  <a:lnTo>
                    <a:pt x="1864" y="440"/>
                  </a:lnTo>
                  <a:lnTo>
                    <a:pt x="1855" y="443"/>
                  </a:lnTo>
                  <a:lnTo>
                    <a:pt x="1847" y="446"/>
                  </a:lnTo>
                  <a:lnTo>
                    <a:pt x="1839" y="451"/>
                  </a:lnTo>
                  <a:lnTo>
                    <a:pt x="1833" y="459"/>
                  </a:lnTo>
                  <a:lnTo>
                    <a:pt x="1846" y="474"/>
                  </a:lnTo>
                  <a:lnTo>
                    <a:pt x="1856" y="490"/>
                  </a:lnTo>
                  <a:lnTo>
                    <a:pt x="1864" y="508"/>
                  </a:lnTo>
                  <a:lnTo>
                    <a:pt x="1871" y="526"/>
                  </a:lnTo>
                  <a:lnTo>
                    <a:pt x="1876" y="545"/>
                  </a:lnTo>
                  <a:lnTo>
                    <a:pt x="1879" y="565"/>
                  </a:lnTo>
                  <a:lnTo>
                    <a:pt x="1883" y="584"/>
                  </a:lnTo>
                  <a:lnTo>
                    <a:pt x="1886" y="604"/>
                  </a:lnTo>
                  <a:lnTo>
                    <a:pt x="1886" y="627"/>
                  </a:lnTo>
                  <a:lnTo>
                    <a:pt x="1884" y="648"/>
                  </a:lnTo>
                  <a:lnTo>
                    <a:pt x="1879" y="668"/>
                  </a:lnTo>
                  <a:lnTo>
                    <a:pt x="1874" y="689"/>
                  </a:lnTo>
                  <a:lnTo>
                    <a:pt x="1867" y="709"/>
                  </a:lnTo>
                  <a:lnTo>
                    <a:pt x="1857" y="727"/>
                  </a:lnTo>
                  <a:lnTo>
                    <a:pt x="1846" y="746"/>
                  </a:lnTo>
                  <a:lnTo>
                    <a:pt x="1834" y="763"/>
                  </a:lnTo>
                  <a:lnTo>
                    <a:pt x="1847" y="808"/>
                  </a:lnTo>
                  <a:lnTo>
                    <a:pt x="1849" y="856"/>
                  </a:lnTo>
                  <a:lnTo>
                    <a:pt x="1845" y="906"/>
                  </a:lnTo>
                  <a:lnTo>
                    <a:pt x="1837" y="952"/>
                  </a:lnTo>
                  <a:lnTo>
                    <a:pt x="1848" y="1001"/>
                  </a:lnTo>
                  <a:lnTo>
                    <a:pt x="1849" y="1052"/>
                  </a:lnTo>
                  <a:lnTo>
                    <a:pt x="1842" y="1103"/>
                  </a:lnTo>
                  <a:lnTo>
                    <a:pt x="1826" y="1150"/>
                  </a:lnTo>
                  <a:lnTo>
                    <a:pt x="1834" y="1167"/>
                  </a:lnTo>
                  <a:lnTo>
                    <a:pt x="1841" y="1186"/>
                  </a:lnTo>
                  <a:lnTo>
                    <a:pt x="1842" y="1204"/>
                  </a:lnTo>
                  <a:lnTo>
                    <a:pt x="1834" y="1221"/>
                  </a:lnTo>
                  <a:lnTo>
                    <a:pt x="1830" y="1225"/>
                  </a:lnTo>
                  <a:lnTo>
                    <a:pt x="1826" y="1229"/>
                  </a:lnTo>
                  <a:lnTo>
                    <a:pt x="1822" y="1234"/>
                  </a:lnTo>
                  <a:lnTo>
                    <a:pt x="1817" y="1239"/>
                  </a:lnTo>
                  <a:lnTo>
                    <a:pt x="1812" y="1242"/>
                  </a:lnTo>
                  <a:lnTo>
                    <a:pt x="1807" y="1246"/>
                  </a:lnTo>
                  <a:lnTo>
                    <a:pt x="1801" y="1247"/>
                  </a:lnTo>
                  <a:lnTo>
                    <a:pt x="1794" y="1247"/>
                  </a:lnTo>
                  <a:lnTo>
                    <a:pt x="1786" y="1234"/>
                  </a:lnTo>
                  <a:lnTo>
                    <a:pt x="1779" y="1220"/>
                  </a:lnTo>
                  <a:lnTo>
                    <a:pt x="1774" y="1206"/>
                  </a:lnTo>
                  <a:lnTo>
                    <a:pt x="1770" y="1191"/>
                  </a:lnTo>
                  <a:lnTo>
                    <a:pt x="1782" y="1137"/>
                  </a:lnTo>
                  <a:lnTo>
                    <a:pt x="1765" y="1112"/>
                  </a:lnTo>
                  <a:lnTo>
                    <a:pt x="1747" y="1087"/>
                  </a:lnTo>
                  <a:lnTo>
                    <a:pt x="1727" y="1061"/>
                  </a:lnTo>
                  <a:lnTo>
                    <a:pt x="1709" y="1036"/>
                  </a:lnTo>
                  <a:lnTo>
                    <a:pt x="1689" y="1011"/>
                  </a:lnTo>
                  <a:lnTo>
                    <a:pt x="1671" y="985"/>
                  </a:lnTo>
                  <a:lnTo>
                    <a:pt x="1652" y="959"/>
                  </a:lnTo>
                  <a:lnTo>
                    <a:pt x="1636" y="932"/>
                  </a:lnTo>
                  <a:lnTo>
                    <a:pt x="1622" y="973"/>
                  </a:lnTo>
                  <a:lnTo>
                    <a:pt x="1606" y="1011"/>
                  </a:lnTo>
                  <a:lnTo>
                    <a:pt x="1588" y="1050"/>
                  </a:lnTo>
                  <a:lnTo>
                    <a:pt x="1568" y="1087"/>
                  </a:lnTo>
                  <a:lnTo>
                    <a:pt x="1545" y="1122"/>
                  </a:lnTo>
                  <a:lnTo>
                    <a:pt x="1520" y="1158"/>
                  </a:lnTo>
                  <a:lnTo>
                    <a:pt x="1492" y="1191"/>
                  </a:lnTo>
                  <a:lnTo>
                    <a:pt x="1461" y="1224"/>
                  </a:lnTo>
                  <a:lnTo>
                    <a:pt x="1471" y="1256"/>
                  </a:lnTo>
                  <a:lnTo>
                    <a:pt x="1484" y="1287"/>
                  </a:lnTo>
                  <a:lnTo>
                    <a:pt x="1496" y="1319"/>
                  </a:lnTo>
                  <a:lnTo>
                    <a:pt x="1507" y="1352"/>
                  </a:lnTo>
                  <a:lnTo>
                    <a:pt x="1517" y="1384"/>
                  </a:lnTo>
                  <a:lnTo>
                    <a:pt x="1525" y="1416"/>
                  </a:lnTo>
                  <a:lnTo>
                    <a:pt x="1531" y="1451"/>
                  </a:lnTo>
                  <a:lnTo>
                    <a:pt x="1534" y="1486"/>
                  </a:lnTo>
                  <a:lnTo>
                    <a:pt x="1530" y="1493"/>
                  </a:lnTo>
                  <a:lnTo>
                    <a:pt x="1524" y="1497"/>
                  </a:lnTo>
                  <a:lnTo>
                    <a:pt x="1517" y="1498"/>
                  </a:lnTo>
                  <a:lnTo>
                    <a:pt x="1510" y="1498"/>
                  </a:lnTo>
                  <a:lnTo>
                    <a:pt x="1504" y="1499"/>
                  </a:lnTo>
                  <a:lnTo>
                    <a:pt x="1498" y="1501"/>
                  </a:lnTo>
                  <a:lnTo>
                    <a:pt x="1496" y="1505"/>
                  </a:lnTo>
                  <a:lnTo>
                    <a:pt x="1496" y="1513"/>
                  </a:lnTo>
                  <a:lnTo>
                    <a:pt x="1498" y="1529"/>
                  </a:lnTo>
                  <a:lnTo>
                    <a:pt x="1498" y="1546"/>
                  </a:lnTo>
                  <a:lnTo>
                    <a:pt x="1496" y="1564"/>
                  </a:lnTo>
                  <a:lnTo>
                    <a:pt x="1489" y="1582"/>
                  </a:lnTo>
                  <a:lnTo>
                    <a:pt x="1485" y="1589"/>
                  </a:lnTo>
                  <a:lnTo>
                    <a:pt x="1478" y="1595"/>
                  </a:lnTo>
                  <a:lnTo>
                    <a:pt x="1470" y="1599"/>
                  </a:lnTo>
                  <a:lnTo>
                    <a:pt x="1461" y="1602"/>
                  </a:lnTo>
                  <a:lnTo>
                    <a:pt x="1461" y="1608"/>
                  </a:lnTo>
                  <a:lnTo>
                    <a:pt x="1463" y="1617"/>
                  </a:lnTo>
                  <a:lnTo>
                    <a:pt x="1467" y="1623"/>
                  </a:lnTo>
                  <a:lnTo>
                    <a:pt x="1468" y="1630"/>
                  </a:lnTo>
                  <a:lnTo>
                    <a:pt x="1475" y="1632"/>
                  </a:lnTo>
                  <a:lnTo>
                    <a:pt x="1483" y="1634"/>
                  </a:lnTo>
                  <a:lnTo>
                    <a:pt x="1491" y="1637"/>
                  </a:lnTo>
                  <a:lnTo>
                    <a:pt x="1500" y="1640"/>
                  </a:lnTo>
                  <a:lnTo>
                    <a:pt x="1508" y="1643"/>
                  </a:lnTo>
                  <a:lnTo>
                    <a:pt x="1514" y="1645"/>
                  </a:lnTo>
                  <a:lnTo>
                    <a:pt x="1519" y="1649"/>
                  </a:lnTo>
                  <a:lnTo>
                    <a:pt x="1520" y="1651"/>
                  </a:lnTo>
                  <a:lnTo>
                    <a:pt x="1510" y="1659"/>
                  </a:lnTo>
                  <a:lnTo>
                    <a:pt x="1500" y="1665"/>
                  </a:lnTo>
                  <a:lnTo>
                    <a:pt x="1489" y="1670"/>
                  </a:lnTo>
                  <a:lnTo>
                    <a:pt x="1478" y="1674"/>
                  </a:lnTo>
                  <a:lnTo>
                    <a:pt x="1466" y="1676"/>
                  </a:lnTo>
                  <a:lnTo>
                    <a:pt x="1454" y="1680"/>
                  </a:lnTo>
                  <a:lnTo>
                    <a:pt x="1444" y="1683"/>
                  </a:lnTo>
                  <a:lnTo>
                    <a:pt x="1432" y="1687"/>
                  </a:lnTo>
                  <a:lnTo>
                    <a:pt x="1419" y="1685"/>
                  </a:lnTo>
                  <a:lnTo>
                    <a:pt x="1413" y="1679"/>
                  </a:lnTo>
                  <a:lnTo>
                    <a:pt x="1408" y="1670"/>
                  </a:lnTo>
                  <a:lnTo>
                    <a:pt x="1407" y="1659"/>
                  </a:lnTo>
                  <a:lnTo>
                    <a:pt x="1407" y="1648"/>
                  </a:lnTo>
                  <a:lnTo>
                    <a:pt x="1407" y="1636"/>
                  </a:lnTo>
                  <a:lnTo>
                    <a:pt x="1404" y="1626"/>
                  </a:lnTo>
                  <a:lnTo>
                    <a:pt x="1399" y="1618"/>
                  </a:lnTo>
                  <a:lnTo>
                    <a:pt x="1305" y="1660"/>
                  </a:lnTo>
                  <a:lnTo>
                    <a:pt x="1309" y="1668"/>
                  </a:lnTo>
                  <a:lnTo>
                    <a:pt x="1305" y="1678"/>
                  </a:lnTo>
                  <a:lnTo>
                    <a:pt x="1300" y="1686"/>
                  </a:lnTo>
                  <a:lnTo>
                    <a:pt x="1297" y="1696"/>
                  </a:lnTo>
                  <a:lnTo>
                    <a:pt x="1294" y="1711"/>
                  </a:lnTo>
                  <a:lnTo>
                    <a:pt x="1289" y="1727"/>
                  </a:lnTo>
                  <a:lnTo>
                    <a:pt x="1281" y="1739"/>
                  </a:lnTo>
                  <a:lnTo>
                    <a:pt x="1267" y="1746"/>
                  </a:lnTo>
                  <a:lnTo>
                    <a:pt x="1257" y="1748"/>
                  </a:lnTo>
                  <a:lnTo>
                    <a:pt x="1245" y="1750"/>
                  </a:lnTo>
                  <a:lnTo>
                    <a:pt x="1234" y="1754"/>
                  </a:lnTo>
                  <a:lnTo>
                    <a:pt x="1222" y="1757"/>
                  </a:lnTo>
                  <a:lnTo>
                    <a:pt x="1211" y="1758"/>
                  </a:lnTo>
                  <a:lnTo>
                    <a:pt x="1200" y="1758"/>
                  </a:lnTo>
                  <a:lnTo>
                    <a:pt x="1190" y="1756"/>
                  </a:lnTo>
                  <a:lnTo>
                    <a:pt x="1181" y="1750"/>
                  </a:lnTo>
                  <a:lnTo>
                    <a:pt x="1185" y="1741"/>
                  </a:lnTo>
                  <a:lnTo>
                    <a:pt x="1192" y="1733"/>
                  </a:lnTo>
                  <a:lnTo>
                    <a:pt x="1202" y="1726"/>
                  </a:lnTo>
                  <a:lnTo>
                    <a:pt x="1211" y="1719"/>
                  </a:lnTo>
                  <a:lnTo>
                    <a:pt x="1215" y="1709"/>
                  </a:lnTo>
                  <a:lnTo>
                    <a:pt x="1222" y="1698"/>
                  </a:lnTo>
                  <a:lnTo>
                    <a:pt x="1226" y="1688"/>
                  </a:lnTo>
                  <a:lnTo>
                    <a:pt x="1225" y="1675"/>
                  </a:lnTo>
                  <a:lnTo>
                    <a:pt x="1219" y="1674"/>
                  </a:lnTo>
                  <a:lnTo>
                    <a:pt x="1213" y="1673"/>
                  </a:lnTo>
                  <a:lnTo>
                    <a:pt x="1207" y="1672"/>
                  </a:lnTo>
                  <a:lnTo>
                    <a:pt x="1202" y="1671"/>
                  </a:lnTo>
                  <a:lnTo>
                    <a:pt x="1196" y="1670"/>
                  </a:lnTo>
                  <a:lnTo>
                    <a:pt x="1191" y="1667"/>
                  </a:lnTo>
                  <a:lnTo>
                    <a:pt x="1185" y="1664"/>
                  </a:lnTo>
                  <a:lnTo>
                    <a:pt x="1181" y="1660"/>
                  </a:lnTo>
                  <a:lnTo>
                    <a:pt x="1179" y="1655"/>
                  </a:lnTo>
                  <a:lnTo>
                    <a:pt x="1179" y="1646"/>
                  </a:lnTo>
                  <a:lnTo>
                    <a:pt x="1180" y="1637"/>
                  </a:lnTo>
                  <a:lnTo>
                    <a:pt x="1180" y="1627"/>
                  </a:lnTo>
                  <a:lnTo>
                    <a:pt x="1179" y="1619"/>
                  </a:lnTo>
                  <a:lnTo>
                    <a:pt x="1176" y="1613"/>
                  </a:lnTo>
                  <a:lnTo>
                    <a:pt x="1169" y="1611"/>
                  </a:lnTo>
                  <a:lnTo>
                    <a:pt x="1158" y="1612"/>
                  </a:lnTo>
                  <a:lnTo>
                    <a:pt x="1147" y="1411"/>
                  </a:lnTo>
                  <a:lnTo>
                    <a:pt x="1124" y="1417"/>
                  </a:lnTo>
                  <a:lnTo>
                    <a:pt x="1101" y="1422"/>
                  </a:lnTo>
                  <a:lnTo>
                    <a:pt x="1077" y="1425"/>
                  </a:lnTo>
                  <a:lnTo>
                    <a:pt x="1053" y="1429"/>
                  </a:lnTo>
                  <a:lnTo>
                    <a:pt x="1028" y="1432"/>
                  </a:lnTo>
                  <a:lnTo>
                    <a:pt x="1002" y="1435"/>
                  </a:lnTo>
                  <a:lnTo>
                    <a:pt x="977" y="1436"/>
                  </a:lnTo>
                  <a:lnTo>
                    <a:pt x="952" y="1437"/>
                  </a:lnTo>
                  <a:lnTo>
                    <a:pt x="926" y="1437"/>
                  </a:lnTo>
                  <a:lnTo>
                    <a:pt x="901" y="1436"/>
                  </a:lnTo>
                  <a:lnTo>
                    <a:pt x="875" y="1433"/>
                  </a:lnTo>
                  <a:lnTo>
                    <a:pt x="850" y="1431"/>
                  </a:lnTo>
                  <a:lnTo>
                    <a:pt x="826" y="1428"/>
                  </a:lnTo>
                  <a:lnTo>
                    <a:pt x="802" y="1423"/>
                  </a:lnTo>
                  <a:lnTo>
                    <a:pt x="779" y="1418"/>
                  </a:lnTo>
                  <a:lnTo>
                    <a:pt x="756" y="1411"/>
                  </a:lnTo>
                  <a:lnTo>
                    <a:pt x="757" y="1423"/>
                  </a:lnTo>
                  <a:lnTo>
                    <a:pt x="757" y="1436"/>
                  </a:lnTo>
                  <a:lnTo>
                    <a:pt x="753" y="1447"/>
                  </a:lnTo>
                  <a:lnTo>
                    <a:pt x="741" y="1453"/>
                  </a:lnTo>
                  <a:lnTo>
                    <a:pt x="733" y="1453"/>
                  </a:lnTo>
                  <a:lnTo>
                    <a:pt x="736" y="1469"/>
                  </a:lnTo>
                  <a:lnTo>
                    <a:pt x="741" y="1484"/>
                  </a:lnTo>
                  <a:lnTo>
                    <a:pt x="748" y="1500"/>
                  </a:lnTo>
                  <a:lnTo>
                    <a:pt x="753" y="1516"/>
                  </a:lnTo>
                  <a:lnTo>
                    <a:pt x="757" y="1534"/>
                  </a:lnTo>
                  <a:lnTo>
                    <a:pt x="759" y="1550"/>
                  </a:lnTo>
                  <a:lnTo>
                    <a:pt x="756" y="1567"/>
                  </a:lnTo>
                  <a:lnTo>
                    <a:pt x="748" y="1584"/>
                  </a:lnTo>
                  <a:lnTo>
                    <a:pt x="750" y="1605"/>
                  </a:lnTo>
                  <a:lnTo>
                    <a:pt x="754" y="1626"/>
                  </a:lnTo>
                  <a:lnTo>
                    <a:pt x="763" y="1645"/>
                  </a:lnTo>
                  <a:lnTo>
                    <a:pt x="773" y="1664"/>
                  </a:lnTo>
                  <a:lnTo>
                    <a:pt x="786" y="1681"/>
                  </a:lnTo>
                  <a:lnTo>
                    <a:pt x="801" y="1696"/>
                  </a:lnTo>
                  <a:lnTo>
                    <a:pt x="818" y="1708"/>
                  </a:lnTo>
                  <a:lnTo>
                    <a:pt x="837" y="1717"/>
                  </a:lnTo>
                  <a:lnTo>
                    <a:pt x="843" y="1721"/>
                  </a:lnTo>
                  <a:lnTo>
                    <a:pt x="847" y="1727"/>
                  </a:lnTo>
                  <a:lnTo>
                    <a:pt x="849" y="1734"/>
                  </a:lnTo>
                  <a:lnTo>
                    <a:pt x="848" y="1742"/>
                  </a:lnTo>
                  <a:lnTo>
                    <a:pt x="836" y="1744"/>
                  </a:lnTo>
                  <a:lnTo>
                    <a:pt x="825" y="1747"/>
                  </a:lnTo>
                  <a:lnTo>
                    <a:pt x="812" y="1749"/>
                  </a:lnTo>
                  <a:lnTo>
                    <a:pt x="801" y="1751"/>
                  </a:lnTo>
                  <a:lnTo>
                    <a:pt x="788" y="1752"/>
                  </a:lnTo>
                  <a:lnTo>
                    <a:pt x="776" y="1754"/>
                  </a:lnTo>
                  <a:lnTo>
                    <a:pt x="766" y="1752"/>
                  </a:lnTo>
                  <a:lnTo>
                    <a:pt x="756" y="1749"/>
                  </a:lnTo>
                  <a:lnTo>
                    <a:pt x="744" y="1719"/>
                  </a:lnTo>
                  <a:lnTo>
                    <a:pt x="728" y="1712"/>
                  </a:lnTo>
                  <a:lnTo>
                    <a:pt x="712" y="1704"/>
                  </a:lnTo>
                  <a:lnTo>
                    <a:pt x="697" y="1694"/>
                  </a:lnTo>
                  <a:lnTo>
                    <a:pt x="683" y="1682"/>
                  </a:lnTo>
                  <a:lnTo>
                    <a:pt x="668" y="1671"/>
                  </a:lnTo>
                  <a:lnTo>
                    <a:pt x="654" y="1659"/>
                  </a:lnTo>
                  <a:lnTo>
                    <a:pt x="639" y="1649"/>
                  </a:lnTo>
                  <a:lnTo>
                    <a:pt x="624" y="1638"/>
                  </a:lnTo>
                  <a:lnTo>
                    <a:pt x="610" y="1629"/>
                  </a:lnTo>
                  <a:lnTo>
                    <a:pt x="598" y="1621"/>
                  </a:lnTo>
                  <a:lnTo>
                    <a:pt x="585" y="1612"/>
                  </a:lnTo>
                  <a:lnTo>
                    <a:pt x="572" y="1603"/>
                  </a:lnTo>
                  <a:lnTo>
                    <a:pt x="560" y="1592"/>
                  </a:lnTo>
                  <a:lnTo>
                    <a:pt x="547" y="1582"/>
                  </a:lnTo>
                  <a:lnTo>
                    <a:pt x="534" y="1572"/>
                  </a:lnTo>
                  <a:lnTo>
                    <a:pt x="523" y="1559"/>
                  </a:lnTo>
                  <a:lnTo>
                    <a:pt x="516" y="1573"/>
                  </a:lnTo>
                  <a:lnTo>
                    <a:pt x="508" y="1588"/>
                  </a:lnTo>
                  <a:lnTo>
                    <a:pt x="499" y="1600"/>
                  </a:lnTo>
                  <a:lnTo>
                    <a:pt x="489" y="1614"/>
                  </a:lnTo>
                  <a:lnTo>
                    <a:pt x="479" y="1628"/>
                  </a:lnTo>
                  <a:lnTo>
                    <a:pt x="470" y="1642"/>
                  </a:lnTo>
                  <a:lnTo>
                    <a:pt x="462" y="1656"/>
                  </a:lnTo>
                  <a:lnTo>
                    <a:pt x="454" y="1671"/>
                  </a:lnTo>
                  <a:lnTo>
                    <a:pt x="457" y="1678"/>
                  </a:lnTo>
                  <a:lnTo>
                    <a:pt x="463" y="1683"/>
                  </a:lnTo>
                  <a:lnTo>
                    <a:pt x="471" y="1689"/>
                  </a:lnTo>
                  <a:lnTo>
                    <a:pt x="478" y="1695"/>
                  </a:lnTo>
                  <a:lnTo>
                    <a:pt x="484" y="1701"/>
                  </a:lnTo>
                  <a:lnTo>
                    <a:pt x="487" y="1706"/>
                  </a:lnTo>
                  <a:lnTo>
                    <a:pt x="486" y="1712"/>
                  </a:lnTo>
                  <a:lnTo>
                    <a:pt x="479" y="1719"/>
                  </a:lnTo>
                  <a:lnTo>
                    <a:pt x="470" y="1719"/>
                  </a:lnTo>
                  <a:lnTo>
                    <a:pt x="459" y="1720"/>
                  </a:lnTo>
                  <a:lnTo>
                    <a:pt x="448" y="1721"/>
                  </a:lnTo>
                  <a:lnTo>
                    <a:pt x="436" y="1723"/>
                  </a:lnTo>
                  <a:lnTo>
                    <a:pt x="426" y="1724"/>
                  </a:lnTo>
                  <a:lnTo>
                    <a:pt x="416" y="1723"/>
                  </a:lnTo>
                  <a:lnTo>
                    <a:pt x="405" y="1718"/>
                  </a:lnTo>
                  <a:lnTo>
                    <a:pt x="397" y="1711"/>
                  </a:lnTo>
                  <a:lnTo>
                    <a:pt x="398" y="1696"/>
                  </a:lnTo>
                  <a:lnTo>
                    <a:pt x="400" y="1681"/>
                  </a:lnTo>
                  <a:lnTo>
                    <a:pt x="402" y="1667"/>
                  </a:lnTo>
                  <a:lnTo>
                    <a:pt x="405" y="1653"/>
                  </a:lnTo>
                  <a:lnTo>
                    <a:pt x="395" y="1476"/>
                  </a:lnTo>
                  <a:lnTo>
                    <a:pt x="390" y="1456"/>
                  </a:lnTo>
                  <a:lnTo>
                    <a:pt x="390" y="1436"/>
                  </a:lnTo>
                  <a:lnTo>
                    <a:pt x="387" y="1417"/>
                  </a:lnTo>
                  <a:lnTo>
                    <a:pt x="374" y="1402"/>
                  </a:lnTo>
                  <a:lnTo>
                    <a:pt x="374" y="1386"/>
                  </a:lnTo>
                  <a:lnTo>
                    <a:pt x="370" y="1371"/>
                  </a:lnTo>
                  <a:lnTo>
                    <a:pt x="361" y="1357"/>
                  </a:lnTo>
                  <a:lnTo>
                    <a:pt x="351" y="1345"/>
                  </a:lnTo>
                  <a:lnTo>
                    <a:pt x="340" y="1333"/>
                  </a:lnTo>
                  <a:lnTo>
                    <a:pt x="328" y="1320"/>
                  </a:lnTo>
                  <a:lnTo>
                    <a:pt x="318" y="1309"/>
                  </a:lnTo>
                  <a:lnTo>
                    <a:pt x="308" y="1295"/>
                  </a:lnTo>
                  <a:lnTo>
                    <a:pt x="302" y="1282"/>
                  </a:lnTo>
                  <a:lnTo>
                    <a:pt x="298" y="1269"/>
                  </a:lnTo>
                  <a:lnTo>
                    <a:pt x="295" y="1255"/>
                  </a:lnTo>
                  <a:lnTo>
                    <a:pt x="290" y="1243"/>
                  </a:lnTo>
                  <a:lnTo>
                    <a:pt x="283" y="1244"/>
                  </a:lnTo>
                  <a:lnTo>
                    <a:pt x="274" y="1246"/>
                  </a:lnTo>
                  <a:lnTo>
                    <a:pt x="266" y="1248"/>
                  </a:lnTo>
                  <a:lnTo>
                    <a:pt x="258" y="1250"/>
                  </a:lnTo>
                  <a:lnTo>
                    <a:pt x="254" y="1270"/>
                  </a:lnTo>
                  <a:lnTo>
                    <a:pt x="249" y="1288"/>
                  </a:lnTo>
                  <a:lnTo>
                    <a:pt x="243" y="1307"/>
                  </a:lnTo>
                  <a:lnTo>
                    <a:pt x="236" y="1325"/>
                  </a:lnTo>
                  <a:lnTo>
                    <a:pt x="229" y="1342"/>
                  </a:lnTo>
                  <a:lnTo>
                    <a:pt x="221" y="1361"/>
                  </a:lnTo>
                  <a:lnTo>
                    <a:pt x="215" y="1379"/>
                  </a:lnTo>
                  <a:lnTo>
                    <a:pt x="209" y="1398"/>
                  </a:lnTo>
                  <a:lnTo>
                    <a:pt x="201" y="1411"/>
                  </a:lnTo>
                  <a:lnTo>
                    <a:pt x="198" y="1426"/>
                  </a:lnTo>
                  <a:lnTo>
                    <a:pt x="197" y="1443"/>
                  </a:lnTo>
                  <a:lnTo>
                    <a:pt x="197" y="1459"/>
                  </a:lnTo>
                  <a:lnTo>
                    <a:pt x="197" y="1474"/>
                  </a:lnTo>
                  <a:lnTo>
                    <a:pt x="193" y="1489"/>
                  </a:lnTo>
                  <a:lnTo>
                    <a:pt x="187" y="1502"/>
                  </a:lnTo>
                  <a:lnTo>
                    <a:pt x="176" y="1514"/>
                  </a:lnTo>
                  <a:lnTo>
                    <a:pt x="169" y="1511"/>
                  </a:lnTo>
                  <a:lnTo>
                    <a:pt x="162" y="1507"/>
                  </a:lnTo>
                  <a:lnTo>
                    <a:pt x="155" y="1502"/>
                  </a:lnTo>
                  <a:lnTo>
                    <a:pt x="149" y="1498"/>
                  </a:lnTo>
                  <a:lnTo>
                    <a:pt x="144" y="1492"/>
                  </a:lnTo>
                  <a:lnTo>
                    <a:pt x="140" y="1485"/>
                  </a:lnTo>
                  <a:lnTo>
                    <a:pt x="137" y="1478"/>
                  </a:lnTo>
                  <a:lnTo>
                    <a:pt x="136" y="1470"/>
                  </a:lnTo>
                  <a:lnTo>
                    <a:pt x="136" y="1458"/>
                  </a:lnTo>
                  <a:lnTo>
                    <a:pt x="137" y="1446"/>
                  </a:lnTo>
                  <a:lnTo>
                    <a:pt x="139" y="1435"/>
                  </a:lnTo>
                  <a:lnTo>
                    <a:pt x="144" y="1424"/>
                  </a:lnTo>
                  <a:lnTo>
                    <a:pt x="139" y="1399"/>
                  </a:lnTo>
                  <a:lnTo>
                    <a:pt x="134" y="1375"/>
                  </a:lnTo>
                  <a:lnTo>
                    <a:pt x="129" y="1350"/>
                  </a:lnTo>
                  <a:lnTo>
                    <a:pt x="123" y="1325"/>
                  </a:lnTo>
                  <a:lnTo>
                    <a:pt x="118" y="1301"/>
                  </a:lnTo>
                  <a:lnTo>
                    <a:pt x="115" y="1276"/>
                  </a:lnTo>
                  <a:lnTo>
                    <a:pt x="113" y="1250"/>
                  </a:lnTo>
                  <a:lnTo>
                    <a:pt x="113" y="1224"/>
                  </a:lnTo>
                  <a:lnTo>
                    <a:pt x="106" y="1218"/>
                  </a:lnTo>
                  <a:lnTo>
                    <a:pt x="99" y="1212"/>
                  </a:lnTo>
                  <a:lnTo>
                    <a:pt x="91" y="1208"/>
                  </a:lnTo>
                  <a:lnTo>
                    <a:pt x="83" y="1203"/>
                  </a:lnTo>
                  <a:lnTo>
                    <a:pt x="76" y="1198"/>
                  </a:lnTo>
                  <a:lnTo>
                    <a:pt x="69" y="1193"/>
                  </a:lnTo>
                  <a:lnTo>
                    <a:pt x="64" y="1187"/>
                  </a:lnTo>
                  <a:lnTo>
                    <a:pt x="60" y="1180"/>
                  </a:lnTo>
                  <a:lnTo>
                    <a:pt x="64" y="1142"/>
                  </a:lnTo>
                  <a:lnTo>
                    <a:pt x="69" y="1104"/>
                  </a:lnTo>
                  <a:lnTo>
                    <a:pt x="75" y="1066"/>
                  </a:lnTo>
                  <a:lnTo>
                    <a:pt x="80" y="1029"/>
                  </a:lnTo>
                  <a:lnTo>
                    <a:pt x="58" y="1008"/>
                  </a:lnTo>
                  <a:lnTo>
                    <a:pt x="40" y="985"/>
                  </a:lnTo>
                  <a:lnTo>
                    <a:pt x="25" y="962"/>
                  </a:lnTo>
                  <a:lnTo>
                    <a:pt x="12" y="936"/>
                  </a:lnTo>
                  <a:lnTo>
                    <a:pt x="4" y="909"/>
                  </a:lnTo>
                  <a:lnTo>
                    <a:pt x="0" y="882"/>
                  </a:lnTo>
                  <a:lnTo>
                    <a:pt x="0" y="853"/>
                  </a:lnTo>
                  <a:lnTo>
                    <a:pt x="5" y="823"/>
                  </a:lnTo>
                  <a:lnTo>
                    <a:pt x="12" y="800"/>
                  </a:lnTo>
                  <a:lnTo>
                    <a:pt x="20" y="777"/>
                  </a:lnTo>
                  <a:lnTo>
                    <a:pt x="30" y="754"/>
                  </a:lnTo>
                  <a:lnTo>
                    <a:pt x="40" y="732"/>
                  </a:lnTo>
                  <a:lnTo>
                    <a:pt x="51" y="710"/>
                  </a:lnTo>
                  <a:lnTo>
                    <a:pt x="64" y="689"/>
                  </a:lnTo>
                  <a:lnTo>
                    <a:pt x="79" y="668"/>
                  </a:lnTo>
                  <a:lnTo>
                    <a:pt x="95" y="649"/>
                  </a:lnTo>
                  <a:lnTo>
                    <a:pt x="88" y="644"/>
                  </a:lnTo>
                  <a:lnTo>
                    <a:pt x="81" y="643"/>
                  </a:lnTo>
                  <a:lnTo>
                    <a:pt x="75" y="641"/>
                  </a:lnTo>
                  <a:lnTo>
                    <a:pt x="69" y="637"/>
                  </a:lnTo>
                  <a:lnTo>
                    <a:pt x="63" y="634"/>
                  </a:lnTo>
                  <a:lnTo>
                    <a:pt x="57" y="632"/>
                  </a:lnTo>
                  <a:lnTo>
                    <a:pt x="50" y="628"/>
                  </a:lnTo>
                  <a:lnTo>
                    <a:pt x="45" y="626"/>
                  </a:lnTo>
                  <a:lnTo>
                    <a:pt x="39" y="621"/>
                  </a:lnTo>
                  <a:lnTo>
                    <a:pt x="35" y="617"/>
                  </a:lnTo>
                  <a:lnTo>
                    <a:pt x="33" y="611"/>
                  </a:lnTo>
                  <a:lnTo>
                    <a:pt x="34" y="604"/>
                  </a:lnTo>
                  <a:lnTo>
                    <a:pt x="53" y="583"/>
                  </a:lnTo>
                  <a:lnTo>
                    <a:pt x="66" y="560"/>
                  </a:lnTo>
                  <a:lnTo>
                    <a:pt x="79" y="536"/>
                  </a:lnTo>
                  <a:lnTo>
                    <a:pt x="91" y="512"/>
                  </a:lnTo>
                  <a:lnTo>
                    <a:pt x="103" y="489"/>
                  </a:lnTo>
                  <a:lnTo>
                    <a:pt x="119" y="467"/>
                  </a:lnTo>
                  <a:lnTo>
                    <a:pt x="139" y="448"/>
                  </a:lnTo>
                  <a:lnTo>
                    <a:pt x="164" y="433"/>
                  </a:lnTo>
                  <a:lnTo>
                    <a:pt x="172" y="431"/>
                  </a:lnTo>
                  <a:lnTo>
                    <a:pt x="179" y="431"/>
                  </a:lnTo>
                  <a:lnTo>
                    <a:pt x="185" y="431"/>
                  </a:lnTo>
                  <a:lnTo>
                    <a:pt x="190" y="431"/>
                  </a:lnTo>
                  <a:lnTo>
                    <a:pt x="193" y="432"/>
                  </a:lnTo>
                  <a:lnTo>
                    <a:pt x="197" y="431"/>
                  </a:lnTo>
                  <a:lnTo>
                    <a:pt x="199" y="430"/>
                  </a:lnTo>
                  <a:lnTo>
                    <a:pt x="202" y="426"/>
                  </a:lnTo>
                  <a:lnTo>
                    <a:pt x="215" y="425"/>
                  </a:lnTo>
                  <a:lnTo>
                    <a:pt x="227" y="426"/>
                  </a:lnTo>
                  <a:lnTo>
                    <a:pt x="238" y="428"/>
                  </a:lnTo>
                  <a:lnTo>
                    <a:pt x="249" y="431"/>
                  </a:lnTo>
                  <a:lnTo>
                    <a:pt x="258" y="436"/>
                  </a:lnTo>
                  <a:lnTo>
                    <a:pt x="267" y="441"/>
                  </a:lnTo>
                  <a:lnTo>
                    <a:pt x="276" y="448"/>
                  </a:lnTo>
                  <a:lnTo>
                    <a:pt x="283" y="456"/>
                  </a:lnTo>
                  <a:lnTo>
                    <a:pt x="288" y="443"/>
                  </a:lnTo>
                  <a:lnTo>
                    <a:pt x="292" y="430"/>
                  </a:lnTo>
                  <a:lnTo>
                    <a:pt x="298" y="416"/>
                  </a:lnTo>
                  <a:lnTo>
                    <a:pt x="304" y="403"/>
                  </a:lnTo>
                  <a:lnTo>
                    <a:pt x="310" y="390"/>
                  </a:lnTo>
                  <a:lnTo>
                    <a:pt x="317" y="376"/>
                  </a:lnTo>
                  <a:lnTo>
                    <a:pt x="325" y="362"/>
                  </a:lnTo>
                  <a:lnTo>
                    <a:pt x="334" y="347"/>
                  </a:lnTo>
                  <a:lnTo>
                    <a:pt x="352" y="316"/>
                  </a:lnTo>
                  <a:lnTo>
                    <a:pt x="370" y="289"/>
                  </a:lnTo>
                  <a:lnTo>
                    <a:pt x="387" y="267"/>
                  </a:lnTo>
                  <a:lnTo>
                    <a:pt x="404" y="247"/>
                  </a:lnTo>
                  <a:lnTo>
                    <a:pt x="421" y="227"/>
                  </a:lnTo>
                  <a:lnTo>
                    <a:pt x="441" y="209"/>
                  </a:lnTo>
                  <a:lnTo>
                    <a:pt x="462" y="188"/>
                  </a:lnTo>
                  <a:lnTo>
                    <a:pt x="487" y="166"/>
                  </a:lnTo>
                  <a:lnTo>
                    <a:pt x="504" y="151"/>
                  </a:lnTo>
                  <a:lnTo>
                    <a:pt x="523" y="137"/>
                  </a:lnTo>
                  <a:lnTo>
                    <a:pt x="542" y="123"/>
                  </a:lnTo>
                  <a:lnTo>
                    <a:pt x="562" y="111"/>
                  </a:lnTo>
                  <a:lnTo>
                    <a:pt x="583" y="98"/>
                  </a:lnTo>
                  <a:lnTo>
                    <a:pt x="603" y="87"/>
                  </a:lnTo>
                  <a:lnTo>
                    <a:pt x="624" y="76"/>
                  </a:lnTo>
                  <a:lnTo>
                    <a:pt x="646" y="66"/>
                  </a:lnTo>
                  <a:lnTo>
                    <a:pt x="668" y="57"/>
                  </a:lnTo>
                  <a:lnTo>
                    <a:pt x="691" y="47"/>
                  </a:lnTo>
                  <a:lnTo>
                    <a:pt x="714" y="39"/>
                  </a:lnTo>
                  <a:lnTo>
                    <a:pt x="738" y="31"/>
                  </a:lnTo>
                  <a:lnTo>
                    <a:pt x="761" y="26"/>
                  </a:lnTo>
                  <a:lnTo>
                    <a:pt x="786" y="19"/>
                  </a:lnTo>
                  <a:lnTo>
                    <a:pt x="810" y="14"/>
                  </a:lnTo>
                  <a:lnTo>
                    <a:pt x="834" y="9"/>
                  </a:lnTo>
                  <a:lnTo>
                    <a:pt x="858" y="6"/>
                  </a:lnTo>
                  <a:lnTo>
                    <a:pt x="882" y="4"/>
                  </a:lnTo>
                  <a:lnTo>
                    <a:pt x="907" y="1"/>
                  </a:lnTo>
                  <a:lnTo>
                    <a:pt x="931" y="0"/>
                  </a:lnTo>
                  <a:lnTo>
                    <a:pt x="955" y="0"/>
                  </a:lnTo>
                  <a:lnTo>
                    <a:pt x="979" y="1"/>
                  </a:lnTo>
                  <a:lnTo>
                    <a:pt x="1003" y="2"/>
                  </a:lnTo>
                  <a:lnTo>
                    <a:pt x="1028" y="5"/>
                  </a:lnTo>
                  <a:lnTo>
                    <a:pt x="1051" y="7"/>
                  </a:lnTo>
                  <a:lnTo>
                    <a:pt x="1075" y="11"/>
                  </a:lnTo>
                  <a:lnTo>
                    <a:pt x="1098" y="15"/>
                  </a:lnTo>
                  <a:lnTo>
                    <a:pt x="1121" y="21"/>
                  </a:lnTo>
                  <a:lnTo>
                    <a:pt x="1144" y="28"/>
                  </a:lnTo>
                  <a:lnTo>
                    <a:pt x="1167" y="35"/>
                  </a:lnTo>
                  <a:lnTo>
                    <a:pt x="1189" y="43"/>
                  </a:lnTo>
                  <a:lnTo>
                    <a:pt x="1211" y="52"/>
                  </a:lnTo>
                  <a:lnTo>
                    <a:pt x="1240" y="65"/>
                  </a:lnTo>
                  <a:lnTo>
                    <a:pt x="1268" y="79"/>
                  </a:lnTo>
                  <a:lnTo>
                    <a:pt x="1297" y="95"/>
                  </a:lnTo>
                  <a:lnTo>
                    <a:pt x="1325" y="112"/>
                  </a:lnTo>
                  <a:lnTo>
                    <a:pt x="1353" y="130"/>
                  </a:lnTo>
                  <a:lnTo>
                    <a:pt x="1380" y="150"/>
                  </a:lnTo>
                  <a:lnTo>
                    <a:pt x="1407" y="172"/>
                  </a:lnTo>
                  <a:lnTo>
                    <a:pt x="1432" y="194"/>
                  </a:lnTo>
                  <a:lnTo>
                    <a:pt x="1456" y="218"/>
                  </a:lnTo>
                  <a:lnTo>
                    <a:pt x="1481" y="242"/>
                  </a:lnTo>
                  <a:lnTo>
                    <a:pt x="1502" y="269"/>
                  </a:lnTo>
                  <a:lnTo>
                    <a:pt x="1524" y="294"/>
                  </a:lnTo>
                  <a:lnTo>
                    <a:pt x="1544" y="322"/>
                  </a:lnTo>
                  <a:lnTo>
                    <a:pt x="1561" y="349"/>
                  </a:lnTo>
                  <a:lnTo>
                    <a:pt x="1577" y="377"/>
                  </a:lnTo>
                  <a:lnTo>
                    <a:pt x="1592" y="4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97920" y="1414080"/>
              <a:ext cx="1276560" cy="1350720"/>
            </a:xfrm>
            <a:custGeom>
              <a:avLst/>
              <a:gdLst/>
              <a:ahLst/>
              <a:rect l="l" t="t" r="r" b="b"/>
              <a:pathLst>
                <a:path w="866" h="971">
                  <a:moveTo>
                    <a:pt x="312" y="16"/>
                  </a:moveTo>
                  <a:lnTo>
                    <a:pt x="348" y="26"/>
                  </a:lnTo>
                  <a:lnTo>
                    <a:pt x="385" y="37"/>
                  </a:lnTo>
                  <a:lnTo>
                    <a:pt x="421" y="51"/>
                  </a:lnTo>
                  <a:lnTo>
                    <a:pt x="456" y="66"/>
                  </a:lnTo>
                  <a:lnTo>
                    <a:pt x="490" y="83"/>
                  </a:lnTo>
                  <a:lnTo>
                    <a:pt x="524" y="103"/>
                  </a:lnTo>
                  <a:lnTo>
                    <a:pt x="555" y="125"/>
                  </a:lnTo>
                  <a:lnTo>
                    <a:pt x="586" y="147"/>
                  </a:lnTo>
                  <a:lnTo>
                    <a:pt x="616" y="172"/>
                  </a:lnTo>
                  <a:lnTo>
                    <a:pt x="645" y="198"/>
                  </a:lnTo>
                  <a:lnTo>
                    <a:pt x="672" y="226"/>
                  </a:lnTo>
                  <a:lnTo>
                    <a:pt x="698" y="256"/>
                  </a:lnTo>
                  <a:lnTo>
                    <a:pt x="723" y="287"/>
                  </a:lnTo>
                  <a:lnTo>
                    <a:pt x="746" y="319"/>
                  </a:lnTo>
                  <a:lnTo>
                    <a:pt x="768" y="353"/>
                  </a:lnTo>
                  <a:lnTo>
                    <a:pt x="788" y="389"/>
                  </a:lnTo>
                  <a:lnTo>
                    <a:pt x="807" y="432"/>
                  </a:lnTo>
                  <a:lnTo>
                    <a:pt x="824" y="477"/>
                  </a:lnTo>
                  <a:lnTo>
                    <a:pt x="838" y="524"/>
                  </a:lnTo>
                  <a:lnTo>
                    <a:pt x="851" y="572"/>
                  </a:lnTo>
                  <a:lnTo>
                    <a:pt x="859" y="620"/>
                  </a:lnTo>
                  <a:lnTo>
                    <a:pt x="865" y="670"/>
                  </a:lnTo>
                  <a:lnTo>
                    <a:pt x="866" y="720"/>
                  </a:lnTo>
                  <a:lnTo>
                    <a:pt x="862" y="771"/>
                  </a:lnTo>
                  <a:lnTo>
                    <a:pt x="858" y="777"/>
                  </a:lnTo>
                  <a:lnTo>
                    <a:pt x="851" y="785"/>
                  </a:lnTo>
                  <a:lnTo>
                    <a:pt x="842" y="793"/>
                  </a:lnTo>
                  <a:lnTo>
                    <a:pt x="831" y="801"/>
                  </a:lnTo>
                  <a:lnTo>
                    <a:pt x="819" y="809"/>
                  </a:lnTo>
                  <a:lnTo>
                    <a:pt x="807" y="817"/>
                  </a:lnTo>
                  <a:lnTo>
                    <a:pt x="796" y="823"/>
                  </a:lnTo>
                  <a:lnTo>
                    <a:pt x="784" y="826"/>
                  </a:lnTo>
                  <a:lnTo>
                    <a:pt x="785" y="837"/>
                  </a:lnTo>
                  <a:lnTo>
                    <a:pt x="778" y="844"/>
                  </a:lnTo>
                  <a:lnTo>
                    <a:pt x="771" y="851"/>
                  </a:lnTo>
                  <a:lnTo>
                    <a:pt x="766" y="859"/>
                  </a:lnTo>
                  <a:lnTo>
                    <a:pt x="760" y="866"/>
                  </a:lnTo>
                  <a:lnTo>
                    <a:pt x="755" y="874"/>
                  </a:lnTo>
                  <a:lnTo>
                    <a:pt x="751" y="882"/>
                  </a:lnTo>
                  <a:lnTo>
                    <a:pt x="747" y="890"/>
                  </a:lnTo>
                  <a:lnTo>
                    <a:pt x="744" y="898"/>
                  </a:lnTo>
                  <a:lnTo>
                    <a:pt x="732" y="909"/>
                  </a:lnTo>
                  <a:lnTo>
                    <a:pt x="721" y="921"/>
                  </a:lnTo>
                  <a:lnTo>
                    <a:pt x="707" y="930"/>
                  </a:lnTo>
                  <a:lnTo>
                    <a:pt x="694" y="939"/>
                  </a:lnTo>
                  <a:lnTo>
                    <a:pt x="680" y="947"/>
                  </a:lnTo>
                  <a:lnTo>
                    <a:pt x="665" y="955"/>
                  </a:lnTo>
                  <a:lnTo>
                    <a:pt x="652" y="963"/>
                  </a:lnTo>
                  <a:lnTo>
                    <a:pt x="638" y="971"/>
                  </a:lnTo>
                  <a:lnTo>
                    <a:pt x="632" y="966"/>
                  </a:lnTo>
                  <a:lnTo>
                    <a:pt x="627" y="959"/>
                  </a:lnTo>
                  <a:lnTo>
                    <a:pt x="622" y="953"/>
                  </a:lnTo>
                  <a:lnTo>
                    <a:pt x="617" y="946"/>
                  </a:lnTo>
                  <a:lnTo>
                    <a:pt x="614" y="939"/>
                  </a:lnTo>
                  <a:lnTo>
                    <a:pt x="611" y="932"/>
                  </a:lnTo>
                  <a:lnTo>
                    <a:pt x="612" y="924"/>
                  </a:lnTo>
                  <a:lnTo>
                    <a:pt x="617" y="916"/>
                  </a:lnTo>
                  <a:lnTo>
                    <a:pt x="623" y="905"/>
                  </a:lnTo>
                  <a:lnTo>
                    <a:pt x="625" y="892"/>
                  </a:lnTo>
                  <a:lnTo>
                    <a:pt x="625" y="879"/>
                  </a:lnTo>
                  <a:lnTo>
                    <a:pt x="626" y="867"/>
                  </a:lnTo>
                  <a:lnTo>
                    <a:pt x="627" y="854"/>
                  </a:lnTo>
                  <a:lnTo>
                    <a:pt x="631" y="844"/>
                  </a:lnTo>
                  <a:lnTo>
                    <a:pt x="639" y="833"/>
                  </a:lnTo>
                  <a:lnTo>
                    <a:pt x="652" y="826"/>
                  </a:lnTo>
                  <a:lnTo>
                    <a:pt x="664" y="822"/>
                  </a:lnTo>
                  <a:lnTo>
                    <a:pt x="678" y="819"/>
                  </a:lnTo>
                  <a:lnTo>
                    <a:pt x="692" y="819"/>
                  </a:lnTo>
                  <a:lnTo>
                    <a:pt x="706" y="819"/>
                  </a:lnTo>
                  <a:lnTo>
                    <a:pt x="720" y="818"/>
                  </a:lnTo>
                  <a:lnTo>
                    <a:pt x="732" y="816"/>
                  </a:lnTo>
                  <a:lnTo>
                    <a:pt x="743" y="810"/>
                  </a:lnTo>
                  <a:lnTo>
                    <a:pt x="751" y="801"/>
                  </a:lnTo>
                  <a:lnTo>
                    <a:pt x="754" y="794"/>
                  </a:lnTo>
                  <a:lnTo>
                    <a:pt x="758" y="787"/>
                  </a:lnTo>
                  <a:lnTo>
                    <a:pt x="761" y="780"/>
                  </a:lnTo>
                  <a:lnTo>
                    <a:pt x="765" y="774"/>
                  </a:lnTo>
                  <a:lnTo>
                    <a:pt x="768" y="768"/>
                  </a:lnTo>
                  <a:lnTo>
                    <a:pt x="773" y="762"/>
                  </a:lnTo>
                  <a:lnTo>
                    <a:pt x="778" y="757"/>
                  </a:lnTo>
                  <a:lnTo>
                    <a:pt x="785" y="753"/>
                  </a:lnTo>
                  <a:lnTo>
                    <a:pt x="799" y="757"/>
                  </a:lnTo>
                  <a:lnTo>
                    <a:pt x="811" y="756"/>
                  </a:lnTo>
                  <a:lnTo>
                    <a:pt x="820" y="750"/>
                  </a:lnTo>
                  <a:lnTo>
                    <a:pt x="828" y="741"/>
                  </a:lnTo>
                  <a:lnTo>
                    <a:pt x="835" y="731"/>
                  </a:lnTo>
                  <a:lnTo>
                    <a:pt x="843" y="719"/>
                  </a:lnTo>
                  <a:lnTo>
                    <a:pt x="850" y="708"/>
                  </a:lnTo>
                  <a:lnTo>
                    <a:pt x="859" y="700"/>
                  </a:lnTo>
                  <a:lnTo>
                    <a:pt x="861" y="692"/>
                  </a:lnTo>
                  <a:lnTo>
                    <a:pt x="860" y="682"/>
                  </a:lnTo>
                  <a:lnTo>
                    <a:pt x="858" y="674"/>
                  </a:lnTo>
                  <a:lnTo>
                    <a:pt x="854" y="666"/>
                  </a:lnTo>
                  <a:lnTo>
                    <a:pt x="850" y="663"/>
                  </a:lnTo>
                  <a:lnTo>
                    <a:pt x="845" y="660"/>
                  </a:lnTo>
                  <a:lnTo>
                    <a:pt x="839" y="659"/>
                  </a:lnTo>
                  <a:lnTo>
                    <a:pt x="834" y="659"/>
                  </a:lnTo>
                  <a:lnTo>
                    <a:pt x="827" y="659"/>
                  </a:lnTo>
                  <a:lnTo>
                    <a:pt x="821" y="659"/>
                  </a:lnTo>
                  <a:lnTo>
                    <a:pt x="815" y="659"/>
                  </a:lnTo>
                  <a:lnTo>
                    <a:pt x="809" y="659"/>
                  </a:lnTo>
                  <a:lnTo>
                    <a:pt x="814" y="647"/>
                  </a:lnTo>
                  <a:lnTo>
                    <a:pt x="814" y="633"/>
                  </a:lnTo>
                  <a:lnTo>
                    <a:pt x="812" y="620"/>
                  </a:lnTo>
                  <a:lnTo>
                    <a:pt x="808" y="606"/>
                  </a:lnTo>
                  <a:lnTo>
                    <a:pt x="803" y="599"/>
                  </a:lnTo>
                  <a:lnTo>
                    <a:pt x="796" y="594"/>
                  </a:lnTo>
                  <a:lnTo>
                    <a:pt x="786" y="589"/>
                  </a:lnTo>
                  <a:lnTo>
                    <a:pt x="777" y="588"/>
                  </a:lnTo>
                  <a:lnTo>
                    <a:pt x="770" y="601"/>
                  </a:lnTo>
                  <a:lnTo>
                    <a:pt x="767" y="616"/>
                  </a:lnTo>
                  <a:lnTo>
                    <a:pt x="763" y="629"/>
                  </a:lnTo>
                  <a:lnTo>
                    <a:pt x="760" y="644"/>
                  </a:lnTo>
                  <a:lnTo>
                    <a:pt x="755" y="658"/>
                  </a:lnTo>
                  <a:lnTo>
                    <a:pt x="748" y="671"/>
                  </a:lnTo>
                  <a:lnTo>
                    <a:pt x="739" y="682"/>
                  </a:lnTo>
                  <a:lnTo>
                    <a:pt x="725" y="692"/>
                  </a:lnTo>
                  <a:lnTo>
                    <a:pt x="721" y="701"/>
                  </a:lnTo>
                  <a:lnTo>
                    <a:pt x="717" y="711"/>
                  </a:lnTo>
                  <a:lnTo>
                    <a:pt x="714" y="723"/>
                  </a:lnTo>
                  <a:lnTo>
                    <a:pt x="710" y="733"/>
                  </a:lnTo>
                  <a:lnTo>
                    <a:pt x="705" y="742"/>
                  </a:lnTo>
                  <a:lnTo>
                    <a:pt x="698" y="751"/>
                  </a:lnTo>
                  <a:lnTo>
                    <a:pt x="690" y="758"/>
                  </a:lnTo>
                  <a:lnTo>
                    <a:pt x="677" y="763"/>
                  </a:lnTo>
                  <a:lnTo>
                    <a:pt x="668" y="763"/>
                  </a:lnTo>
                  <a:lnTo>
                    <a:pt x="658" y="763"/>
                  </a:lnTo>
                  <a:lnTo>
                    <a:pt x="649" y="760"/>
                  </a:lnTo>
                  <a:lnTo>
                    <a:pt x="644" y="753"/>
                  </a:lnTo>
                  <a:lnTo>
                    <a:pt x="641" y="732"/>
                  </a:lnTo>
                  <a:lnTo>
                    <a:pt x="642" y="711"/>
                  </a:lnTo>
                  <a:lnTo>
                    <a:pt x="648" y="693"/>
                  </a:lnTo>
                  <a:lnTo>
                    <a:pt x="654" y="674"/>
                  </a:lnTo>
                  <a:lnTo>
                    <a:pt x="660" y="656"/>
                  </a:lnTo>
                  <a:lnTo>
                    <a:pt x="662" y="637"/>
                  </a:lnTo>
                  <a:lnTo>
                    <a:pt x="662" y="619"/>
                  </a:lnTo>
                  <a:lnTo>
                    <a:pt x="655" y="599"/>
                  </a:lnTo>
                  <a:lnTo>
                    <a:pt x="650" y="595"/>
                  </a:lnTo>
                  <a:lnTo>
                    <a:pt x="649" y="589"/>
                  </a:lnTo>
                  <a:lnTo>
                    <a:pt x="650" y="584"/>
                  </a:lnTo>
                  <a:lnTo>
                    <a:pt x="652" y="580"/>
                  </a:lnTo>
                  <a:lnTo>
                    <a:pt x="656" y="571"/>
                  </a:lnTo>
                  <a:lnTo>
                    <a:pt x="663" y="561"/>
                  </a:lnTo>
                  <a:lnTo>
                    <a:pt x="669" y="553"/>
                  </a:lnTo>
                  <a:lnTo>
                    <a:pt x="675" y="544"/>
                  </a:lnTo>
                  <a:lnTo>
                    <a:pt x="679" y="535"/>
                  </a:lnTo>
                  <a:lnTo>
                    <a:pt x="683" y="526"/>
                  </a:lnTo>
                  <a:lnTo>
                    <a:pt x="683" y="515"/>
                  </a:lnTo>
                  <a:lnTo>
                    <a:pt x="680" y="504"/>
                  </a:lnTo>
                  <a:lnTo>
                    <a:pt x="673" y="490"/>
                  </a:lnTo>
                  <a:lnTo>
                    <a:pt x="663" y="480"/>
                  </a:lnTo>
                  <a:lnTo>
                    <a:pt x="650" y="473"/>
                  </a:lnTo>
                  <a:lnTo>
                    <a:pt x="638" y="467"/>
                  </a:lnTo>
                  <a:lnTo>
                    <a:pt x="624" y="462"/>
                  </a:lnTo>
                  <a:lnTo>
                    <a:pt x="612" y="455"/>
                  </a:lnTo>
                  <a:lnTo>
                    <a:pt x="603" y="446"/>
                  </a:lnTo>
                  <a:lnTo>
                    <a:pt x="597" y="432"/>
                  </a:lnTo>
                  <a:lnTo>
                    <a:pt x="594" y="413"/>
                  </a:lnTo>
                  <a:lnTo>
                    <a:pt x="596" y="394"/>
                  </a:lnTo>
                  <a:lnTo>
                    <a:pt x="602" y="377"/>
                  </a:lnTo>
                  <a:lnTo>
                    <a:pt x="610" y="360"/>
                  </a:lnTo>
                  <a:lnTo>
                    <a:pt x="619" y="344"/>
                  </a:lnTo>
                  <a:lnTo>
                    <a:pt x="631" y="329"/>
                  </a:lnTo>
                  <a:lnTo>
                    <a:pt x="641" y="313"/>
                  </a:lnTo>
                  <a:lnTo>
                    <a:pt x="650" y="296"/>
                  </a:lnTo>
                  <a:lnTo>
                    <a:pt x="653" y="281"/>
                  </a:lnTo>
                  <a:lnTo>
                    <a:pt x="652" y="266"/>
                  </a:lnTo>
                  <a:lnTo>
                    <a:pt x="646" y="254"/>
                  </a:lnTo>
                  <a:lnTo>
                    <a:pt x="638" y="241"/>
                  </a:lnTo>
                  <a:lnTo>
                    <a:pt x="625" y="230"/>
                  </a:lnTo>
                  <a:lnTo>
                    <a:pt x="612" y="221"/>
                  </a:lnTo>
                  <a:lnTo>
                    <a:pt x="599" y="216"/>
                  </a:lnTo>
                  <a:lnTo>
                    <a:pt x="584" y="211"/>
                  </a:lnTo>
                  <a:lnTo>
                    <a:pt x="567" y="209"/>
                  </a:lnTo>
                  <a:lnTo>
                    <a:pt x="551" y="208"/>
                  </a:lnTo>
                  <a:lnTo>
                    <a:pt x="535" y="207"/>
                  </a:lnTo>
                  <a:lnTo>
                    <a:pt x="519" y="207"/>
                  </a:lnTo>
                  <a:lnTo>
                    <a:pt x="508" y="195"/>
                  </a:lnTo>
                  <a:lnTo>
                    <a:pt x="496" y="182"/>
                  </a:lnTo>
                  <a:lnTo>
                    <a:pt x="486" y="170"/>
                  </a:lnTo>
                  <a:lnTo>
                    <a:pt x="474" y="157"/>
                  </a:lnTo>
                  <a:lnTo>
                    <a:pt x="464" y="144"/>
                  </a:lnTo>
                  <a:lnTo>
                    <a:pt x="451" y="133"/>
                  </a:lnTo>
                  <a:lnTo>
                    <a:pt x="437" y="124"/>
                  </a:lnTo>
                  <a:lnTo>
                    <a:pt x="422" y="116"/>
                  </a:lnTo>
                  <a:lnTo>
                    <a:pt x="416" y="110"/>
                  </a:lnTo>
                  <a:lnTo>
                    <a:pt x="412" y="103"/>
                  </a:lnTo>
                  <a:lnTo>
                    <a:pt x="407" y="96"/>
                  </a:lnTo>
                  <a:lnTo>
                    <a:pt x="404" y="88"/>
                  </a:lnTo>
                  <a:lnTo>
                    <a:pt x="400" y="81"/>
                  </a:lnTo>
                  <a:lnTo>
                    <a:pt x="397" y="74"/>
                  </a:lnTo>
                  <a:lnTo>
                    <a:pt x="392" y="67"/>
                  </a:lnTo>
                  <a:lnTo>
                    <a:pt x="387" y="61"/>
                  </a:lnTo>
                  <a:lnTo>
                    <a:pt x="385" y="57"/>
                  </a:lnTo>
                  <a:lnTo>
                    <a:pt x="382" y="53"/>
                  </a:lnTo>
                  <a:lnTo>
                    <a:pt x="376" y="50"/>
                  </a:lnTo>
                  <a:lnTo>
                    <a:pt x="372" y="46"/>
                  </a:lnTo>
                  <a:lnTo>
                    <a:pt x="357" y="53"/>
                  </a:lnTo>
                  <a:lnTo>
                    <a:pt x="342" y="58"/>
                  </a:lnTo>
                  <a:lnTo>
                    <a:pt x="329" y="61"/>
                  </a:lnTo>
                  <a:lnTo>
                    <a:pt x="316" y="65"/>
                  </a:lnTo>
                  <a:lnTo>
                    <a:pt x="304" y="67"/>
                  </a:lnTo>
                  <a:lnTo>
                    <a:pt x="293" y="71"/>
                  </a:lnTo>
                  <a:lnTo>
                    <a:pt x="283" y="74"/>
                  </a:lnTo>
                  <a:lnTo>
                    <a:pt x="272" y="79"/>
                  </a:lnTo>
                  <a:lnTo>
                    <a:pt x="256" y="81"/>
                  </a:lnTo>
                  <a:lnTo>
                    <a:pt x="241" y="80"/>
                  </a:lnTo>
                  <a:lnTo>
                    <a:pt x="226" y="77"/>
                  </a:lnTo>
                  <a:lnTo>
                    <a:pt x="212" y="73"/>
                  </a:lnTo>
                  <a:lnTo>
                    <a:pt x="198" y="68"/>
                  </a:lnTo>
                  <a:lnTo>
                    <a:pt x="184" y="64"/>
                  </a:lnTo>
                  <a:lnTo>
                    <a:pt x="169" y="61"/>
                  </a:lnTo>
                  <a:lnTo>
                    <a:pt x="153" y="61"/>
                  </a:lnTo>
                  <a:lnTo>
                    <a:pt x="133" y="59"/>
                  </a:lnTo>
                  <a:lnTo>
                    <a:pt x="112" y="64"/>
                  </a:lnTo>
                  <a:lnTo>
                    <a:pt x="91" y="69"/>
                  </a:lnTo>
                  <a:lnTo>
                    <a:pt x="72" y="76"/>
                  </a:lnTo>
                  <a:lnTo>
                    <a:pt x="53" y="80"/>
                  </a:lnTo>
                  <a:lnTo>
                    <a:pt x="37" y="79"/>
                  </a:lnTo>
                  <a:lnTo>
                    <a:pt x="23" y="68"/>
                  </a:lnTo>
                  <a:lnTo>
                    <a:pt x="13" y="46"/>
                  </a:lnTo>
                  <a:lnTo>
                    <a:pt x="12" y="39"/>
                  </a:lnTo>
                  <a:lnTo>
                    <a:pt x="10" y="33"/>
                  </a:lnTo>
                  <a:lnTo>
                    <a:pt x="6" y="27"/>
                  </a:lnTo>
                  <a:lnTo>
                    <a:pt x="0" y="21"/>
                  </a:lnTo>
                  <a:lnTo>
                    <a:pt x="20" y="16"/>
                  </a:lnTo>
                  <a:lnTo>
                    <a:pt x="41" y="12"/>
                  </a:lnTo>
                  <a:lnTo>
                    <a:pt x="60" y="8"/>
                  </a:lnTo>
                  <a:lnTo>
                    <a:pt x="80" y="6"/>
                  </a:lnTo>
                  <a:lnTo>
                    <a:pt x="101" y="4"/>
                  </a:lnTo>
                  <a:lnTo>
                    <a:pt x="120" y="3"/>
                  </a:lnTo>
                  <a:lnTo>
                    <a:pt x="140" y="1"/>
                  </a:lnTo>
                  <a:lnTo>
                    <a:pt x="159" y="0"/>
                  </a:lnTo>
                  <a:lnTo>
                    <a:pt x="179" y="0"/>
                  </a:lnTo>
                  <a:lnTo>
                    <a:pt x="198" y="1"/>
                  </a:lnTo>
                  <a:lnTo>
                    <a:pt x="217" y="3"/>
                  </a:lnTo>
                  <a:lnTo>
                    <a:pt x="237" y="4"/>
                  </a:lnTo>
                  <a:lnTo>
                    <a:pt x="255" y="6"/>
                  </a:lnTo>
                  <a:lnTo>
                    <a:pt x="275" y="10"/>
                  </a:lnTo>
                  <a:lnTo>
                    <a:pt x="293" y="13"/>
                  </a:lnTo>
                  <a:lnTo>
                    <a:pt x="312" y="16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82280" y="1447560"/>
              <a:ext cx="1447560" cy="1572840"/>
            </a:xfrm>
            <a:custGeom>
              <a:avLst/>
              <a:gdLst/>
              <a:ahLst/>
              <a:rect l="l" t="t" r="r" b="b"/>
              <a:pathLst>
                <a:path w="981" h="1129">
                  <a:moveTo>
                    <a:pt x="203" y="79"/>
                  </a:moveTo>
                  <a:lnTo>
                    <a:pt x="213" y="75"/>
                  </a:lnTo>
                  <a:lnTo>
                    <a:pt x="225" y="70"/>
                  </a:lnTo>
                  <a:lnTo>
                    <a:pt x="236" y="66"/>
                  </a:lnTo>
                  <a:lnTo>
                    <a:pt x="248" y="63"/>
                  </a:lnTo>
                  <a:lnTo>
                    <a:pt x="261" y="61"/>
                  </a:lnTo>
                  <a:lnTo>
                    <a:pt x="272" y="60"/>
                  </a:lnTo>
                  <a:lnTo>
                    <a:pt x="285" y="58"/>
                  </a:lnTo>
                  <a:lnTo>
                    <a:pt x="298" y="58"/>
                  </a:lnTo>
                  <a:lnTo>
                    <a:pt x="310" y="58"/>
                  </a:lnTo>
                  <a:lnTo>
                    <a:pt x="322" y="60"/>
                  </a:lnTo>
                  <a:lnTo>
                    <a:pt x="334" y="61"/>
                  </a:lnTo>
                  <a:lnTo>
                    <a:pt x="347" y="63"/>
                  </a:lnTo>
                  <a:lnTo>
                    <a:pt x="359" y="66"/>
                  </a:lnTo>
                  <a:lnTo>
                    <a:pt x="370" y="70"/>
                  </a:lnTo>
                  <a:lnTo>
                    <a:pt x="382" y="73"/>
                  </a:lnTo>
                  <a:lnTo>
                    <a:pt x="393" y="78"/>
                  </a:lnTo>
                  <a:lnTo>
                    <a:pt x="411" y="77"/>
                  </a:lnTo>
                  <a:lnTo>
                    <a:pt x="427" y="72"/>
                  </a:lnTo>
                  <a:lnTo>
                    <a:pt x="442" y="65"/>
                  </a:lnTo>
                  <a:lnTo>
                    <a:pt x="458" y="58"/>
                  </a:lnTo>
                  <a:lnTo>
                    <a:pt x="473" y="51"/>
                  </a:lnTo>
                  <a:lnTo>
                    <a:pt x="488" y="46"/>
                  </a:lnTo>
                  <a:lnTo>
                    <a:pt x="504" y="42"/>
                  </a:lnTo>
                  <a:lnTo>
                    <a:pt x="521" y="42"/>
                  </a:lnTo>
                  <a:lnTo>
                    <a:pt x="527" y="64"/>
                  </a:lnTo>
                  <a:lnTo>
                    <a:pt x="538" y="81"/>
                  </a:lnTo>
                  <a:lnTo>
                    <a:pt x="555" y="98"/>
                  </a:lnTo>
                  <a:lnTo>
                    <a:pt x="572" y="111"/>
                  </a:lnTo>
                  <a:lnTo>
                    <a:pt x="590" y="125"/>
                  </a:lnTo>
                  <a:lnTo>
                    <a:pt x="608" y="140"/>
                  </a:lnTo>
                  <a:lnTo>
                    <a:pt x="623" y="156"/>
                  </a:lnTo>
                  <a:lnTo>
                    <a:pt x="633" y="176"/>
                  </a:lnTo>
                  <a:lnTo>
                    <a:pt x="648" y="195"/>
                  </a:lnTo>
                  <a:lnTo>
                    <a:pt x="670" y="205"/>
                  </a:lnTo>
                  <a:lnTo>
                    <a:pt x="694" y="208"/>
                  </a:lnTo>
                  <a:lnTo>
                    <a:pt x="719" y="209"/>
                  </a:lnTo>
                  <a:lnTo>
                    <a:pt x="742" y="213"/>
                  </a:lnTo>
                  <a:lnTo>
                    <a:pt x="760" y="220"/>
                  </a:lnTo>
                  <a:lnTo>
                    <a:pt x="770" y="236"/>
                  </a:lnTo>
                  <a:lnTo>
                    <a:pt x="770" y="265"/>
                  </a:lnTo>
                  <a:lnTo>
                    <a:pt x="748" y="299"/>
                  </a:lnTo>
                  <a:lnTo>
                    <a:pt x="750" y="287"/>
                  </a:lnTo>
                  <a:lnTo>
                    <a:pt x="749" y="273"/>
                  </a:lnTo>
                  <a:lnTo>
                    <a:pt x="746" y="260"/>
                  </a:lnTo>
                  <a:lnTo>
                    <a:pt x="740" y="248"/>
                  </a:lnTo>
                  <a:lnTo>
                    <a:pt x="733" y="242"/>
                  </a:lnTo>
                  <a:lnTo>
                    <a:pt x="725" y="238"/>
                  </a:lnTo>
                  <a:lnTo>
                    <a:pt x="716" y="238"/>
                  </a:lnTo>
                  <a:lnTo>
                    <a:pt x="707" y="238"/>
                  </a:lnTo>
                  <a:lnTo>
                    <a:pt x="699" y="240"/>
                  </a:lnTo>
                  <a:lnTo>
                    <a:pt x="689" y="244"/>
                  </a:lnTo>
                  <a:lnTo>
                    <a:pt x="681" y="247"/>
                  </a:lnTo>
                  <a:lnTo>
                    <a:pt x="673" y="250"/>
                  </a:lnTo>
                  <a:lnTo>
                    <a:pt x="666" y="254"/>
                  </a:lnTo>
                  <a:lnTo>
                    <a:pt x="659" y="259"/>
                  </a:lnTo>
                  <a:lnTo>
                    <a:pt x="654" y="266"/>
                  </a:lnTo>
                  <a:lnTo>
                    <a:pt x="649" y="273"/>
                  </a:lnTo>
                  <a:lnTo>
                    <a:pt x="644" y="280"/>
                  </a:lnTo>
                  <a:lnTo>
                    <a:pt x="642" y="287"/>
                  </a:lnTo>
                  <a:lnTo>
                    <a:pt x="639" y="295"/>
                  </a:lnTo>
                  <a:lnTo>
                    <a:pt x="638" y="303"/>
                  </a:lnTo>
                  <a:lnTo>
                    <a:pt x="647" y="326"/>
                  </a:lnTo>
                  <a:lnTo>
                    <a:pt x="654" y="349"/>
                  </a:lnTo>
                  <a:lnTo>
                    <a:pt x="659" y="373"/>
                  </a:lnTo>
                  <a:lnTo>
                    <a:pt x="666" y="397"/>
                  </a:lnTo>
                  <a:lnTo>
                    <a:pt x="670" y="403"/>
                  </a:lnTo>
                  <a:lnTo>
                    <a:pt x="673" y="409"/>
                  </a:lnTo>
                  <a:lnTo>
                    <a:pt x="677" y="416"/>
                  </a:lnTo>
                  <a:lnTo>
                    <a:pt x="681" y="421"/>
                  </a:lnTo>
                  <a:lnTo>
                    <a:pt x="686" y="426"/>
                  </a:lnTo>
                  <a:lnTo>
                    <a:pt x="693" y="429"/>
                  </a:lnTo>
                  <a:lnTo>
                    <a:pt x="699" y="432"/>
                  </a:lnTo>
                  <a:lnTo>
                    <a:pt x="707" y="432"/>
                  </a:lnTo>
                  <a:lnTo>
                    <a:pt x="715" y="421"/>
                  </a:lnTo>
                  <a:lnTo>
                    <a:pt x="719" y="409"/>
                  </a:lnTo>
                  <a:lnTo>
                    <a:pt x="721" y="396"/>
                  </a:lnTo>
                  <a:lnTo>
                    <a:pt x="722" y="383"/>
                  </a:lnTo>
                  <a:lnTo>
                    <a:pt x="723" y="397"/>
                  </a:lnTo>
                  <a:lnTo>
                    <a:pt x="725" y="411"/>
                  </a:lnTo>
                  <a:lnTo>
                    <a:pt x="729" y="425"/>
                  </a:lnTo>
                  <a:lnTo>
                    <a:pt x="737" y="436"/>
                  </a:lnTo>
                  <a:lnTo>
                    <a:pt x="746" y="445"/>
                  </a:lnTo>
                  <a:lnTo>
                    <a:pt x="757" y="452"/>
                  </a:lnTo>
                  <a:lnTo>
                    <a:pt x="770" y="457"/>
                  </a:lnTo>
                  <a:lnTo>
                    <a:pt x="784" y="462"/>
                  </a:lnTo>
                  <a:lnTo>
                    <a:pt x="794" y="467"/>
                  </a:lnTo>
                  <a:lnTo>
                    <a:pt x="802" y="475"/>
                  </a:lnTo>
                  <a:lnTo>
                    <a:pt x="805" y="488"/>
                  </a:lnTo>
                  <a:lnTo>
                    <a:pt x="801" y="505"/>
                  </a:lnTo>
                  <a:lnTo>
                    <a:pt x="790" y="519"/>
                  </a:lnTo>
                  <a:lnTo>
                    <a:pt x="779" y="535"/>
                  </a:lnTo>
                  <a:lnTo>
                    <a:pt x="774" y="551"/>
                  </a:lnTo>
                  <a:lnTo>
                    <a:pt x="774" y="570"/>
                  </a:lnTo>
                  <a:lnTo>
                    <a:pt x="782" y="579"/>
                  </a:lnTo>
                  <a:lnTo>
                    <a:pt x="785" y="592"/>
                  </a:lnTo>
                  <a:lnTo>
                    <a:pt x="784" y="604"/>
                  </a:lnTo>
                  <a:lnTo>
                    <a:pt x="783" y="617"/>
                  </a:lnTo>
                  <a:lnTo>
                    <a:pt x="775" y="645"/>
                  </a:lnTo>
                  <a:lnTo>
                    <a:pt x="769" y="672"/>
                  </a:lnTo>
                  <a:lnTo>
                    <a:pt x="768" y="701"/>
                  </a:lnTo>
                  <a:lnTo>
                    <a:pt x="770" y="731"/>
                  </a:lnTo>
                  <a:lnTo>
                    <a:pt x="774" y="737"/>
                  </a:lnTo>
                  <a:lnTo>
                    <a:pt x="777" y="742"/>
                  </a:lnTo>
                  <a:lnTo>
                    <a:pt x="782" y="745"/>
                  </a:lnTo>
                  <a:lnTo>
                    <a:pt x="787" y="748"/>
                  </a:lnTo>
                  <a:lnTo>
                    <a:pt x="792" y="752"/>
                  </a:lnTo>
                  <a:lnTo>
                    <a:pt x="797" y="754"/>
                  </a:lnTo>
                  <a:lnTo>
                    <a:pt x="802" y="758"/>
                  </a:lnTo>
                  <a:lnTo>
                    <a:pt x="807" y="760"/>
                  </a:lnTo>
                  <a:lnTo>
                    <a:pt x="815" y="760"/>
                  </a:lnTo>
                  <a:lnTo>
                    <a:pt x="822" y="760"/>
                  </a:lnTo>
                  <a:lnTo>
                    <a:pt x="829" y="759"/>
                  </a:lnTo>
                  <a:lnTo>
                    <a:pt x="836" y="758"/>
                  </a:lnTo>
                  <a:lnTo>
                    <a:pt x="842" y="757"/>
                  </a:lnTo>
                  <a:lnTo>
                    <a:pt x="847" y="753"/>
                  </a:lnTo>
                  <a:lnTo>
                    <a:pt x="853" y="750"/>
                  </a:lnTo>
                  <a:lnTo>
                    <a:pt x="859" y="745"/>
                  </a:lnTo>
                  <a:lnTo>
                    <a:pt x="867" y="734"/>
                  </a:lnTo>
                  <a:lnTo>
                    <a:pt x="875" y="722"/>
                  </a:lnTo>
                  <a:lnTo>
                    <a:pt x="881" y="709"/>
                  </a:lnTo>
                  <a:lnTo>
                    <a:pt x="886" y="695"/>
                  </a:lnTo>
                  <a:lnTo>
                    <a:pt x="893" y="684"/>
                  </a:lnTo>
                  <a:lnTo>
                    <a:pt x="900" y="671"/>
                  </a:lnTo>
                  <a:lnTo>
                    <a:pt x="911" y="661"/>
                  </a:lnTo>
                  <a:lnTo>
                    <a:pt x="922" y="651"/>
                  </a:lnTo>
                  <a:lnTo>
                    <a:pt x="936" y="595"/>
                  </a:lnTo>
                  <a:lnTo>
                    <a:pt x="937" y="610"/>
                  </a:lnTo>
                  <a:lnTo>
                    <a:pt x="934" y="629"/>
                  </a:lnTo>
                  <a:lnTo>
                    <a:pt x="936" y="647"/>
                  </a:lnTo>
                  <a:lnTo>
                    <a:pt x="951" y="659"/>
                  </a:lnTo>
                  <a:lnTo>
                    <a:pt x="981" y="661"/>
                  </a:lnTo>
                  <a:lnTo>
                    <a:pt x="953" y="701"/>
                  </a:lnTo>
                  <a:lnTo>
                    <a:pt x="944" y="700"/>
                  </a:lnTo>
                  <a:lnTo>
                    <a:pt x="935" y="700"/>
                  </a:lnTo>
                  <a:lnTo>
                    <a:pt x="926" y="702"/>
                  </a:lnTo>
                  <a:lnTo>
                    <a:pt x="916" y="705"/>
                  </a:lnTo>
                  <a:lnTo>
                    <a:pt x="908" y="709"/>
                  </a:lnTo>
                  <a:lnTo>
                    <a:pt x="900" y="715"/>
                  </a:lnTo>
                  <a:lnTo>
                    <a:pt x="895" y="722"/>
                  </a:lnTo>
                  <a:lnTo>
                    <a:pt x="890" y="731"/>
                  </a:lnTo>
                  <a:lnTo>
                    <a:pt x="884" y="743"/>
                  </a:lnTo>
                  <a:lnTo>
                    <a:pt x="878" y="754"/>
                  </a:lnTo>
                  <a:lnTo>
                    <a:pt x="871" y="765"/>
                  </a:lnTo>
                  <a:lnTo>
                    <a:pt x="860" y="769"/>
                  </a:lnTo>
                  <a:lnTo>
                    <a:pt x="845" y="770"/>
                  </a:lnTo>
                  <a:lnTo>
                    <a:pt x="830" y="770"/>
                  </a:lnTo>
                  <a:lnTo>
                    <a:pt x="814" y="772"/>
                  </a:lnTo>
                  <a:lnTo>
                    <a:pt x="798" y="774"/>
                  </a:lnTo>
                  <a:lnTo>
                    <a:pt x="784" y="778"/>
                  </a:lnTo>
                  <a:lnTo>
                    <a:pt x="770" y="787"/>
                  </a:lnTo>
                  <a:lnTo>
                    <a:pt x="760" y="798"/>
                  </a:lnTo>
                  <a:lnTo>
                    <a:pt x="752" y="813"/>
                  </a:lnTo>
                  <a:lnTo>
                    <a:pt x="747" y="833"/>
                  </a:lnTo>
                  <a:lnTo>
                    <a:pt x="747" y="853"/>
                  </a:lnTo>
                  <a:lnTo>
                    <a:pt x="746" y="873"/>
                  </a:lnTo>
                  <a:lnTo>
                    <a:pt x="737" y="890"/>
                  </a:lnTo>
                  <a:lnTo>
                    <a:pt x="738" y="909"/>
                  </a:lnTo>
                  <a:lnTo>
                    <a:pt x="744" y="925"/>
                  </a:lnTo>
                  <a:lnTo>
                    <a:pt x="753" y="940"/>
                  </a:lnTo>
                  <a:lnTo>
                    <a:pt x="763" y="954"/>
                  </a:lnTo>
                  <a:lnTo>
                    <a:pt x="756" y="958"/>
                  </a:lnTo>
                  <a:lnTo>
                    <a:pt x="749" y="960"/>
                  </a:lnTo>
                  <a:lnTo>
                    <a:pt x="741" y="963"/>
                  </a:lnTo>
                  <a:lnTo>
                    <a:pt x="733" y="965"/>
                  </a:lnTo>
                  <a:lnTo>
                    <a:pt x="732" y="944"/>
                  </a:lnTo>
                  <a:lnTo>
                    <a:pt x="730" y="925"/>
                  </a:lnTo>
                  <a:lnTo>
                    <a:pt x="726" y="905"/>
                  </a:lnTo>
                  <a:lnTo>
                    <a:pt x="722" y="887"/>
                  </a:lnTo>
                  <a:lnTo>
                    <a:pt x="715" y="868"/>
                  </a:lnTo>
                  <a:lnTo>
                    <a:pt x="706" y="850"/>
                  </a:lnTo>
                  <a:lnTo>
                    <a:pt x="696" y="833"/>
                  </a:lnTo>
                  <a:lnTo>
                    <a:pt x="685" y="816"/>
                  </a:lnTo>
                  <a:lnTo>
                    <a:pt x="669" y="806"/>
                  </a:lnTo>
                  <a:lnTo>
                    <a:pt x="654" y="795"/>
                  </a:lnTo>
                  <a:lnTo>
                    <a:pt x="638" y="784"/>
                  </a:lnTo>
                  <a:lnTo>
                    <a:pt x="620" y="774"/>
                  </a:lnTo>
                  <a:lnTo>
                    <a:pt x="603" y="766"/>
                  </a:lnTo>
                  <a:lnTo>
                    <a:pt x="586" y="762"/>
                  </a:lnTo>
                  <a:lnTo>
                    <a:pt x="566" y="763"/>
                  </a:lnTo>
                  <a:lnTo>
                    <a:pt x="546" y="770"/>
                  </a:lnTo>
                  <a:lnTo>
                    <a:pt x="538" y="775"/>
                  </a:lnTo>
                  <a:lnTo>
                    <a:pt x="532" y="782"/>
                  </a:lnTo>
                  <a:lnTo>
                    <a:pt x="526" y="791"/>
                  </a:lnTo>
                  <a:lnTo>
                    <a:pt x="522" y="800"/>
                  </a:lnTo>
                  <a:lnTo>
                    <a:pt x="514" y="810"/>
                  </a:lnTo>
                  <a:lnTo>
                    <a:pt x="506" y="820"/>
                  </a:lnTo>
                  <a:lnTo>
                    <a:pt x="498" y="830"/>
                  </a:lnTo>
                  <a:lnTo>
                    <a:pt x="490" y="841"/>
                  </a:lnTo>
                  <a:lnTo>
                    <a:pt x="484" y="852"/>
                  </a:lnTo>
                  <a:lnTo>
                    <a:pt x="478" y="864"/>
                  </a:lnTo>
                  <a:lnTo>
                    <a:pt x="476" y="876"/>
                  </a:lnTo>
                  <a:lnTo>
                    <a:pt x="475" y="889"/>
                  </a:lnTo>
                  <a:lnTo>
                    <a:pt x="491" y="906"/>
                  </a:lnTo>
                  <a:lnTo>
                    <a:pt x="497" y="929"/>
                  </a:lnTo>
                  <a:lnTo>
                    <a:pt x="499" y="954"/>
                  </a:lnTo>
                  <a:lnTo>
                    <a:pt x="508" y="975"/>
                  </a:lnTo>
                  <a:lnTo>
                    <a:pt x="514" y="981"/>
                  </a:lnTo>
                  <a:lnTo>
                    <a:pt x="520" y="986"/>
                  </a:lnTo>
                  <a:lnTo>
                    <a:pt x="527" y="989"/>
                  </a:lnTo>
                  <a:lnTo>
                    <a:pt x="534" y="992"/>
                  </a:lnTo>
                  <a:lnTo>
                    <a:pt x="542" y="994"/>
                  </a:lnTo>
                  <a:lnTo>
                    <a:pt x="549" y="995"/>
                  </a:lnTo>
                  <a:lnTo>
                    <a:pt x="557" y="996"/>
                  </a:lnTo>
                  <a:lnTo>
                    <a:pt x="564" y="997"/>
                  </a:lnTo>
                  <a:lnTo>
                    <a:pt x="552" y="1004"/>
                  </a:lnTo>
                  <a:lnTo>
                    <a:pt x="541" y="1011"/>
                  </a:lnTo>
                  <a:lnTo>
                    <a:pt x="529" y="1017"/>
                  </a:lnTo>
                  <a:lnTo>
                    <a:pt x="518" y="1024"/>
                  </a:lnTo>
                  <a:lnTo>
                    <a:pt x="506" y="1030"/>
                  </a:lnTo>
                  <a:lnTo>
                    <a:pt x="495" y="1035"/>
                  </a:lnTo>
                  <a:lnTo>
                    <a:pt x="483" y="1041"/>
                  </a:lnTo>
                  <a:lnTo>
                    <a:pt x="472" y="1047"/>
                  </a:lnTo>
                  <a:lnTo>
                    <a:pt x="459" y="1053"/>
                  </a:lnTo>
                  <a:lnTo>
                    <a:pt x="447" y="1057"/>
                  </a:lnTo>
                  <a:lnTo>
                    <a:pt x="435" y="1063"/>
                  </a:lnTo>
                  <a:lnTo>
                    <a:pt x="423" y="1069"/>
                  </a:lnTo>
                  <a:lnTo>
                    <a:pt x="411" y="1073"/>
                  </a:lnTo>
                  <a:lnTo>
                    <a:pt x="399" y="1079"/>
                  </a:lnTo>
                  <a:lnTo>
                    <a:pt x="386" y="1084"/>
                  </a:lnTo>
                  <a:lnTo>
                    <a:pt x="375" y="1090"/>
                  </a:lnTo>
                  <a:lnTo>
                    <a:pt x="364" y="1091"/>
                  </a:lnTo>
                  <a:lnTo>
                    <a:pt x="354" y="1093"/>
                  </a:lnTo>
                  <a:lnTo>
                    <a:pt x="343" y="1094"/>
                  </a:lnTo>
                  <a:lnTo>
                    <a:pt x="332" y="1095"/>
                  </a:lnTo>
                  <a:lnTo>
                    <a:pt x="321" y="1098"/>
                  </a:lnTo>
                  <a:lnTo>
                    <a:pt x="310" y="1099"/>
                  </a:lnTo>
                  <a:lnTo>
                    <a:pt x="300" y="1099"/>
                  </a:lnTo>
                  <a:lnTo>
                    <a:pt x="291" y="1100"/>
                  </a:lnTo>
                  <a:lnTo>
                    <a:pt x="285" y="1094"/>
                  </a:lnTo>
                  <a:lnTo>
                    <a:pt x="278" y="1091"/>
                  </a:lnTo>
                  <a:lnTo>
                    <a:pt x="270" y="1087"/>
                  </a:lnTo>
                  <a:lnTo>
                    <a:pt x="262" y="1086"/>
                  </a:lnTo>
                  <a:lnTo>
                    <a:pt x="257" y="1079"/>
                  </a:lnTo>
                  <a:lnTo>
                    <a:pt x="251" y="1075"/>
                  </a:lnTo>
                  <a:lnTo>
                    <a:pt x="245" y="1070"/>
                  </a:lnTo>
                  <a:lnTo>
                    <a:pt x="238" y="1068"/>
                  </a:lnTo>
                  <a:lnTo>
                    <a:pt x="230" y="1065"/>
                  </a:lnTo>
                  <a:lnTo>
                    <a:pt x="221" y="1065"/>
                  </a:lnTo>
                  <a:lnTo>
                    <a:pt x="213" y="1066"/>
                  </a:lnTo>
                  <a:lnTo>
                    <a:pt x="205" y="1068"/>
                  </a:lnTo>
                  <a:lnTo>
                    <a:pt x="200" y="1070"/>
                  </a:lnTo>
                  <a:lnTo>
                    <a:pt x="194" y="1072"/>
                  </a:lnTo>
                  <a:lnTo>
                    <a:pt x="188" y="1076"/>
                  </a:lnTo>
                  <a:lnTo>
                    <a:pt x="183" y="1080"/>
                  </a:lnTo>
                  <a:lnTo>
                    <a:pt x="178" y="1085"/>
                  </a:lnTo>
                  <a:lnTo>
                    <a:pt x="174" y="1090"/>
                  </a:lnTo>
                  <a:lnTo>
                    <a:pt x="171" y="1094"/>
                  </a:lnTo>
                  <a:lnTo>
                    <a:pt x="167" y="1100"/>
                  </a:lnTo>
                  <a:lnTo>
                    <a:pt x="98" y="1129"/>
                  </a:lnTo>
                  <a:lnTo>
                    <a:pt x="84" y="1121"/>
                  </a:lnTo>
                  <a:lnTo>
                    <a:pt x="73" y="1109"/>
                  </a:lnTo>
                  <a:lnTo>
                    <a:pt x="64" y="1098"/>
                  </a:lnTo>
                  <a:lnTo>
                    <a:pt x="54" y="1084"/>
                  </a:lnTo>
                  <a:lnTo>
                    <a:pt x="45" y="1070"/>
                  </a:lnTo>
                  <a:lnTo>
                    <a:pt x="36" y="1056"/>
                  </a:lnTo>
                  <a:lnTo>
                    <a:pt x="26" y="1043"/>
                  </a:lnTo>
                  <a:lnTo>
                    <a:pt x="13" y="1032"/>
                  </a:lnTo>
                  <a:lnTo>
                    <a:pt x="20" y="1019"/>
                  </a:lnTo>
                  <a:lnTo>
                    <a:pt x="26" y="1007"/>
                  </a:lnTo>
                  <a:lnTo>
                    <a:pt x="29" y="992"/>
                  </a:lnTo>
                  <a:lnTo>
                    <a:pt x="31" y="978"/>
                  </a:lnTo>
                  <a:lnTo>
                    <a:pt x="35" y="963"/>
                  </a:lnTo>
                  <a:lnTo>
                    <a:pt x="39" y="949"/>
                  </a:lnTo>
                  <a:lnTo>
                    <a:pt x="46" y="935"/>
                  </a:lnTo>
                  <a:lnTo>
                    <a:pt x="56" y="924"/>
                  </a:lnTo>
                  <a:lnTo>
                    <a:pt x="58" y="913"/>
                  </a:lnTo>
                  <a:lnTo>
                    <a:pt x="57" y="903"/>
                  </a:lnTo>
                  <a:lnTo>
                    <a:pt x="51" y="894"/>
                  </a:lnTo>
                  <a:lnTo>
                    <a:pt x="41" y="889"/>
                  </a:lnTo>
                  <a:lnTo>
                    <a:pt x="31" y="884"/>
                  </a:lnTo>
                  <a:lnTo>
                    <a:pt x="23" y="879"/>
                  </a:lnTo>
                  <a:lnTo>
                    <a:pt x="18" y="872"/>
                  </a:lnTo>
                  <a:lnTo>
                    <a:pt x="15" y="861"/>
                  </a:lnTo>
                  <a:lnTo>
                    <a:pt x="24" y="852"/>
                  </a:lnTo>
                  <a:lnTo>
                    <a:pt x="34" y="842"/>
                  </a:lnTo>
                  <a:lnTo>
                    <a:pt x="42" y="831"/>
                  </a:lnTo>
                  <a:lnTo>
                    <a:pt x="49" y="820"/>
                  </a:lnTo>
                  <a:lnTo>
                    <a:pt x="54" y="810"/>
                  </a:lnTo>
                  <a:lnTo>
                    <a:pt x="57" y="797"/>
                  </a:lnTo>
                  <a:lnTo>
                    <a:pt x="57" y="785"/>
                  </a:lnTo>
                  <a:lnTo>
                    <a:pt x="53" y="773"/>
                  </a:lnTo>
                  <a:lnTo>
                    <a:pt x="49" y="768"/>
                  </a:lnTo>
                  <a:lnTo>
                    <a:pt x="44" y="765"/>
                  </a:lnTo>
                  <a:lnTo>
                    <a:pt x="39" y="761"/>
                  </a:lnTo>
                  <a:lnTo>
                    <a:pt x="34" y="760"/>
                  </a:lnTo>
                  <a:lnTo>
                    <a:pt x="28" y="760"/>
                  </a:lnTo>
                  <a:lnTo>
                    <a:pt x="22" y="761"/>
                  </a:lnTo>
                  <a:lnTo>
                    <a:pt x="16" y="762"/>
                  </a:lnTo>
                  <a:lnTo>
                    <a:pt x="11" y="765"/>
                  </a:lnTo>
                  <a:lnTo>
                    <a:pt x="0" y="770"/>
                  </a:lnTo>
                  <a:lnTo>
                    <a:pt x="3" y="761"/>
                  </a:lnTo>
                  <a:lnTo>
                    <a:pt x="9" y="750"/>
                  </a:lnTo>
                  <a:lnTo>
                    <a:pt x="19" y="739"/>
                  </a:lnTo>
                  <a:lnTo>
                    <a:pt x="31" y="732"/>
                  </a:lnTo>
                  <a:lnTo>
                    <a:pt x="44" y="731"/>
                  </a:lnTo>
                  <a:lnTo>
                    <a:pt x="58" y="730"/>
                  </a:lnTo>
                  <a:lnTo>
                    <a:pt x="72" y="728"/>
                  </a:lnTo>
                  <a:lnTo>
                    <a:pt x="84" y="725"/>
                  </a:lnTo>
                  <a:lnTo>
                    <a:pt x="96" y="721"/>
                  </a:lnTo>
                  <a:lnTo>
                    <a:pt x="107" y="715"/>
                  </a:lnTo>
                  <a:lnTo>
                    <a:pt x="115" y="705"/>
                  </a:lnTo>
                  <a:lnTo>
                    <a:pt x="122" y="692"/>
                  </a:lnTo>
                  <a:lnTo>
                    <a:pt x="125" y="685"/>
                  </a:lnTo>
                  <a:lnTo>
                    <a:pt x="127" y="677"/>
                  </a:lnTo>
                  <a:lnTo>
                    <a:pt x="129" y="670"/>
                  </a:lnTo>
                  <a:lnTo>
                    <a:pt x="133" y="663"/>
                  </a:lnTo>
                  <a:lnTo>
                    <a:pt x="137" y="656"/>
                  </a:lnTo>
                  <a:lnTo>
                    <a:pt x="143" y="651"/>
                  </a:lnTo>
                  <a:lnTo>
                    <a:pt x="149" y="646"/>
                  </a:lnTo>
                  <a:lnTo>
                    <a:pt x="157" y="643"/>
                  </a:lnTo>
                  <a:lnTo>
                    <a:pt x="167" y="644"/>
                  </a:lnTo>
                  <a:lnTo>
                    <a:pt x="178" y="644"/>
                  </a:lnTo>
                  <a:lnTo>
                    <a:pt x="188" y="643"/>
                  </a:lnTo>
                  <a:lnTo>
                    <a:pt x="197" y="639"/>
                  </a:lnTo>
                  <a:lnTo>
                    <a:pt x="207" y="636"/>
                  </a:lnTo>
                  <a:lnTo>
                    <a:pt x="216" y="629"/>
                  </a:lnTo>
                  <a:lnTo>
                    <a:pt x="224" y="622"/>
                  </a:lnTo>
                  <a:lnTo>
                    <a:pt x="231" y="613"/>
                  </a:lnTo>
                  <a:lnTo>
                    <a:pt x="240" y="611"/>
                  </a:lnTo>
                  <a:lnTo>
                    <a:pt x="246" y="615"/>
                  </a:lnTo>
                  <a:lnTo>
                    <a:pt x="251" y="619"/>
                  </a:lnTo>
                  <a:lnTo>
                    <a:pt x="256" y="625"/>
                  </a:lnTo>
                  <a:lnTo>
                    <a:pt x="261" y="632"/>
                  </a:lnTo>
                  <a:lnTo>
                    <a:pt x="265" y="638"/>
                  </a:lnTo>
                  <a:lnTo>
                    <a:pt x="271" y="641"/>
                  </a:lnTo>
                  <a:lnTo>
                    <a:pt x="279" y="643"/>
                  </a:lnTo>
                  <a:lnTo>
                    <a:pt x="285" y="645"/>
                  </a:lnTo>
                  <a:lnTo>
                    <a:pt x="289" y="645"/>
                  </a:lnTo>
                  <a:lnTo>
                    <a:pt x="295" y="644"/>
                  </a:lnTo>
                  <a:lnTo>
                    <a:pt x="300" y="641"/>
                  </a:lnTo>
                  <a:lnTo>
                    <a:pt x="304" y="638"/>
                  </a:lnTo>
                  <a:lnTo>
                    <a:pt x="308" y="634"/>
                  </a:lnTo>
                  <a:lnTo>
                    <a:pt x="311" y="630"/>
                  </a:lnTo>
                  <a:lnTo>
                    <a:pt x="315" y="625"/>
                  </a:lnTo>
                  <a:lnTo>
                    <a:pt x="314" y="617"/>
                  </a:lnTo>
                  <a:lnTo>
                    <a:pt x="311" y="610"/>
                  </a:lnTo>
                  <a:lnTo>
                    <a:pt x="308" y="603"/>
                  </a:lnTo>
                  <a:lnTo>
                    <a:pt x="304" y="598"/>
                  </a:lnTo>
                  <a:lnTo>
                    <a:pt x="299" y="591"/>
                  </a:lnTo>
                  <a:lnTo>
                    <a:pt x="293" y="586"/>
                  </a:lnTo>
                  <a:lnTo>
                    <a:pt x="287" y="581"/>
                  </a:lnTo>
                  <a:lnTo>
                    <a:pt x="280" y="577"/>
                  </a:lnTo>
                  <a:lnTo>
                    <a:pt x="280" y="569"/>
                  </a:lnTo>
                  <a:lnTo>
                    <a:pt x="285" y="560"/>
                  </a:lnTo>
                  <a:lnTo>
                    <a:pt x="287" y="550"/>
                  </a:lnTo>
                  <a:lnTo>
                    <a:pt x="285" y="541"/>
                  </a:lnTo>
                  <a:lnTo>
                    <a:pt x="278" y="532"/>
                  </a:lnTo>
                  <a:lnTo>
                    <a:pt x="270" y="526"/>
                  </a:lnTo>
                  <a:lnTo>
                    <a:pt x="260" y="523"/>
                  </a:lnTo>
                  <a:lnTo>
                    <a:pt x="250" y="520"/>
                  </a:lnTo>
                  <a:lnTo>
                    <a:pt x="240" y="518"/>
                  </a:lnTo>
                  <a:lnTo>
                    <a:pt x="231" y="515"/>
                  </a:lnTo>
                  <a:lnTo>
                    <a:pt x="223" y="509"/>
                  </a:lnTo>
                  <a:lnTo>
                    <a:pt x="217" y="500"/>
                  </a:lnTo>
                  <a:lnTo>
                    <a:pt x="209" y="482"/>
                  </a:lnTo>
                  <a:lnTo>
                    <a:pt x="202" y="465"/>
                  </a:lnTo>
                  <a:lnTo>
                    <a:pt x="195" y="448"/>
                  </a:lnTo>
                  <a:lnTo>
                    <a:pt x="188" y="431"/>
                  </a:lnTo>
                  <a:lnTo>
                    <a:pt x="179" y="414"/>
                  </a:lnTo>
                  <a:lnTo>
                    <a:pt x="170" y="399"/>
                  </a:lnTo>
                  <a:lnTo>
                    <a:pt x="157" y="386"/>
                  </a:lnTo>
                  <a:lnTo>
                    <a:pt x="142" y="373"/>
                  </a:lnTo>
                  <a:lnTo>
                    <a:pt x="136" y="372"/>
                  </a:lnTo>
                  <a:lnTo>
                    <a:pt x="130" y="372"/>
                  </a:lnTo>
                  <a:lnTo>
                    <a:pt x="126" y="373"/>
                  </a:lnTo>
                  <a:lnTo>
                    <a:pt x="120" y="375"/>
                  </a:lnTo>
                  <a:lnTo>
                    <a:pt x="117" y="378"/>
                  </a:lnTo>
                  <a:lnTo>
                    <a:pt x="112" y="381"/>
                  </a:lnTo>
                  <a:lnTo>
                    <a:pt x="109" y="384"/>
                  </a:lnTo>
                  <a:lnTo>
                    <a:pt x="105" y="389"/>
                  </a:lnTo>
                  <a:lnTo>
                    <a:pt x="102" y="406"/>
                  </a:lnTo>
                  <a:lnTo>
                    <a:pt x="99" y="424"/>
                  </a:lnTo>
                  <a:lnTo>
                    <a:pt x="96" y="440"/>
                  </a:lnTo>
                  <a:lnTo>
                    <a:pt x="87" y="455"/>
                  </a:lnTo>
                  <a:lnTo>
                    <a:pt x="79" y="455"/>
                  </a:lnTo>
                  <a:lnTo>
                    <a:pt x="72" y="458"/>
                  </a:lnTo>
                  <a:lnTo>
                    <a:pt x="65" y="464"/>
                  </a:lnTo>
                  <a:lnTo>
                    <a:pt x="56" y="470"/>
                  </a:lnTo>
                  <a:lnTo>
                    <a:pt x="59" y="449"/>
                  </a:lnTo>
                  <a:lnTo>
                    <a:pt x="58" y="428"/>
                  </a:lnTo>
                  <a:lnTo>
                    <a:pt x="50" y="409"/>
                  </a:lnTo>
                  <a:lnTo>
                    <a:pt x="38" y="391"/>
                  </a:lnTo>
                  <a:lnTo>
                    <a:pt x="42" y="382"/>
                  </a:lnTo>
                  <a:lnTo>
                    <a:pt x="46" y="372"/>
                  </a:lnTo>
                  <a:lnTo>
                    <a:pt x="51" y="363"/>
                  </a:lnTo>
                  <a:lnTo>
                    <a:pt x="58" y="353"/>
                  </a:lnTo>
                  <a:lnTo>
                    <a:pt x="65" y="345"/>
                  </a:lnTo>
                  <a:lnTo>
                    <a:pt x="74" y="338"/>
                  </a:lnTo>
                  <a:lnTo>
                    <a:pt x="83" y="334"/>
                  </a:lnTo>
                  <a:lnTo>
                    <a:pt x="94" y="330"/>
                  </a:lnTo>
                  <a:lnTo>
                    <a:pt x="105" y="331"/>
                  </a:lnTo>
                  <a:lnTo>
                    <a:pt x="118" y="334"/>
                  </a:lnTo>
                  <a:lnTo>
                    <a:pt x="129" y="335"/>
                  </a:lnTo>
                  <a:lnTo>
                    <a:pt x="141" y="335"/>
                  </a:lnTo>
                  <a:lnTo>
                    <a:pt x="151" y="334"/>
                  </a:lnTo>
                  <a:lnTo>
                    <a:pt x="162" y="329"/>
                  </a:lnTo>
                  <a:lnTo>
                    <a:pt x="171" y="321"/>
                  </a:lnTo>
                  <a:lnTo>
                    <a:pt x="178" y="310"/>
                  </a:lnTo>
                  <a:lnTo>
                    <a:pt x="178" y="293"/>
                  </a:lnTo>
                  <a:lnTo>
                    <a:pt x="180" y="277"/>
                  </a:lnTo>
                  <a:lnTo>
                    <a:pt x="185" y="263"/>
                  </a:lnTo>
                  <a:lnTo>
                    <a:pt x="190" y="248"/>
                  </a:lnTo>
                  <a:lnTo>
                    <a:pt x="196" y="235"/>
                  </a:lnTo>
                  <a:lnTo>
                    <a:pt x="201" y="221"/>
                  </a:lnTo>
                  <a:lnTo>
                    <a:pt x="203" y="206"/>
                  </a:lnTo>
                  <a:lnTo>
                    <a:pt x="203" y="190"/>
                  </a:lnTo>
                  <a:lnTo>
                    <a:pt x="197" y="179"/>
                  </a:lnTo>
                  <a:lnTo>
                    <a:pt x="189" y="175"/>
                  </a:lnTo>
                  <a:lnTo>
                    <a:pt x="180" y="174"/>
                  </a:lnTo>
                  <a:lnTo>
                    <a:pt x="171" y="174"/>
                  </a:lnTo>
                  <a:lnTo>
                    <a:pt x="163" y="175"/>
                  </a:lnTo>
                  <a:lnTo>
                    <a:pt x="155" y="172"/>
                  </a:lnTo>
                  <a:lnTo>
                    <a:pt x="149" y="168"/>
                  </a:lnTo>
                  <a:lnTo>
                    <a:pt x="145" y="157"/>
                  </a:lnTo>
                  <a:lnTo>
                    <a:pt x="141" y="153"/>
                  </a:lnTo>
                  <a:lnTo>
                    <a:pt x="136" y="149"/>
                  </a:lnTo>
                  <a:lnTo>
                    <a:pt x="130" y="147"/>
                  </a:lnTo>
                  <a:lnTo>
                    <a:pt x="125" y="146"/>
                  </a:lnTo>
                  <a:lnTo>
                    <a:pt x="118" y="145"/>
                  </a:lnTo>
                  <a:lnTo>
                    <a:pt x="111" y="145"/>
                  </a:lnTo>
                  <a:lnTo>
                    <a:pt x="105" y="145"/>
                  </a:lnTo>
                  <a:lnTo>
                    <a:pt x="98" y="145"/>
                  </a:lnTo>
                  <a:lnTo>
                    <a:pt x="98" y="126"/>
                  </a:lnTo>
                  <a:lnTo>
                    <a:pt x="103" y="110"/>
                  </a:lnTo>
                  <a:lnTo>
                    <a:pt x="105" y="94"/>
                  </a:lnTo>
                  <a:lnTo>
                    <a:pt x="99" y="78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7" y="57"/>
                  </a:lnTo>
                  <a:lnTo>
                    <a:pt x="69" y="51"/>
                  </a:lnTo>
                  <a:lnTo>
                    <a:pt x="61" y="47"/>
                  </a:lnTo>
                  <a:lnTo>
                    <a:pt x="53" y="41"/>
                  </a:lnTo>
                  <a:lnTo>
                    <a:pt x="46" y="35"/>
                  </a:lnTo>
                  <a:lnTo>
                    <a:pt x="41" y="28"/>
                  </a:lnTo>
                  <a:lnTo>
                    <a:pt x="51" y="25"/>
                  </a:lnTo>
                  <a:lnTo>
                    <a:pt x="61" y="22"/>
                  </a:lnTo>
                  <a:lnTo>
                    <a:pt x="72" y="17"/>
                  </a:lnTo>
                  <a:lnTo>
                    <a:pt x="82" y="13"/>
                  </a:lnTo>
                  <a:lnTo>
                    <a:pt x="92" y="9"/>
                  </a:lnTo>
                  <a:lnTo>
                    <a:pt x="103" y="5"/>
                  </a:lnTo>
                  <a:lnTo>
                    <a:pt x="113" y="2"/>
                  </a:lnTo>
                  <a:lnTo>
                    <a:pt x="125" y="0"/>
                  </a:lnTo>
                  <a:lnTo>
                    <a:pt x="130" y="11"/>
                  </a:lnTo>
                  <a:lnTo>
                    <a:pt x="136" y="24"/>
                  </a:lnTo>
                  <a:lnTo>
                    <a:pt x="144" y="38"/>
                  </a:lnTo>
                  <a:lnTo>
                    <a:pt x="152" y="49"/>
                  </a:lnTo>
                  <a:lnTo>
                    <a:pt x="163" y="61"/>
                  </a:lnTo>
                  <a:lnTo>
                    <a:pt x="174" y="70"/>
                  </a:lnTo>
                  <a:lnTo>
                    <a:pt x="188" y="77"/>
                  </a:lnTo>
                  <a:lnTo>
                    <a:pt x="203" y="79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26440" y="1503000"/>
              <a:ext cx="983880" cy="1194480"/>
            </a:xfrm>
            <a:custGeom>
              <a:avLst/>
              <a:gdLst/>
              <a:ahLst/>
              <a:rect l="l" t="t" r="r" b="b"/>
              <a:pathLst>
                <a:path w="664" h="858">
                  <a:moveTo>
                    <a:pt x="410" y="19"/>
                  </a:moveTo>
                  <a:lnTo>
                    <a:pt x="414" y="19"/>
                  </a:lnTo>
                  <a:lnTo>
                    <a:pt x="420" y="21"/>
                  </a:lnTo>
                  <a:lnTo>
                    <a:pt x="425" y="22"/>
                  </a:lnTo>
                  <a:lnTo>
                    <a:pt x="429" y="24"/>
                  </a:lnTo>
                  <a:lnTo>
                    <a:pt x="435" y="26"/>
                  </a:lnTo>
                  <a:lnTo>
                    <a:pt x="440" y="30"/>
                  </a:lnTo>
                  <a:lnTo>
                    <a:pt x="444" y="32"/>
                  </a:lnTo>
                  <a:lnTo>
                    <a:pt x="449" y="36"/>
                  </a:lnTo>
                  <a:lnTo>
                    <a:pt x="456" y="47"/>
                  </a:lnTo>
                  <a:lnTo>
                    <a:pt x="457" y="60"/>
                  </a:lnTo>
                  <a:lnTo>
                    <a:pt x="455" y="72"/>
                  </a:lnTo>
                  <a:lnTo>
                    <a:pt x="451" y="85"/>
                  </a:lnTo>
                  <a:lnTo>
                    <a:pt x="449" y="98"/>
                  </a:lnTo>
                  <a:lnTo>
                    <a:pt x="450" y="109"/>
                  </a:lnTo>
                  <a:lnTo>
                    <a:pt x="456" y="118"/>
                  </a:lnTo>
                  <a:lnTo>
                    <a:pt x="470" y="127"/>
                  </a:lnTo>
                  <a:lnTo>
                    <a:pt x="475" y="129"/>
                  </a:lnTo>
                  <a:lnTo>
                    <a:pt x="482" y="130"/>
                  </a:lnTo>
                  <a:lnTo>
                    <a:pt x="489" y="129"/>
                  </a:lnTo>
                  <a:lnTo>
                    <a:pt x="496" y="129"/>
                  </a:lnTo>
                  <a:lnTo>
                    <a:pt x="502" y="130"/>
                  </a:lnTo>
                  <a:lnTo>
                    <a:pt x="507" y="132"/>
                  </a:lnTo>
                  <a:lnTo>
                    <a:pt x="509" y="137"/>
                  </a:lnTo>
                  <a:lnTo>
                    <a:pt x="508" y="146"/>
                  </a:lnTo>
                  <a:lnTo>
                    <a:pt x="512" y="151"/>
                  </a:lnTo>
                  <a:lnTo>
                    <a:pt x="517" y="155"/>
                  </a:lnTo>
                  <a:lnTo>
                    <a:pt x="523" y="158"/>
                  </a:lnTo>
                  <a:lnTo>
                    <a:pt x="530" y="158"/>
                  </a:lnTo>
                  <a:lnTo>
                    <a:pt x="535" y="159"/>
                  </a:lnTo>
                  <a:lnTo>
                    <a:pt x="542" y="158"/>
                  </a:lnTo>
                  <a:lnTo>
                    <a:pt x="548" y="158"/>
                  </a:lnTo>
                  <a:lnTo>
                    <a:pt x="554" y="156"/>
                  </a:lnTo>
                  <a:lnTo>
                    <a:pt x="548" y="180"/>
                  </a:lnTo>
                  <a:lnTo>
                    <a:pt x="541" y="204"/>
                  </a:lnTo>
                  <a:lnTo>
                    <a:pt x="534" y="229"/>
                  </a:lnTo>
                  <a:lnTo>
                    <a:pt x="532" y="256"/>
                  </a:lnTo>
                  <a:lnTo>
                    <a:pt x="522" y="267"/>
                  </a:lnTo>
                  <a:lnTo>
                    <a:pt x="509" y="272"/>
                  </a:lnTo>
                  <a:lnTo>
                    <a:pt x="496" y="272"/>
                  </a:lnTo>
                  <a:lnTo>
                    <a:pt x="482" y="269"/>
                  </a:lnTo>
                  <a:lnTo>
                    <a:pt x="469" y="266"/>
                  </a:lnTo>
                  <a:lnTo>
                    <a:pt x="455" y="266"/>
                  </a:lnTo>
                  <a:lnTo>
                    <a:pt x="442" y="271"/>
                  </a:lnTo>
                  <a:lnTo>
                    <a:pt x="431" y="281"/>
                  </a:lnTo>
                  <a:lnTo>
                    <a:pt x="422" y="289"/>
                  </a:lnTo>
                  <a:lnTo>
                    <a:pt x="416" y="297"/>
                  </a:lnTo>
                  <a:lnTo>
                    <a:pt x="407" y="305"/>
                  </a:lnTo>
                  <a:lnTo>
                    <a:pt x="401" y="314"/>
                  </a:lnTo>
                  <a:lnTo>
                    <a:pt x="396" y="324"/>
                  </a:lnTo>
                  <a:lnTo>
                    <a:pt x="391" y="333"/>
                  </a:lnTo>
                  <a:lnTo>
                    <a:pt x="390" y="343"/>
                  </a:lnTo>
                  <a:lnTo>
                    <a:pt x="391" y="355"/>
                  </a:lnTo>
                  <a:lnTo>
                    <a:pt x="404" y="366"/>
                  </a:lnTo>
                  <a:lnTo>
                    <a:pt x="409" y="380"/>
                  </a:lnTo>
                  <a:lnTo>
                    <a:pt x="410" y="395"/>
                  </a:lnTo>
                  <a:lnTo>
                    <a:pt x="407" y="410"/>
                  </a:lnTo>
                  <a:lnTo>
                    <a:pt x="406" y="425"/>
                  </a:lnTo>
                  <a:lnTo>
                    <a:pt x="409" y="439"/>
                  </a:lnTo>
                  <a:lnTo>
                    <a:pt x="416" y="451"/>
                  </a:lnTo>
                  <a:lnTo>
                    <a:pt x="431" y="461"/>
                  </a:lnTo>
                  <a:lnTo>
                    <a:pt x="437" y="458"/>
                  </a:lnTo>
                  <a:lnTo>
                    <a:pt x="443" y="455"/>
                  </a:lnTo>
                  <a:lnTo>
                    <a:pt x="449" y="450"/>
                  </a:lnTo>
                  <a:lnTo>
                    <a:pt x="454" y="445"/>
                  </a:lnTo>
                  <a:lnTo>
                    <a:pt x="458" y="440"/>
                  </a:lnTo>
                  <a:lnTo>
                    <a:pt x="463" y="436"/>
                  </a:lnTo>
                  <a:lnTo>
                    <a:pt x="470" y="435"/>
                  </a:lnTo>
                  <a:lnTo>
                    <a:pt x="479" y="436"/>
                  </a:lnTo>
                  <a:lnTo>
                    <a:pt x="490" y="418"/>
                  </a:lnTo>
                  <a:lnTo>
                    <a:pt x="496" y="396"/>
                  </a:lnTo>
                  <a:lnTo>
                    <a:pt x="502" y="375"/>
                  </a:lnTo>
                  <a:lnTo>
                    <a:pt x="512" y="357"/>
                  </a:lnTo>
                  <a:lnTo>
                    <a:pt x="520" y="362"/>
                  </a:lnTo>
                  <a:lnTo>
                    <a:pt x="527" y="368"/>
                  </a:lnTo>
                  <a:lnTo>
                    <a:pt x="533" y="375"/>
                  </a:lnTo>
                  <a:lnTo>
                    <a:pt x="538" y="383"/>
                  </a:lnTo>
                  <a:lnTo>
                    <a:pt x="545" y="402"/>
                  </a:lnTo>
                  <a:lnTo>
                    <a:pt x="552" y="421"/>
                  </a:lnTo>
                  <a:lnTo>
                    <a:pt x="560" y="441"/>
                  </a:lnTo>
                  <a:lnTo>
                    <a:pt x="569" y="459"/>
                  </a:lnTo>
                  <a:lnTo>
                    <a:pt x="580" y="477"/>
                  </a:lnTo>
                  <a:lnTo>
                    <a:pt x="595" y="491"/>
                  </a:lnTo>
                  <a:lnTo>
                    <a:pt x="613" y="500"/>
                  </a:lnTo>
                  <a:lnTo>
                    <a:pt x="635" y="504"/>
                  </a:lnTo>
                  <a:lnTo>
                    <a:pt x="635" y="512"/>
                  </a:lnTo>
                  <a:lnTo>
                    <a:pt x="631" y="522"/>
                  </a:lnTo>
                  <a:lnTo>
                    <a:pt x="628" y="530"/>
                  </a:lnTo>
                  <a:lnTo>
                    <a:pt x="626" y="540"/>
                  </a:lnTo>
                  <a:lnTo>
                    <a:pt x="631" y="546"/>
                  </a:lnTo>
                  <a:lnTo>
                    <a:pt x="637" y="551"/>
                  </a:lnTo>
                  <a:lnTo>
                    <a:pt x="643" y="553"/>
                  </a:lnTo>
                  <a:lnTo>
                    <a:pt x="650" y="556"/>
                  </a:lnTo>
                  <a:lnTo>
                    <a:pt x="654" y="560"/>
                  </a:lnTo>
                  <a:lnTo>
                    <a:pt x="660" y="564"/>
                  </a:lnTo>
                  <a:lnTo>
                    <a:pt x="663" y="570"/>
                  </a:lnTo>
                  <a:lnTo>
                    <a:pt x="664" y="578"/>
                  </a:lnTo>
                  <a:lnTo>
                    <a:pt x="658" y="579"/>
                  </a:lnTo>
                  <a:lnTo>
                    <a:pt x="651" y="578"/>
                  </a:lnTo>
                  <a:lnTo>
                    <a:pt x="645" y="575"/>
                  </a:lnTo>
                  <a:lnTo>
                    <a:pt x="640" y="569"/>
                  </a:lnTo>
                  <a:lnTo>
                    <a:pt x="635" y="563"/>
                  </a:lnTo>
                  <a:lnTo>
                    <a:pt x="630" y="557"/>
                  </a:lnTo>
                  <a:lnTo>
                    <a:pt x="624" y="553"/>
                  </a:lnTo>
                  <a:lnTo>
                    <a:pt x="617" y="551"/>
                  </a:lnTo>
                  <a:lnTo>
                    <a:pt x="608" y="548"/>
                  </a:lnTo>
                  <a:lnTo>
                    <a:pt x="599" y="548"/>
                  </a:lnTo>
                  <a:lnTo>
                    <a:pt x="592" y="552"/>
                  </a:lnTo>
                  <a:lnTo>
                    <a:pt x="585" y="556"/>
                  </a:lnTo>
                  <a:lnTo>
                    <a:pt x="578" y="562"/>
                  </a:lnTo>
                  <a:lnTo>
                    <a:pt x="571" y="569"/>
                  </a:lnTo>
                  <a:lnTo>
                    <a:pt x="564" y="575"/>
                  </a:lnTo>
                  <a:lnTo>
                    <a:pt x="557" y="579"/>
                  </a:lnTo>
                  <a:lnTo>
                    <a:pt x="549" y="578"/>
                  </a:lnTo>
                  <a:lnTo>
                    <a:pt x="540" y="578"/>
                  </a:lnTo>
                  <a:lnTo>
                    <a:pt x="532" y="578"/>
                  </a:lnTo>
                  <a:lnTo>
                    <a:pt x="524" y="579"/>
                  </a:lnTo>
                  <a:lnTo>
                    <a:pt x="516" y="583"/>
                  </a:lnTo>
                  <a:lnTo>
                    <a:pt x="509" y="586"/>
                  </a:lnTo>
                  <a:lnTo>
                    <a:pt x="502" y="591"/>
                  </a:lnTo>
                  <a:lnTo>
                    <a:pt x="495" y="597"/>
                  </a:lnTo>
                  <a:lnTo>
                    <a:pt x="488" y="606"/>
                  </a:lnTo>
                  <a:lnTo>
                    <a:pt x="482" y="617"/>
                  </a:lnTo>
                  <a:lnTo>
                    <a:pt x="479" y="630"/>
                  </a:lnTo>
                  <a:lnTo>
                    <a:pt x="474" y="642"/>
                  </a:lnTo>
                  <a:lnTo>
                    <a:pt x="469" y="652"/>
                  </a:lnTo>
                  <a:lnTo>
                    <a:pt x="461" y="661"/>
                  </a:lnTo>
                  <a:lnTo>
                    <a:pt x="450" y="666"/>
                  </a:lnTo>
                  <a:lnTo>
                    <a:pt x="436" y="667"/>
                  </a:lnTo>
                  <a:lnTo>
                    <a:pt x="427" y="667"/>
                  </a:lnTo>
                  <a:lnTo>
                    <a:pt x="418" y="668"/>
                  </a:lnTo>
                  <a:lnTo>
                    <a:pt x="409" y="669"/>
                  </a:lnTo>
                  <a:lnTo>
                    <a:pt x="401" y="671"/>
                  </a:lnTo>
                  <a:lnTo>
                    <a:pt x="393" y="675"/>
                  </a:lnTo>
                  <a:lnTo>
                    <a:pt x="384" y="678"/>
                  </a:lnTo>
                  <a:lnTo>
                    <a:pt x="376" y="682"/>
                  </a:lnTo>
                  <a:lnTo>
                    <a:pt x="369" y="688"/>
                  </a:lnTo>
                  <a:lnTo>
                    <a:pt x="364" y="696"/>
                  </a:lnTo>
                  <a:lnTo>
                    <a:pt x="358" y="704"/>
                  </a:lnTo>
                  <a:lnTo>
                    <a:pt x="353" y="713"/>
                  </a:lnTo>
                  <a:lnTo>
                    <a:pt x="350" y="721"/>
                  </a:lnTo>
                  <a:lnTo>
                    <a:pt x="345" y="730"/>
                  </a:lnTo>
                  <a:lnTo>
                    <a:pt x="342" y="739"/>
                  </a:lnTo>
                  <a:lnTo>
                    <a:pt x="337" y="748"/>
                  </a:lnTo>
                  <a:lnTo>
                    <a:pt x="333" y="757"/>
                  </a:lnTo>
                  <a:lnTo>
                    <a:pt x="334" y="759"/>
                  </a:lnTo>
                  <a:lnTo>
                    <a:pt x="335" y="761"/>
                  </a:lnTo>
                  <a:lnTo>
                    <a:pt x="336" y="765"/>
                  </a:lnTo>
                  <a:lnTo>
                    <a:pt x="336" y="767"/>
                  </a:lnTo>
                  <a:lnTo>
                    <a:pt x="329" y="768"/>
                  </a:lnTo>
                  <a:lnTo>
                    <a:pt x="323" y="768"/>
                  </a:lnTo>
                  <a:lnTo>
                    <a:pt x="318" y="767"/>
                  </a:lnTo>
                  <a:lnTo>
                    <a:pt x="313" y="764"/>
                  </a:lnTo>
                  <a:lnTo>
                    <a:pt x="308" y="760"/>
                  </a:lnTo>
                  <a:lnTo>
                    <a:pt x="304" y="756"/>
                  </a:lnTo>
                  <a:lnTo>
                    <a:pt x="300" y="751"/>
                  </a:lnTo>
                  <a:lnTo>
                    <a:pt x="297" y="745"/>
                  </a:lnTo>
                  <a:lnTo>
                    <a:pt x="296" y="728"/>
                  </a:lnTo>
                  <a:lnTo>
                    <a:pt x="292" y="712"/>
                  </a:lnTo>
                  <a:lnTo>
                    <a:pt x="286" y="698"/>
                  </a:lnTo>
                  <a:lnTo>
                    <a:pt x="276" y="685"/>
                  </a:lnTo>
                  <a:lnTo>
                    <a:pt x="269" y="678"/>
                  </a:lnTo>
                  <a:lnTo>
                    <a:pt x="260" y="675"/>
                  </a:lnTo>
                  <a:lnTo>
                    <a:pt x="251" y="674"/>
                  </a:lnTo>
                  <a:lnTo>
                    <a:pt x="242" y="673"/>
                  </a:lnTo>
                  <a:lnTo>
                    <a:pt x="232" y="671"/>
                  </a:lnTo>
                  <a:lnTo>
                    <a:pt x="224" y="668"/>
                  </a:lnTo>
                  <a:lnTo>
                    <a:pt x="217" y="662"/>
                  </a:lnTo>
                  <a:lnTo>
                    <a:pt x="213" y="653"/>
                  </a:lnTo>
                  <a:lnTo>
                    <a:pt x="205" y="646"/>
                  </a:lnTo>
                  <a:lnTo>
                    <a:pt x="195" y="642"/>
                  </a:lnTo>
                  <a:lnTo>
                    <a:pt x="186" y="638"/>
                  </a:lnTo>
                  <a:lnTo>
                    <a:pt x="176" y="636"/>
                  </a:lnTo>
                  <a:lnTo>
                    <a:pt x="165" y="635"/>
                  </a:lnTo>
                  <a:lnTo>
                    <a:pt x="155" y="635"/>
                  </a:lnTo>
                  <a:lnTo>
                    <a:pt x="145" y="633"/>
                  </a:lnTo>
                  <a:lnTo>
                    <a:pt x="136" y="632"/>
                  </a:lnTo>
                  <a:lnTo>
                    <a:pt x="122" y="647"/>
                  </a:lnTo>
                  <a:lnTo>
                    <a:pt x="115" y="666"/>
                  </a:lnTo>
                  <a:lnTo>
                    <a:pt x="112" y="684"/>
                  </a:lnTo>
                  <a:lnTo>
                    <a:pt x="115" y="704"/>
                  </a:lnTo>
                  <a:lnTo>
                    <a:pt x="122" y="713"/>
                  </a:lnTo>
                  <a:lnTo>
                    <a:pt x="129" y="721"/>
                  </a:lnTo>
                  <a:lnTo>
                    <a:pt x="137" y="729"/>
                  </a:lnTo>
                  <a:lnTo>
                    <a:pt x="145" y="737"/>
                  </a:lnTo>
                  <a:lnTo>
                    <a:pt x="150" y="745"/>
                  </a:lnTo>
                  <a:lnTo>
                    <a:pt x="154" y="754"/>
                  </a:lnTo>
                  <a:lnTo>
                    <a:pt x="155" y="765"/>
                  </a:lnTo>
                  <a:lnTo>
                    <a:pt x="152" y="777"/>
                  </a:lnTo>
                  <a:lnTo>
                    <a:pt x="156" y="788"/>
                  </a:lnTo>
                  <a:lnTo>
                    <a:pt x="163" y="797"/>
                  </a:lnTo>
                  <a:lnTo>
                    <a:pt x="172" y="805"/>
                  </a:lnTo>
                  <a:lnTo>
                    <a:pt x="180" y="812"/>
                  </a:lnTo>
                  <a:lnTo>
                    <a:pt x="186" y="820"/>
                  </a:lnTo>
                  <a:lnTo>
                    <a:pt x="189" y="828"/>
                  </a:lnTo>
                  <a:lnTo>
                    <a:pt x="184" y="837"/>
                  </a:lnTo>
                  <a:lnTo>
                    <a:pt x="174" y="848"/>
                  </a:lnTo>
                  <a:lnTo>
                    <a:pt x="170" y="858"/>
                  </a:lnTo>
                  <a:lnTo>
                    <a:pt x="161" y="850"/>
                  </a:lnTo>
                  <a:lnTo>
                    <a:pt x="149" y="843"/>
                  </a:lnTo>
                  <a:lnTo>
                    <a:pt x="139" y="837"/>
                  </a:lnTo>
                  <a:lnTo>
                    <a:pt x="129" y="830"/>
                  </a:lnTo>
                  <a:lnTo>
                    <a:pt x="119" y="822"/>
                  </a:lnTo>
                  <a:lnTo>
                    <a:pt x="112" y="813"/>
                  </a:lnTo>
                  <a:lnTo>
                    <a:pt x="108" y="802"/>
                  </a:lnTo>
                  <a:lnTo>
                    <a:pt x="108" y="787"/>
                  </a:lnTo>
                  <a:lnTo>
                    <a:pt x="104" y="781"/>
                  </a:lnTo>
                  <a:lnTo>
                    <a:pt x="100" y="775"/>
                  </a:lnTo>
                  <a:lnTo>
                    <a:pt x="95" y="771"/>
                  </a:lnTo>
                  <a:lnTo>
                    <a:pt x="89" y="766"/>
                  </a:lnTo>
                  <a:lnTo>
                    <a:pt x="85" y="761"/>
                  </a:lnTo>
                  <a:lnTo>
                    <a:pt x="79" y="757"/>
                  </a:lnTo>
                  <a:lnTo>
                    <a:pt x="73" y="752"/>
                  </a:lnTo>
                  <a:lnTo>
                    <a:pt x="68" y="749"/>
                  </a:lnTo>
                  <a:lnTo>
                    <a:pt x="66" y="719"/>
                  </a:lnTo>
                  <a:lnTo>
                    <a:pt x="69" y="686"/>
                  </a:lnTo>
                  <a:lnTo>
                    <a:pt x="71" y="654"/>
                  </a:lnTo>
                  <a:lnTo>
                    <a:pt x="71" y="622"/>
                  </a:lnTo>
                  <a:lnTo>
                    <a:pt x="68" y="592"/>
                  </a:lnTo>
                  <a:lnTo>
                    <a:pt x="58" y="564"/>
                  </a:lnTo>
                  <a:lnTo>
                    <a:pt x="40" y="540"/>
                  </a:lnTo>
                  <a:lnTo>
                    <a:pt x="11" y="521"/>
                  </a:lnTo>
                  <a:lnTo>
                    <a:pt x="0" y="508"/>
                  </a:lnTo>
                  <a:lnTo>
                    <a:pt x="0" y="492"/>
                  </a:lnTo>
                  <a:lnTo>
                    <a:pt x="4" y="473"/>
                  </a:lnTo>
                  <a:lnTo>
                    <a:pt x="9" y="457"/>
                  </a:lnTo>
                  <a:lnTo>
                    <a:pt x="12" y="445"/>
                  </a:lnTo>
                  <a:lnTo>
                    <a:pt x="17" y="432"/>
                  </a:lnTo>
                  <a:lnTo>
                    <a:pt x="21" y="423"/>
                  </a:lnTo>
                  <a:lnTo>
                    <a:pt x="23" y="419"/>
                  </a:lnTo>
                  <a:lnTo>
                    <a:pt x="29" y="419"/>
                  </a:lnTo>
                  <a:lnTo>
                    <a:pt x="36" y="417"/>
                  </a:lnTo>
                  <a:lnTo>
                    <a:pt x="42" y="413"/>
                  </a:lnTo>
                  <a:lnTo>
                    <a:pt x="49" y="408"/>
                  </a:lnTo>
                  <a:lnTo>
                    <a:pt x="55" y="403"/>
                  </a:lnTo>
                  <a:lnTo>
                    <a:pt x="61" y="398"/>
                  </a:lnTo>
                  <a:lnTo>
                    <a:pt x="68" y="395"/>
                  </a:lnTo>
                  <a:lnTo>
                    <a:pt x="74" y="394"/>
                  </a:lnTo>
                  <a:lnTo>
                    <a:pt x="91" y="380"/>
                  </a:lnTo>
                  <a:lnTo>
                    <a:pt x="99" y="364"/>
                  </a:lnTo>
                  <a:lnTo>
                    <a:pt x="102" y="345"/>
                  </a:lnTo>
                  <a:lnTo>
                    <a:pt x="103" y="326"/>
                  </a:lnTo>
                  <a:lnTo>
                    <a:pt x="103" y="307"/>
                  </a:lnTo>
                  <a:lnTo>
                    <a:pt x="107" y="289"/>
                  </a:lnTo>
                  <a:lnTo>
                    <a:pt x="115" y="273"/>
                  </a:lnTo>
                  <a:lnTo>
                    <a:pt x="131" y="260"/>
                  </a:lnTo>
                  <a:lnTo>
                    <a:pt x="147" y="254"/>
                  </a:lnTo>
                  <a:lnTo>
                    <a:pt x="163" y="249"/>
                  </a:lnTo>
                  <a:lnTo>
                    <a:pt x="179" y="241"/>
                  </a:lnTo>
                  <a:lnTo>
                    <a:pt x="194" y="231"/>
                  </a:lnTo>
                  <a:lnTo>
                    <a:pt x="208" y="222"/>
                  </a:lnTo>
                  <a:lnTo>
                    <a:pt x="222" y="211"/>
                  </a:lnTo>
                  <a:lnTo>
                    <a:pt x="233" y="197"/>
                  </a:lnTo>
                  <a:lnTo>
                    <a:pt x="243" y="182"/>
                  </a:lnTo>
                  <a:lnTo>
                    <a:pt x="240" y="109"/>
                  </a:lnTo>
                  <a:lnTo>
                    <a:pt x="238" y="107"/>
                  </a:lnTo>
                  <a:lnTo>
                    <a:pt x="236" y="105"/>
                  </a:lnTo>
                  <a:lnTo>
                    <a:pt x="233" y="102"/>
                  </a:lnTo>
                  <a:lnTo>
                    <a:pt x="233" y="99"/>
                  </a:lnTo>
                  <a:lnTo>
                    <a:pt x="252" y="84"/>
                  </a:lnTo>
                  <a:lnTo>
                    <a:pt x="271" y="69"/>
                  </a:lnTo>
                  <a:lnTo>
                    <a:pt x="290" y="55"/>
                  </a:lnTo>
                  <a:lnTo>
                    <a:pt x="310" y="42"/>
                  </a:lnTo>
                  <a:lnTo>
                    <a:pt x="329" y="31"/>
                  </a:lnTo>
                  <a:lnTo>
                    <a:pt x="349" y="19"/>
                  </a:lnTo>
                  <a:lnTo>
                    <a:pt x="369" y="9"/>
                  </a:lnTo>
                  <a:lnTo>
                    <a:pt x="390" y="0"/>
                  </a:lnTo>
                  <a:lnTo>
                    <a:pt x="396" y="3"/>
                  </a:lnTo>
                  <a:lnTo>
                    <a:pt x="399" y="9"/>
                  </a:lnTo>
                  <a:lnTo>
                    <a:pt x="403" y="16"/>
                  </a:lnTo>
                  <a:lnTo>
                    <a:pt x="410" y="19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77840" y="1633680"/>
              <a:ext cx="306720" cy="462240"/>
            </a:xfrm>
            <a:custGeom>
              <a:avLst/>
              <a:gdLst/>
              <a:ahLst/>
              <a:rect l="l" t="t" r="r" b="b"/>
              <a:pathLst>
                <a:path w="207" h="332">
                  <a:moveTo>
                    <a:pt x="162" y="20"/>
                  </a:moveTo>
                  <a:lnTo>
                    <a:pt x="200" y="68"/>
                  </a:lnTo>
                  <a:lnTo>
                    <a:pt x="199" y="103"/>
                  </a:lnTo>
                  <a:lnTo>
                    <a:pt x="204" y="137"/>
                  </a:lnTo>
                  <a:lnTo>
                    <a:pt x="207" y="171"/>
                  </a:lnTo>
                  <a:lnTo>
                    <a:pt x="204" y="204"/>
                  </a:lnTo>
                  <a:lnTo>
                    <a:pt x="199" y="215"/>
                  </a:lnTo>
                  <a:lnTo>
                    <a:pt x="192" y="223"/>
                  </a:lnTo>
                  <a:lnTo>
                    <a:pt x="184" y="228"/>
                  </a:lnTo>
                  <a:lnTo>
                    <a:pt x="176" y="233"/>
                  </a:lnTo>
                  <a:lnTo>
                    <a:pt x="167" y="238"/>
                  </a:lnTo>
                  <a:lnTo>
                    <a:pt x="158" y="243"/>
                  </a:lnTo>
                  <a:lnTo>
                    <a:pt x="151" y="251"/>
                  </a:lnTo>
                  <a:lnTo>
                    <a:pt x="145" y="261"/>
                  </a:lnTo>
                  <a:lnTo>
                    <a:pt x="143" y="271"/>
                  </a:lnTo>
                  <a:lnTo>
                    <a:pt x="140" y="280"/>
                  </a:lnTo>
                  <a:lnTo>
                    <a:pt x="138" y="291"/>
                  </a:lnTo>
                  <a:lnTo>
                    <a:pt x="135" y="300"/>
                  </a:lnTo>
                  <a:lnTo>
                    <a:pt x="130" y="309"/>
                  </a:lnTo>
                  <a:lnTo>
                    <a:pt x="124" y="317"/>
                  </a:lnTo>
                  <a:lnTo>
                    <a:pt x="117" y="325"/>
                  </a:lnTo>
                  <a:lnTo>
                    <a:pt x="109" y="332"/>
                  </a:lnTo>
                  <a:lnTo>
                    <a:pt x="93" y="326"/>
                  </a:lnTo>
                  <a:lnTo>
                    <a:pt x="80" y="317"/>
                  </a:lnTo>
                  <a:lnTo>
                    <a:pt x="71" y="304"/>
                  </a:lnTo>
                  <a:lnTo>
                    <a:pt x="64" y="291"/>
                  </a:lnTo>
                  <a:lnTo>
                    <a:pt x="59" y="276"/>
                  </a:lnTo>
                  <a:lnTo>
                    <a:pt x="53" y="261"/>
                  </a:lnTo>
                  <a:lnTo>
                    <a:pt x="47" y="245"/>
                  </a:lnTo>
                  <a:lnTo>
                    <a:pt x="40" y="231"/>
                  </a:lnTo>
                  <a:lnTo>
                    <a:pt x="41" y="210"/>
                  </a:lnTo>
                  <a:lnTo>
                    <a:pt x="37" y="192"/>
                  </a:lnTo>
                  <a:lnTo>
                    <a:pt x="29" y="174"/>
                  </a:lnTo>
                  <a:lnTo>
                    <a:pt x="18" y="158"/>
                  </a:lnTo>
                  <a:lnTo>
                    <a:pt x="9" y="142"/>
                  </a:lnTo>
                  <a:lnTo>
                    <a:pt x="2" y="125"/>
                  </a:lnTo>
                  <a:lnTo>
                    <a:pt x="0" y="106"/>
                  </a:lnTo>
                  <a:lnTo>
                    <a:pt x="6" y="86"/>
                  </a:lnTo>
                  <a:lnTo>
                    <a:pt x="16" y="68"/>
                  </a:lnTo>
                  <a:lnTo>
                    <a:pt x="30" y="52"/>
                  </a:lnTo>
                  <a:lnTo>
                    <a:pt x="44" y="37"/>
                  </a:lnTo>
                  <a:lnTo>
                    <a:pt x="60" y="24"/>
                  </a:lnTo>
                  <a:lnTo>
                    <a:pt x="77" y="14"/>
                  </a:lnTo>
                  <a:lnTo>
                    <a:pt x="95" y="6"/>
                  </a:lnTo>
                  <a:lnTo>
                    <a:pt x="115" y="1"/>
                  </a:lnTo>
                  <a:lnTo>
                    <a:pt x="135" y="0"/>
                  </a:lnTo>
                  <a:lnTo>
                    <a:pt x="139" y="8"/>
                  </a:lnTo>
                  <a:lnTo>
                    <a:pt x="147" y="13"/>
                  </a:lnTo>
                  <a:lnTo>
                    <a:pt x="155" y="15"/>
                  </a:lnTo>
                  <a:lnTo>
                    <a:pt x="16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79800" y="1664640"/>
              <a:ext cx="171360" cy="180360"/>
            </a:xfrm>
            <a:custGeom>
              <a:avLst/>
              <a:gdLst/>
              <a:ahLst/>
              <a:rect l="l" t="t" r="r" b="b"/>
              <a:pathLst>
                <a:path w="115" h="130">
                  <a:moveTo>
                    <a:pt x="112" y="66"/>
                  </a:moveTo>
                  <a:lnTo>
                    <a:pt x="101" y="79"/>
                  </a:lnTo>
                  <a:lnTo>
                    <a:pt x="87" y="89"/>
                  </a:lnTo>
                  <a:lnTo>
                    <a:pt x="73" y="97"/>
                  </a:lnTo>
                  <a:lnTo>
                    <a:pt x="59" y="104"/>
                  </a:lnTo>
                  <a:lnTo>
                    <a:pt x="44" y="110"/>
                  </a:lnTo>
                  <a:lnTo>
                    <a:pt x="29" y="117"/>
                  </a:lnTo>
                  <a:lnTo>
                    <a:pt x="14" y="122"/>
                  </a:lnTo>
                  <a:lnTo>
                    <a:pt x="0" y="130"/>
                  </a:lnTo>
                  <a:lnTo>
                    <a:pt x="12" y="113"/>
                  </a:lnTo>
                  <a:lnTo>
                    <a:pt x="24" y="97"/>
                  </a:lnTo>
                  <a:lnTo>
                    <a:pt x="37" y="80"/>
                  </a:lnTo>
                  <a:lnTo>
                    <a:pt x="51" y="64"/>
                  </a:lnTo>
                  <a:lnTo>
                    <a:pt x="65" y="47"/>
                  </a:lnTo>
                  <a:lnTo>
                    <a:pt x="80" y="31"/>
                  </a:lnTo>
                  <a:lnTo>
                    <a:pt x="96" y="16"/>
                  </a:lnTo>
                  <a:lnTo>
                    <a:pt x="112" y="0"/>
                  </a:lnTo>
                  <a:lnTo>
                    <a:pt x="113" y="16"/>
                  </a:lnTo>
                  <a:lnTo>
                    <a:pt x="115" y="32"/>
                  </a:lnTo>
                  <a:lnTo>
                    <a:pt x="115" y="50"/>
                  </a:lnTo>
                  <a:lnTo>
                    <a:pt x="112" y="66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07360" y="1664640"/>
              <a:ext cx="247680" cy="400680"/>
            </a:xfrm>
            <a:custGeom>
              <a:avLst/>
              <a:gdLst/>
              <a:ahLst/>
              <a:rect l="l" t="t" r="r" b="b"/>
              <a:pathLst>
                <a:path w="167" h="287">
                  <a:moveTo>
                    <a:pt x="159" y="45"/>
                  </a:moveTo>
                  <a:lnTo>
                    <a:pt x="157" y="66"/>
                  </a:lnTo>
                  <a:lnTo>
                    <a:pt x="159" y="89"/>
                  </a:lnTo>
                  <a:lnTo>
                    <a:pt x="163" y="112"/>
                  </a:lnTo>
                  <a:lnTo>
                    <a:pt x="166" y="136"/>
                  </a:lnTo>
                  <a:lnTo>
                    <a:pt x="167" y="158"/>
                  </a:lnTo>
                  <a:lnTo>
                    <a:pt x="162" y="178"/>
                  </a:lnTo>
                  <a:lnTo>
                    <a:pt x="147" y="193"/>
                  </a:lnTo>
                  <a:lnTo>
                    <a:pt x="121" y="203"/>
                  </a:lnTo>
                  <a:lnTo>
                    <a:pt x="113" y="212"/>
                  </a:lnTo>
                  <a:lnTo>
                    <a:pt x="109" y="224"/>
                  </a:lnTo>
                  <a:lnTo>
                    <a:pt x="105" y="235"/>
                  </a:lnTo>
                  <a:lnTo>
                    <a:pt x="102" y="247"/>
                  </a:lnTo>
                  <a:lnTo>
                    <a:pt x="98" y="258"/>
                  </a:lnTo>
                  <a:lnTo>
                    <a:pt x="94" y="270"/>
                  </a:lnTo>
                  <a:lnTo>
                    <a:pt x="87" y="279"/>
                  </a:lnTo>
                  <a:lnTo>
                    <a:pt x="78" y="287"/>
                  </a:lnTo>
                  <a:lnTo>
                    <a:pt x="64" y="269"/>
                  </a:lnTo>
                  <a:lnTo>
                    <a:pt x="53" y="247"/>
                  </a:lnTo>
                  <a:lnTo>
                    <a:pt x="46" y="225"/>
                  </a:lnTo>
                  <a:lnTo>
                    <a:pt x="41" y="202"/>
                  </a:lnTo>
                  <a:lnTo>
                    <a:pt x="35" y="179"/>
                  </a:lnTo>
                  <a:lnTo>
                    <a:pt x="28" y="156"/>
                  </a:lnTo>
                  <a:lnTo>
                    <a:pt x="19" y="134"/>
                  </a:lnTo>
                  <a:lnTo>
                    <a:pt x="6" y="114"/>
                  </a:lnTo>
                  <a:lnTo>
                    <a:pt x="1" y="104"/>
                  </a:lnTo>
                  <a:lnTo>
                    <a:pt x="0" y="93"/>
                  </a:lnTo>
                  <a:lnTo>
                    <a:pt x="3" y="84"/>
                  </a:lnTo>
                  <a:lnTo>
                    <a:pt x="6" y="75"/>
                  </a:lnTo>
                  <a:lnTo>
                    <a:pt x="12" y="67"/>
                  </a:lnTo>
                  <a:lnTo>
                    <a:pt x="19" y="58"/>
                  </a:lnTo>
                  <a:lnTo>
                    <a:pt x="25" y="50"/>
                  </a:lnTo>
                  <a:lnTo>
                    <a:pt x="31" y="42"/>
                  </a:lnTo>
                  <a:lnTo>
                    <a:pt x="41" y="35"/>
                  </a:lnTo>
                  <a:lnTo>
                    <a:pt x="50" y="27"/>
                  </a:lnTo>
                  <a:lnTo>
                    <a:pt x="58" y="20"/>
                  </a:lnTo>
                  <a:lnTo>
                    <a:pt x="68" y="13"/>
                  </a:lnTo>
                  <a:lnTo>
                    <a:pt x="78" y="7"/>
                  </a:lnTo>
                  <a:lnTo>
                    <a:pt x="88" y="2"/>
                  </a:lnTo>
                  <a:lnTo>
                    <a:pt x="99" y="0"/>
                  </a:lnTo>
                  <a:lnTo>
                    <a:pt x="111" y="0"/>
                  </a:lnTo>
                  <a:lnTo>
                    <a:pt x="118" y="4"/>
                  </a:lnTo>
                  <a:lnTo>
                    <a:pt x="125" y="8"/>
                  </a:lnTo>
                  <a:lnTo>
                    <a:pt x="132" y="14"/>
                  </a:lnTo>
                  <a:lnTo>
                    <a:pt x="137" y="20"/>
                  </a:lnTo>
                  <a:lnTo>
                    <a:pt x="143" y="26"/>
                  </a:lnTo>
                  <a:lnTo>
                    <a:pt x="149" y="32"/>
                  </a:lnTo>
                  <a:lnTo>
                    <a:pt x="154" y="39"/>
                  </a:lnTo>
                  <a:lnTo>
                    <a:pt x="159" y="45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51400" y="1809360"/>
              <a:ext cx="112320" cy="21132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76" y="11"/>
                  </a:moveTo>
                  <a:lnTo>
                    <a:pt x="75" y="30"/>
                  </a:lnTo>
                  <a:lnTo>
                    <a:pt x="69" y="46"/>
                  </a:lnTo>
                  <a:lnTo>
                    <a:pt x="61" y="60"/>
                  </a:lnTo>
                  <a:lnTo>
                    <a:pt x="53" y="75"/>
                  </a:lnTo>
                  <a:lnTo>
                    <a:pt x="51" y="94"/>
                  </a:lnTo>
                  <a:lnTo>
                    <a:pt x="50" y="114"/>
                  </a:lnTo>
                  <a:lnTo>
                    <a:pt x="47" y="134"/>
                  </a:lnTo>
                  <a:lnTo>
                    <a:pt x="43" y="152"/>
                  </a:lnTo>
                  <a:lnTo>
                    <a:pt x="32" y="143"/>
                  </a:lnTo>
                  <a:lnTo>
                    <a:pt x="26" y="131"/>
                  </a:lnTo>
                  <a:lnTo>
                    <a:pt x="22" y="119"/>
                  </a:lnTo>
                  <a:lnTo>
                    <a:pt x="18" y="105"/>
                  </a:lnTo>
                  <a:lnTo>
                    <a:pt x="15" y="91"/>
                  </a:lnTo>
                  <a:lnTo>
                    <a:pt x="12" y="77"/>
                  </a:lnTo>
                  <a:lnTo>
                    <a:pt x="7" y="63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5" y="26"/>
                  </a:lnTo>
                  <a:lnTo>
                    <a:pt x="12" y="15"/>
                  </a:lnTo>
                  <a:lnTo>
                    <a:pt x="22" y="8"/>
                  </a:lnTo>
                  <a:lnTo>
                    <a:pt x="29" y="7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5" y="1"/>
                  </a:lnTo>
                  <a:lnTo>
                    <a:pt x="71" y="4"/>
                  </a:lnTo>
                  <a:lnTo>
                    <a:pt x="76" y="11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14080" y="1826280"/>
              <a:ext cx="97560" cy="108360"/>
            </a:xfrm>
            <a:custGeom>
              <a:avLst/>
              <a:gdLst/>
              <a:ahLst/>
              <a:rect l="l" t="t" r="r" b="b"/>
              <a:pathLst>
                <a:path w="65" h="79">
                  <a:moveTo>
                    <a:pt x="65" y="30"/>
                  </a:moveTo>
                  <a:lnTo>
                    <a:pt x="62" y="45"/>
                  </a:lnTo>
                  <a:lnTo>
                    <a:pt x="54" y="58"/>
                  </a:lnTo>
                  <a:lnTo>
                    <a:pt x="44" y="70"/>
                  </a:lnTo>
                  <a:lnTo>
                    <a:pt x="32" y="79"/>
                  </a:lnTo>
                  <a:lnTo>
                    <a:pt x="22" y="79"/>
                  </a:lnTo>
                  <a:lnTo>
                    <a:pt x="14" y="73"/>
                  </a:lnTo>
                  <a:lnTo>
                    <a:pt x="7" y="66"/>
                  </a:lnTo>
                  <a:lnTo>
                    <a:pt x="0" y="58"/>
                  </a:lnTo>
                  <a:lnTo>
                    <a:pt x="1" y="49"/>
                  </a:lnTo>
                  <a:lnTo>
                    <a:pt x="3" y="40"/>
                  </a:lnTo>
                  <a:lnTo>
                    <a:pt x="8" y="33"/>
                  </a:lnTo>
                  <a:lnTo>
                    <a:pt x="14" y="26"/>
                  </a:lnTo>
                  <a:lnTo>
                    <a:pt x="21" y="19"/>
                  </a:lnTo>
                  <a:lnTo>
                    <a:pt x="27" y="12"/>
                  </a:lnTo>
                  <a:lnTo>
                    <a:pt x="34" y="6"/>
                  </a:lnTo>
                  <a:lnTo>
                    <a:pt x="42" y="0"/>
                  </a:lnTo>
                  <a:lnTo>
                    <a:pt x="53" y="4"/>
                  </a:lnTo>
                  <a:lnTo>
                    <a:pt x="59" y="12"/>
                  </a:lnTo>
                  <a:lnTo>
                    <a:pt x="62" y="21"/>
                  </a:lnTo>
                  <a:lnTo>
                    <a:pt x="6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34960" y="1859400"/>
              <a:ext cx="53280" cy="529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4"/>
                  </a:moveTo>
                  <a:lnTo>
                    <a:pt x="33" y="13"/>
                  </a:lnTo>
                  <a:lnTo>
                    <a:pt x="29" y="23"/>
                  </a:lnTo>
                  <a:lnTo>
                    <a:pt x="21" y="30"/>
                  </a:lnTo>
                  <a:lnTo>
                    <a:pt x="14" y="38"/>
                  </a:lnTo>
                  <a:lnTo>
                    <a:pt x="10" y="36"/>
                  </a:lnTo>
                  <a:lnTo>
                    <a:pt x="7" y="33"/>
                  </a:lnTo>
                  <a:lnTo>
                    <a:pt x="3" y="31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5" y="5"/>
                  </a:lnTo>
                  <a:lnTo>
                    <a:pt x="21" y="2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73240" y="1890360"/>
              <a:ext cx="77040" cy="155880"/>
            </a:xfrm>
            <a:custGeom>
              <a:avLst/>
              <a:gdLst/>
              <a:ahLst/>
              <a:rect l="l" t="t" r="r" b="b"/>
              <a:pathLst>
                <a:path w="50" h="111">
                  <a:moveTo>
                    <a:pt x="33" y="93"/>
                  </a:moveTo>
                  <a:lnTo>
                    <a:pt x="24" y="95"/>
                  </a:lnTo>
                  <a:lnTo>
                    <a:pt x="16" y="100"/>
                  </a:lnTo>
                  <a:lnTo>
                    <a:pt x="8" y="104"/>
                  </a:lnTo>
                  <a:lnTo>
                    <a:pt x="0" y="111"/>
                  </a:lnTo>
                  <a:lnTo>
                    <a:pt x="3" y="101"/>
                  </a:lnTo>
                  <a:lnTo>
                    <a:pt x="7" y="89"/>
                  </a:lnTo>
                  <a:lnTo>
                    <a:pt x="11" y="79"/>
                  </a:lnTo>
                  <a:lnTo>
                    <a:pt x="16" y="68"/>
                  </a:lnTo>
                  <a:lnTo>
                    <a:pt x="22" y="56"/>
                  </a:lnTo>
                  <a:lnTo>
                    <a:pt x="27" y="45"/>
                  </a:lnTo>
                  <a:lnTo>
                    <a:pt x="32" y="34"/>
                  </a:lnTo>
                  <a:lnTo>
                    <a:pt x="38" y="23"/>
                  </a:lnTo>
                  <a:lnTo>
                    <a:pt x="50" y="0"/>
                  </a:lnTo>
                  <a:lnTo>
                    <a:pt x="48" y="23"/>
                  </a:lnTo>
                  <a:lnTo>
                    <a:pt x="48" y="48"/>
                  </a:lnTo>
                  <a:lnTo>
                    <a:pt x="45" y="72"/>
                  </a:lnTo>
                  <a:lnTo>
                    <a:pt x="33" y="93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95880" y="1901520"/>
              <a:ext cx="53280" cy="3312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4" y="23"/>
                  </a:moveTo>
                  <a:lnTo>
                    <a:pt x="30" y="22"/>
                  </a:lnTo>
                  <a:lnTo>
                    <a:pt x="25" y="20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1" y="15"/>
                  </a:lnTo>
                  <a:lnTo>
                    <a:pt x="7" y="12"/>
                  </a:lnTo>
                  <a:lnTo>
                    <a:pt x="3" y="11"/>
                  </a:lnTo>
                  <a:lnTo>
                    <a:pt x="0" y="9"/>
                  </a:lnTo>
                  <a:lnTo>
                    <a:pt x="9" y="0"/>
                  </a:lnTo>
                  <a:lnTo>
                    <a:pt x="17" y="5"/>
                  </a:lnTo>
                  <a:lnTo>
                    <a:pt x="24" y="9"/>
                  </a:lnTo>
                  <a:lnTo>
                    <a:pt x="31" y="15"/>
                  </a:lnTo>
                  <a:lnTo>
                    <a:pt x="3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92560" y="1943280"/>
              <a:ext cx="35280" cy="4392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4" y="27"/>
                  </a:moveTo>
                  <a:lnTo>
                    <a:pt x="19" y="31"/>
                  </a:lnTo>
                  <a:lnTo>
                    <a:pt x="14" y="30"/>
                  </a:lnTo>
                  <a:lnTo>
                    <a:pt x="10" y="26"/>
                  </a:lnTo>
                  <a:lnTo>
                    <a:pt x="5" y="23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0" y="5"/>
                  </a:lnTo>
                  <a:lnTo>
                    <a:pt x="2" y="0"/>
                  </a:lnTo>
                  <a:lnTo>
                    <a:pt x="12" y="1"/>
                  </a:lnTo>
                  <a:lnTo>
                    <a:pt x="17" y="9"/>
                  </a:lnTo>
                  <a:lnTo>
                    <a:pt x="20" y="18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11680" y="2246400"/>
              <a:ext cx="351000" cy="637560"/>
            </a:xfrm>
            <a:custGeom>
              <a:avLst/>
              <a:gdLst/>
              <a:ahLst/>
              <a:rect l="l" t="t" r="r" b="b"/>
              <a:pathLst>
                <a:path w="239" h="458">
                  <a:moveTo>
                    <a:pt x="59" y="60"/>
                  </a:moveTo>
                  <a:lnTo>
                    <a:pt x="60" y="98"/>
                  </a:lnTo>
                  <a:lnTo>
                    <a:pt x="59" y="136"/>
                  </a:lnTo>
                  <a:lnTo>
                    <a:pt x="57" y="174"/>
                  </a:lnTo>
                  <a:lnTo>
                    <a:pt x="55" y="211"/>
                  </a:lnTo>
                  <a:lnTo>
                    <a:pt x="60" y="220"/>
                  </a:lnTo>
                  <a:lnTo>
                    <a:pt x="66" y="227"/>
                  </a:lnTo>
                  <a:lnTo>
                    <a:pt x="74" y="232"/>
                  </a:lnTo>
                  <a:lnTo>
                    <a:pt x="82" y="238"/>
                  </a:lnTo>
                  <a:lnTo>
                    <a:pt x="90" y="242"/>
                  </a:lnTo>
                  <a:lnTo>
                    <a:pt x="96" y="249"/>
                  </a:lnTo>
                  <a:lnTo>
                    <a:pt x="100" y="256"/>
                  </a:lnTo>
                  <a:lnTo>
                    <a:pt x="102" y="267"/>
                  </a:lnTo>
                  <a:lnTo>
                    <a:pt x="104" y="281"/>
                  </a:lnTo>
                  <a:lnTo>
                    <a:pt x="110" y="294"/>
                  </a:lnTo>
                  <a:lnTo>
                    <a:pt x="119" y="306"/>
                  </a:lnTo>
                  <a:lnTo>
                    <a:pt x="132" y="314"/>
                  </a:lnTo>
                  <a:lnTo>
                    <a:pt x="138" y="317"/>
                  </a:lnTo>
                  <a:lnTo>
                    <a:pt x="144" y="321"/>
                  </a:lnTo>
                  <a:lnTo>
                    <a:pt x="151" y="325"/>
                  </a:lnTo>
                  <a:lnTo>
                    <a:pt x="158" y="330"/>
                  </a:lnTo>
                  <a:lnTo>
                    <a:pt x="164" y="334"/>
                  </a:lnTo>
                  <a:lnTo>
                    <a:pt x="170" y="339"/>
                  </a:lnTo>
                  <a:lnTo>
                    <a:pt x="175" y="345"/>
                  </a:lnTo>
                  <a:lnTo>
                    <a:pt x="180" y="349"/>
                  </a:lnTo>
                  <a:lnTo>
                    <a:pt x="180" y="364"/>
                  </a:lnTo>
                  <a:lnTo>
                    <a:pt x="183" y="378"/>
                  </a:lnTo>
                  <a:lnTo>
                    <a:pt x="189" y="390"/>
                  </a:lnTo>
                  <a:lnTo>
                    <a:pt x="198" y="401"/>
                  </a:lnTo>
                  <a:lnTo>
                    <a:pt x="208" y="412"/>
                  </a:lnTo>
                  <a:lnTo>
                    <a:pt x="219" y="422"/>
                  </a:lnTo>
                  <a:lnTo>
                    <a:pt x="229" y="432"/>
                  </a:lnTo>
                  <a:lnTo>
                    <a:pt x="239" y="443"/>
                  </a:lnTo>
                  <a:lnTo>
                    <a:pt x="220" y="452"/>
                  </a:lnTo>
                  <a:lnTo>
                    <a:pt x="202" y="457"/>
                  </a:lnTo>
                  <a:lnTo>
                    <a:pt x="181" y="458"/>
                  </a:lnTo>
                  <a:lnTo>
                    <a:pt x="161" y="454"/>
                  </a:lnTo>
                  <a:lnTo>
                    <a:pt x="141" y="451"/>
                  </a:lnTo>
                  <a:lnTo>
                    <a:pt x="120" y="445"/>
                  </a:lnTo>
                  <a:lnTo>
                    <a:pt x="102" y="442"/>
                  </a:lnTo>
                  <a:lnTo>
                    <a:pt x="83" y="438"/>
                  </a:lnTo>
                  <a:lnTo>
                    <a:pt x="72" y="416"/>
                  </a:lnTo>
                  <a:lnTo>
                    <a:pt x="62" y="393"/>
                  </a:lnTo>
                  <a:lnTo>
                    <a:pt x="53" y="369"/>
                  </a:lnTo>
                  <a:lnTo>
                    <a:pt x="46" y="345"/>
                  </a:lnTo>
                  <a:lnTo>
                    <a:pt x="39" y="321"/>
                  </a:lnTo>
                  <a:lnTo>
                    <a:pt x="32" y="296"/>
                  </a:lnTo>
                  <a:lnTo>
                    <a:pt x="24" y="272"/>
                  </a:lnTo>
                  <a:lnTo>
                    <a:pt x="17" y="248"/>
                  </a:lnTo>
                  <a:lnTo>
                    <a:pt x="7" y="193"/>
                  </a:lnTo>
                  <a:lnTo>
                    <a:pt x="1" y="134"/>
                  </a:lnTo>
                  <a:lnTo>
                    <a:pt x="0" y="75"/>
                  </a:lnTo>
                  <a:lnTo>
                    <a:pt x="2" y="17"/>
                  </a:lnTo>
                  <a:lnTo>
                    <a:pt x="9" y="0"/>
                  </a:lnTo>
                  <a:lnTo>
                    <a:pt x="19" y="5"/>
                  </a:lnTo>
                  <a:lnTo>
                    <a:pt x="27" y="11"/>
                  </a:lnTo>
                  <a:lnTo>
                    <a:pt x="34" y="18"/>
                  </a:lnTo>
                  <a:lnTo>
                    <a:pt x="40" y="26"/>
                  </a:lnTo>
                  <a:lnTo>
                    <a:pt x="46" y="34"/>
                  </a:lnTo>
                  <a:lnTo>
                    <a:pt x="52" y="43"/>
                  </a:lnTo>
                  <a:lnTo>
                    <a:pt x="55" y="51"/>
                  </a:lnTo>
                  <a:lnTo>
                    <a:pt x="59" y="60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26000" y="2277360"/>
              <a:ext cx="40680" cy="3312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27" y="23"/>
                  </a:moveTo>
                  <a:lnTo>
                    <a:pt x="21" y="25"/>
                  </a:lnTo>
                  <a:lnTo>
                    <a:pt x="17" y="23"/>
                  </a:lnTo>
                  <a:lnTo>
                    <a:pt x="11" y="20"/>
                  </a:lnTo>
                  <a:lnTo>
                    <a:pt x="5" y="16"/>
                  </a:lnTo>
                  <a:lnTo>
                    <a:pt x="2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0"/>
                  </a:lnTo>
                  <a:lnTo>
                    <a:pt x="10" y="5"/>
                  </a:lnTo>
                  <a:lnTo>
                    <a:pt x="16" y="10"/>
                  </a:lnTo>
                  <a:lnTo>
                    <a:pt x="21" y="16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24080" y="2413800"/>
              <a:ext cx="227880" cy="214560"/>
            </a:xfrm>
            <a:custGeom>
              <a:avLst/>
              <a:gdLst/>
              <a:ahLst/>
              <a:rect l="l" t="t" r="r" b="b"/>
              <a:pathLst>
                <a:path w="154" h="154">
                  <a:moveTo>
                    <a:pt x="68" y="14"/>
                  </a:moveTo>
                  <a:lnTo>
                    <a:pt x="74" y="25"/>
                  </a:lnTo>
                  <a:lnTo>
                    <a:pt x="82" y="32"/>
                  </a:lnTo>
                  <a:lnTo>
                    <a:pt x="91" y="36"/>
                  </a:lnTo>
                  <a:lnTo>
                    <a:pt x="103" y="38"/>
                  </a:lnTo>
                  <a:lnTo>
                    <a:pt x="114" y="40"/>
                  </a:lnTo>
                  <a:lnTo>
                    <a:pt x="125" y="43"/>
                  </a:lnTo>
                  <a:lnTo>
                    <a:pt x="134" y="48"/>
                  </a:lnTo>
                  <a:lnTo>
                    <a:pt x="141" y="58"/>
                  </a:lnTo>
                  <a:lnTo>
                    <a:pt x="142" y="73"/>
                  </a:lnTo>
                  <a:lnTo>
                    <a:pt x="144" y="88"/>
                  </a:lnTo>
                  <a:lnTo>
                    <a:pt x="148" y="101"/>
                  </a:lnTo>
                  <a:lnTo>
                    <a:pt x="154" y="114"/>
                  </a:lnTo>
                  <a:lnTo>
                    <a:pt x="143" y="118"/>
                  </a:lnTo>
                  <a:lnTo>
                    <a:pt x="131" y="121"/>
                  </a:lnTo>
                  <a:lnTo>
                    <a:pt x="121" y="124"/>
                  </a:lnTo>
                  <a:lnTo>
                    <a:pt x="111" y="129"/>
                  </a:lnTo>
                  <a:lnTo>
                    <a:pt x="100" y="135"/>
                  </a:lnTo>
                  <a:lnTo>
                    <a:pt x="90" y="141"/>
                  </a:lnTo>
                  <a:lnTo>
                    <a:pt x="80" y="148"/>
                  </a:lnTo>
                  <a:lnTo>
                    <a:pt x="70" y="154"/>
                  </a:lnTo>
                  <a:lnTo>
                    <a:pt x="57" y="148"/>
                  </a:lnTo>
                  <a:lnTo>
                    <a:pt x="48" y="138"/>
                  </a:lnTo>
                  <a:lnTo>
                    <a:pt x="45" y="129"/>
                  </a:lnTo>
                  <a:lnTo>
                    <a:pt x="44" y="118"/>
                  </a:lnTo>
                  <a:lnTo>
                    <a:pt x="44" y="107"/>
                  </a:lnTo>
                  <a:lnTo>
                    <a:pt x="43" y="96"/>
                  </a:lnTo>
                  <a:lnTo>
                    <a:pt x="39" y="84"/>
                  </a:lnTo>
                  <a:lnTo>
                    <a:pt x="31" y="74"/>
                  </a:lnTo>
                  <a:lnTo>
                    <a:pt x="25" y="68"/>
                  </a:lnTo>
                  <a:lnTo>
                    <a:pt x="18" y="63"/>
                  </a:lnTo>
                  <a:lnTo>
                    <a:pt x="13" y="58"/>
                  </a:lnTo>
                  <a:lnTo>
                    <a:pt x="7" y="53"/>
                  </a:lnTo>
                  <a:lnTo>
                    <a:pt x="2" y="47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4" y="24"/>
                  </a:lnTo>
                  <a:lnTo>
                    <a:pt x="6" y="18"/>
                  </a:lnTo>
                  <a:lnTo>
                    <a:pt x="9" y="12"/>
                  </a:lnTo>
                  <a:lnTo>
                    <a:pt x="12" y="6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3" y="2"/>
                  </a:lnTo>
                  <a:lnTo>
                    <a:pt x="59" y="5"/>
                  </a:lnTo>
                  <a:lnTo>
                    <a:pt x="63" y="8"/>
                  </a:lnTo>
                  <a:lnTo>
                    <a:pt x="68" y="14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44040" y="2647440"/>
              <a:ext cx="32760" cy="306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20" y="13"/>
                  </a:moveTo>
                  <a:lnTo>
                    <a:pt x="20" y="21"/>
                  </a:lnTo>
                  <a:lnTo>
                    <a:pt x="16" y="22"/>
                  </a:lnTo>
                  <a:lnTo>
                    <a:pt x="10" y="19"/>
                  </a:lnTo>
                  <a:lnTo>
                    <a:pt x="5" y="14"/>
                  </a:lnTo>
                  <a:lnTo>
                    <a:pt x="0" y="11"/>
                  </a:lnTo>
                  <a:lnTo>
                    <a:pt x="4" y="0"/>
                  </a:lnTo>
                  <a:lnTo>
                    <a:pt x="9" y="2"/>
                  </a:lnTo>
                  <a:lnTo>
                    <a:pt x="13" y="5"/>
                  </a:lnTo>
                  <a:lnTo>
                    <a:pt x="17" y="10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05200" y="2692080"/>
              <a:ext cx="218880" cy="328320"/>
            </a:xfrm>
            <a:custGeom>
              <a:avLst/>
              <a:gdLst/>
              <a:ahLst/>
              <a:rect l="l" t="t" r="r" b="b"/>
              <a:pathLst>
                <a:path w="147" h="236">
                  <a:moveTo>
                    <a:pt x="21" y="236"/>
                  </a:moveTo>
                  <a:lnTo>
                    <a:pt x="13" y="228"/>
                  </a:lnTo>
                  <a:lnTo>
                    <a:pt x="7" y="216"/>
                  </a:lnTo>
                  <a:lnTo>
                    <a:pt x="3" y="205"/>
                  </a:lnTo>
                  <a:lnTo>
                    <a:pt x="0" y="193"/>
                  </a:lnTo>
                  <a:lnTo>
                    <a:pt x="105" y="31"/>
                  </a:lnTo>
                  <a:lnTo>
                    <a:pt x="109" y="27"/>
                  </a:lnTo>
                  <a:lnTo>
                    <a:pt x="115" y="24"/>
                  </a:lnTo>
                  <a:lnTo>
                    <a:pt x="121" y="21"/>
                  </a:lnTo>
                  <a:lnTo>
                    <a:pt x="127" y="18"/>
                  </a:lnTo>
                  <a:lnTo>
                    <a:pt x="132" y="14"/>
                  </a:lnTo>
                  <a:lnTo>
                    <a:pt x="138" y="10"/>
                  </a:lnTo>
                  <a:lnTo>
                    <a:pt x="143" y="5"/>
                  </a:lnTo>
                  <a:lnTo>
                    <a:pt x="147" y="0"/>
                  </a:lnTo>
                  <a:lnTo>
                    <a:pt x="138" y="32"/>
                  </a:lnTo>
                  <a:lnTo>
                    <a:pt x="127" y="63"/>
                  </a:lnTo>
                  <a:lnTo>
                    <a:pt x="113" y="94"/>
                  </a:lnTo>
                  <a:lnTo>
                    <a:pt x="98" y="123"/>
                  </a:lnTo>
                  <a:lnTo>
                    <a:pt x="81" y="152"/>
                  </a:lnTo>
                  <a:lnTo>
                    <a:pt x="61" y="180"/>
                  </a:lnTo>
                  <a:lnTo>
                    <a:pt x="41" y="208"/>
                  </a:lnTo>
                  <a:lnTo>
                    <a:pt x="21" y="236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52760" y="2700360"/>
              <a:ext cx="32040" cy="3312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22" y="14"/>
                  </a:lnTo>
                  <a:lnTo>
                    <a:pt x="20" y="19"/>
                  </a:lnTo>
                  <a:lnTo>
                    <a:pt x="19" y="22"/>
                  </a:lnTo>
                  <a:lnTo>
                    <a:pt x="15" y="26"/>
                  </a:lnTo>
                  <a:lnTo>
                    <a:pt x="11" y="23"/>
                  </a:lnTo>
                  <a:lnTo>
                    <a:pt x="6" y="21"/>
                  </a:lnTo>
                  <a:lnTo>
                    <a:pt x="3" y="19"/>
                  </a:lnTo>
                  <a:lnTo>
                    <a:pt x="0" y="14"/>
                  </a:lnTo>
                  <a:lnTo>
                    <a:pt x="3" y="5"/>
                  </a:lnTo>
                  <a:lnTo>
                    <a:pt x="10" y="0"/>
                  </a:lnTo>
                  <a:lnTo>
                    <a:pt x="18" y="1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47080" y="2809080"/>
              <a:ext cx="120600" cy="15912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76" y="53"/>
                  </a:moveTo>
                  <a:lnTo>
                    <a:pt x="78" y="68"/>
                  </a:lnTo>
                  <a:lnTo>
                    <a:pt x="80" y="84"/>
                  </a:lnTo>
                  <a:lnTo>
                    <a:pt x="82" y="99"/>
                  </a:lnTo>
                  <a:lnTo>
                    <a:pt x="83" y="114"/>
                  </a:lnTo>
                  <a:lnTo>
                    <a:pt x="73" y="114"/>
                  </a:lnTo>
                  <a:lnTo>
                    <a:pt x="66" y="106"/>
                  </a:lnTo>
                  <a:lnTo>
                    <a:pt x="60" y="94"/>
                  </a:lnTo>
                  <a:lnTo>
                    <a:pt x="54" y="87"/>
                  </a:lnTo>
                  <a:lnTo>
                    <a:pt x="47" y="84"/>
                  </a:lnTo>
                  <a:lnTo>
                    <a:pt x="42" y="80"/>
                  </a:lnTo>
                  <a:lnTo>
                    <a:pt x="36" y="76"/>
                  </a:lnTo>
                  <a:lnTo>
                    <a:pt x="31" y="71"/>
                  </a:lnTo>
                  <a:lnTo>
                    <a:pt x="27" y="66"/>
                  </a:lnTo>
                  <a:lnTo>
                    <a:pt x="22" y="63"/>
                  </a:lnTo>
                  <a:lnTo>
                    <a:pt x="17" y="60"/>
                  </a:lnTo>
                  <a:lnTo>
                    <a:pt x="12" y="57"/>
                  </a:lnTo>
                  <a:lnTo>
                    <a:pt x="5" y="49"/>
                  </a:lnTo>
                  <a:lnTo>
                    <a:pt x="1" y="40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4" y="0"/>
                  </a:lnTo>
                  <a:lnTo>
                    <a:pt x="24" y="2"/>
                  </a:lnTo>
                  <a:lnTo>
                    <a:pt x="33" y="8"/>
                  </a:lnTo>
                  <a:lnTo>
                    <a:pt x="42" y="15"/>
                  </a:lnTo>
                  <a:lnTo>
                    <a:pt x="47" y="23"/>
                  </a:lnTo>
                  <a:lnTo>
                    <a:pt x="54" y="31"/>
                  </a:lnTo>
                  <a:lnTo>
                    <a:pt x="60" y="39"/>
                  </a:lnTo>
                  <a:lnTo>
                    <a:pt x="68" y="47"/>
                  </a:lnTo>
                  <a:lnTo>
                    <a:pt x="7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72400" y="2812320"/>
              <a:ext cx="52920" cy="471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8"/>
                  </a:moveTo>
                  <a:lnTo>
                    <a:pt x="29" y="16"/>
                  </a:lnTo>
                  <a:lnTo>
                    <a:pt x="27" y="26"/>
                  </a:lnTo>
                  <a:lnTo>
                    <a:pt x="22" y="33"/>
                  </a:lnTo>
                  <a:lnTo>
                    <a:pt x="14" y="32"/>
                  </a:lnTo>
                  <a:lnTo>
                    <a:pt x="10" y="29"/>
                  </a:lnTo>
                  <a:lnTo>
                    <a:pt x="6" y="24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5" y="13"/>
                  </a:lnTo>
                  <a:lnTo>
                    <a:pt x="10" y="9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73360" y="2836800"/>
              <a:ext cx="79560" cy="100080"/>
            </a:xfrm>
            <a:custGeom>
              <a:avLst/>
              <a:gdLst/>
              <a:ahLst/>
              <a:rect l="l" t="t" r="r" b="b"/>
              <a:pathLst>
                <a:path w="54" h="73">
                  <a:moveTo>
                    <a:pt x="48" y="44"/>
                  </a:moveTo>
                  <a:lnTo>
                    <a:pt x="49" y="50"/>
                  </a:lnTo>
                  <a:lnTo>
                    <a:pt x="52" y="59"/>
                  </a:lnTo>
                  <a:lnTo>
                    <a:pt x="54" y="68"/>
                  </a:lnTo>
                  <a:lnTo>
                    <a:pt x="53" y="73"/>
                  </a:lnTo>
                  <a:lnTo>
                    <a:pt x="48" y="64"/>
                  </a:lnTo>
                  <a:lnTo>
                    <a:pt x="39" y="54"/>
                  </a:lnTo>
                  <a:lnTo>
                    <a:pt x="29" y="46"/>
                  </a:lnTo>
                  <a:lnTo>
                    <a:pt x="20" y="38"/>
                  </a:lnTo>
                  <a:lnTo>
                    <a:pt x="11" y="29"/>
                  </a:lnTo>
                  <a:lnTo>
                    <a:pt x="4" y="20"/>
                  </a:lnTo>
                  <a:lnTo>
                    <a:pt x="0" y="11"/>
                  </a:lnTo>
                  <a:lnTo>
                    <a:pt x="1" y="0"/>
                  </a:lnTo>
                  <a:lnTo>
                    <a:pt x="10" y="2"/>
                  </a:lnTo>
                  <a:lnTo>
                    <a:pt x="15" y="6"/>
                  </a:lnTo>
                  <a:lnTo>
                    <a:pt x="21" y="12"/>
                  </a:lnTo>
                  <a:lnTo>
                    <a:pt x="27" y="19"/>
                  </a:lnTo>
                  <a:lnTo>
                    <a:pt x="31" y="27"/>
                  </a:lnTo>
                  <a:lnTo>
                    <a:pt x="36" y="34"/>
                  </a:lnTo>
                  <a:lnTo>
                    <a:pt x="42" y="39"/>
                  </a:lnTo>
                  <a:lnTo>
                    <a:pt x="48" y="44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82880" y="2953800"/>
              <a:ext cx="38520" cy="5040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24" y="25"/>
                  </a:moveTo>
                  <a:lnTo>
                    <a:pt x="14" y="35"/>
                  </a:lnTo>
                  <a:lnTo>
                    <a:pt x="7" y="34"/>
                  </a:lnTo>
                  <a:lnTo>
                    <a:pt x="2" y="26"/>
                  </a:lnTo>
                  <a:lnTo>
                    <a:pt x="0" y="17"/>
                  </a:lnTo>
                  <a:lnTo>
                    <a:pt x="5" y="12"/>
                  </a:lnTo>
                  <a:lnTo>
                    <a:pt x="9" y="6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3" y="5"/>
                  </a:lnTo>
                  <a:lnTo>
                    <a:pt x="25" y="12"/>
                  </a:lnTo>
                  <a:lnTo>
                    <a:pt x="27" y="19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13120" y="2987280"/>
              <a:ext cx="84960" cy="4464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59" y="8"/>
                  </a:moveTo>
                  <a:lnTo>
                    <a:pt x="54" y="15"/>
                  </a:lnTo>
                  <a:lnTo>
                    <a:pt x="48" y="22"/>
                  </a:lnTo>
                  <a:lnTo>
                    <a:pt x="42" y="27"/>
                  </a:lnTo>
                  <a:lnTo>
                    <a:pt x="36" y="32"/>
                  </a:lnTo>
                  <a:lnTo>
                    <a:pt x="31" y="32"/>
                  </a:lnTo>
                  <a:lnTo>
                    <a:pt x="26" y="32"/>
                  </a:lnTo>
                  <a:lnTo>
                    <a:pt x="22" y="32"/>
                  </a:lnTo>
                  <a:lnTo>
                    <a:pt x="17" y="31"/>
                  </a:lnTo>
                  <a:lnTo>
                    <a:pt x="12" y="31"/>
                  </a:lnTo>
                  <a:lnTo>
                    <a:pt x="8" y="30"/>
                  </a:lnTo>
                  <a:lnTo>
                    <a:pt x="3" y="28"/>
                  </a:lnTo>
                  <a:lnTo>
                    <a:pt x="0" y="27"/>
                  </a:lnTo>
                  <a:lnTo>
                    <a:pt x="7" y="26"/>
                  </a:lnTo>
                  <a:lnTo>
                    <a:pt x="16" y="23"/>
                  </a:lnTo>
                  <a:lnTo>
                    <a:pt x="24" y="17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37" y="2"/>
                  </a:lnTo>
                  <a:lnTo>
                    <a:pt x="45" y="2"/>
                  </a:lnTo>
                  <a:lnTo>
                    <a:pt x="53" y="4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43200" y="2987280"/>
              <a:ext cx="20520" cy="80640"/>
            </a:xfrm>
            <a:custGeom>
              <a:avLst/>
              <a:gdLst/>
              <a:ahLst/>
              <a:rect l="l" t="t" r="r" b="b"/>
              <a:pathLst>
                <a:path w="15" h="57">
                  <a:moveTo>
                    <a:pt x="13" y="57"/>
                  </a:moveTo>
                  <a:lnTo>
                    <a:pt x="8" y="49"/>
                  </a:lnTo>
                  <a:lnTo>
                    <a:pt x="2" y="40"/>
                  </a:lnTo>
                  <a:lnTo>
                    <a:pt x="0" y="32"/>
                  </a:lnTo>
                  <a:lnTo>
                    <a:pt x="5" y="23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2" y="7"/>
                  </a:lnTo>
                  <a:lnTo>
                    <a:pt x="2" y="0"/>
                  </a:lnTo>
                  <a:lnTo>
                    <a:pt x="9" y="13"/>
                  </a:lnTo>
                  <a:lnTo>
                    <a:pt x="14" y="28"/>
                  </a:lnTo>
                  <a:lnTo>
                    <a:pt x="15" y="43"/>
                  </a:lnTo>
                  <a:lnTo>
                    <a:pt x="13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73160" y="2987280"/>
              <a:ext cx="43920" cy="7488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30" y="38"/>
                  </a:moveTo>
                  <a:lnTo>
                    <a:pt x="12" y="54"/>
                  </a:lnTo>
                  <a:lnTo>
                    <a:pt x="8" y="39"/>
                  </a:lnTo>
                  <a:lnTo>
                    <a:pt x="2" y="25"/>
                  </a:lnTo>
                  <a:lnTo>
                    <a:pt x="0" y="11"/>
                  </a:lnTo>
                  <a:lnTo>
                    <a:pt x="9" y="0"/>
                  </a:lnTo>
                  <a:lnTo>
                    <a:pt x="12" y="10"/>
                  </a:lnTo>
                  <a:lnTo>
                    <a:pt x="16" y="20"/>
                  </a:lnTo>
                  <a:lnTo>
                    <a:pt x="22" y="30"/>
                  </a:lnTo>
                  <a:lnTo>
                    <a:pt x="30" y="38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53720" y="3048480"/>
              <a:ext cx="487800" cy="295200"/>
            </a:xfrm>
            <a:custGeom>
              <a:avLst/>
              <a:gdLst/>
              <a:ahLst/>
              <a:rect l="l" t="t" r="r" b="b"/>
              <a:pathLst>
                <a:path w="330" h="212">
                  <a:moveTo>
                    <a:pt x="100" y="11"/>
                  </a:moveTo>
                  <a:lnTo>
                    <a:pt x="112" y="16"/>
                  </a:lnTo>
                  <a:lnTo>
                    <a:pt x="135" y="18"/>
                  </a:lnTo>
                  <a:lnTo>
                    <a:pt x="157" y="16"/>
                  </a:lnTo>
                  <a:lnTo>
                    <a:pt x="180" y="16"/>
                  </a:lnTo>
                  <a:lnTo>
                    <a:pt x="203" y="16"/>
                  </a:lnTo>
                  <a:lnTo>
                    <a:pt x="225" y="18"/>
                  </a:lnTo>
                  <a:lnTo>
                    <a:pt x="247" y="21"/>
                  </a:lnTo>
                  <a:lnTo>
                    <a:pt x="268" y="27"/>
                  </a:lnTo>
                  <a:lnTo>
                    <a:pt x="287" y="36"/>
                  </a:lnTo>
                  <a:lnTo>
                    <a:pt x="295" y="41"/>
                  </a:lnTo>
                  <a:lnTo>
                    <a:pt x="305" y="45"/>
                  </a:lnTo>
                  <a:lnTo>
                    <a:pt x="312" y="50"/>
                  </a:lnTo>
                  <a:lnTo>
                    <a:pt x="313" y="57"/>
                  </a:lnTo>
                  <a:lnTo>
                    <a:pt x="307" y="72"/>
                  </a:lnTo>
                  <a:lnTo>
                    <a:pt x="307" y="88"/>
                  </a:lnTo>
                  <a:lnTo>
                    <a:pt x="310" y="104"/>
                  </a:lnTo>
                  <a:lnTo>
                    <a:pt x="317" y="118"/>
                  </a:lnTo>
                  <a:lnTo>
                    <a:pt x="330" y="125"/>
                  </a:lnTo>
                  <a:lnTo>
                    <a:pt x="330" y="135"/>
                  </a:lnTo>
                  <a:lnTo>
                    <a:pt x="327" y="148"/>
                  </a:lnTo>
                  <a:lnTo>
                    <a:pt x="325" y="160"/>
                  </a:lnTo>
                  <a:lnTo>
                    <a:pt x="325" y="202"/>
                  </a:lnTo>
                  <a:lnTo>
                    <a:pt x="320" y="203"/>
                  </a:lnTo>
                  <a:lnTo>
                    <a:pt x="315" y="205"/>
                  </a:lnTo>
                  <a:lnTo>
                    <a:pt x="309" y="206"/>
                  </a:lnTo>
                  <a:lnTo>
                    <a:pt x="305" y="209"/>
                  </a:lnTo>
                  <a:lnTo>
                    <a:pt x="300" y="210"/>
                  </a:lnTo>
                  <a:lnTo>
                    <a:pt x="294" y="211"/>
                  </a:lnTo>
                  <a:lnTo>
                    <a:pt x="290" y="212"/>
                  </a:lnTo>
                  <a:lnTo>
                    <a:pt x="284" y="212"/>
                  </a:lnTo>
                  <a:lnTo>
                    <a:pt x="279" y="202"/>
                  </a:lnTo>
                  <a:lnTo>
                    <a:pt x="275" y="192"/>
                  </a:lnTo>
                  <a:lnTo>
                    <a:pt x="272" y="181"/>
                  </a:lnTo>
                  <a:lnTo>
                    <a:pt x="277" y="171"/>
                  </a:lnTo>
                  <a:lnTo>
                    <a:pt x="285" y="162"/>
                  </a:lnTo>
                  <a:lnTo>
                    <a:pt x="291" y="151"/>
                  </a:lnTo>
                  <a:lnTo>
                    <a:pt x="294" y="141"/>
                  </a:lnTo>
                  <a:lnTo>
                    <a:pt x="292" y="128"/>
                  </a:lnTo>
                  <a:lnTo>
                    <a:pt x="286" y="115"/>
                  </a:lnTo>
                  <a:lnTo>
                    <a:pt x="277" y="107"/>
                  </a:lnTo>
                  <a:lnTo>
                    <a:pt x="266" y="103"/>
                  </a:lnTo>
                  <a:lnTo>
                    <a:pt x="253" y="99"/>
                  </a:lnTo>
                  <a:lnTo>
                    <a:pt x="240" y="97"/>
                  </a:lnTo>
                  <a:lnTo>
                    <a:pt x="229" y="94"/>
                  </a:lnTo>
                  <a:lnTo>
                    <a:pt x="218" y="87"/>
                  </a:lnTo>
                  <a:lnTo>
                    <a:pt x="210" y="75"/>
                  </a:lnTo>
                  <a:lnTo>
                    <a:pt x="189" y="68"/>
                  </a:lnTo>
                  <a:lnTo>
                    <a:pt x="168" y="69"/>
                  </a:lnTo>
                  <a:lnTo>
                    <a:pt x="143" y="73"/>
                  </a:lnTo>
                  <a:lnTo>
                    <a:pt x="120" y="79"/>
                  </a:lnTo>
                  <a:lnTo>
                    <a:pt x="98" y="82"/>
                  </a:lnTo>
                  <a:lnTo>
                    <a:pt x="79" y="80"/>
                  </a:lnTo>
                  <a:lnTo>
                    <a:pt x="62" y="71"/>
                  </a:lnTo>
                  <a:lnTo>
                    <a:pt x="48" y="49"/>
                  </a:lnTo>
                  <a:lnTo>
                    <a:pt x="42" y="43"/>
                  </a:lnTo>
                  <a:lnTo>
                    <a:pt x="36" y="38"/>
                  </a:lnTo>
                  <a:lnTo>
                    <a:pt x="32" y="33"/>
                  </a:lnTo>
                  <a:lnTo>
                    <a:pt x="26" y="28"/>
                  </a:lnTo>
                  <a:lnTo>
                    <a:pt x="20" y="24"/>
                  </a:lnTo>
                  <a:lnTo>
                    <a:pt x="13" y="21"/>
                  </a:lnTo>
                  <a:lnTo>
                    <a:pt x="7" y="19"/>
                  </a:lnTo>
                  <a:lnTo>
                    <a:pt x="0" y="16"/>
                  </a:lnTo>
                  <a:lnTo>
                    <a:pt x="4" y="7"/>
                  </a:lnTo>
                  <a:lnTo>
                    <a:pt x="9" y="3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7" y="4"/>
                  </a:lnTo>
                  <a:lnTo>
                    <a:pt x="34" y="6"/>
                  </a:lnTo>
                  <a:lnTo>
                    <a:pt x="41" y="9"/>
                  </a:lnTo>
                  <a:lnTo>
                    <a:pt x="48" y="11"/>
                  </a:lnTo>
                  <a:lnTo>
                    <a:pt x="100" y="11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12240" y="3098880"/>
              <a:ext cx="540720" cy="270000"/>
            </a:xfrm>
            <a:custGeom>
              <a:avLst/>
              <a:gdLst/>
              <a:ahLst/>
              <a:rect l="l" t="t" r="r" b="b"/>
              <a:pathLst>
                <a:path w="364" h="195">
                  <a:moveTo>
                    <a:pt x="160" y="62"/>
                  </a:moveTo>
                  <a:lnTo>
                    <a:pt x="176" y="67"/>
                  </a:lnTo>
                  <a:lnTo>
                    <a:pt x="191" y="69"/>
                  </a:lnTo>
                  <a:lnTo>
                    <a:pt x="207" y="68"/>
                  </a:lnTo>
                  <a:lnTo>
                    <a:pt x="222" y="66"/>
                  </a:lnTo>
                  <a:lnTo>
                    <a:pt x="239" y="61"/>
                  </a:lnTo>
                  <a:lnTo>
                    <a:pt x="254" y="58"/>
                  </a:lnTo>
                  <a:lnTo>
                    <a:pt x="270" y="54"/>
                  </a:lnTo>
                  <a:lnTo>
                    <a:pt x="285" y="52"/>
                  </a:lnTo>
                  <a:lnTo>
                    <a:pt x="294" y="57"/>
                  </a:lnTo>
                  <a:lnTo>
                    <a:pt x="303" y="63"/>
                  </a:lnTo>
                  <a:lnTo>
                    <a:pt x="311" y="69"/>
                  </a:lnTo>
                  <a:lnTo>
                    <a:pt x="320" y="76"/>
                  </a:lnTo>
                  <a:lnTo>
                    <a:pt x="331" y="82"/>
                  </a:lnTo>
                  <a:lnTo>
                    <a:pt x="341" y="87"/>
                  </a:lnTo>
                  <a:lnTo>
                    <a:pt x="351" y="89"/>
                  </a:lnTo>
                  <a:lnTo>
                    <a:pt x="363" y="90"/>
                  </a:lnTo>
                  <a:lnTo>
                    <a:pt x="364" y="100"/>
                  </a:lnTo>
                  <a:lnTo>
                    <a:pt x="358" y="108"/>
                  </a:lnTo>
                  <a:lnTo>
                    <a:pt x="350" y="116"/>
                  </a:lnTo>
                  <a:lnTo>
                    <a:pt x="346" y="126"/>
                  </a:lnTo>
                  <a:lnTo>
                    <a:pt x="343" y="141"/>
                  </a:lnTo>
                  <a:lnTo>
                    <a:pt x="345" y="155"/>
                  </a:lnTo>
                  <a:lnTo>
                    <a:pt x="350" y="168"/>
                  </a:lnTo>
                  <a:lnTo>
                    <a:pt x="360" y="180"/>
                  </a:lnTo>
                  <a:lnTo>
                    <a:pt x="339" y="184"/>
                  </a:lnTo>
                  <a:lnTo>
                    <a:pt x="318" y="188"/>
                  </a:lnTo>
                  <a:lnTo>
                    <a:pt x="297" y="191"/>
                  </a:lnTo>
                  <a:lnTo>
                    <a:pt x="275" y="194"/>
                  </a:lnTo>
                  <a:lnTo>
                    <a:pt x="254" y="195"/>
                  </a:lnTo>
                  <a:lnTo>
                    <a:pt x="232" y="195"/>
                  </a:lnTo>
                  <a:lnTo>
                    <a:pt x="210" y="194"/>
                  </a:lnTo>
                  <a:lnTo>
                    <a:pt x="188" y="193"/>
                  </a:lnTo>
                  <a:lnTo>
                    <a:pt x="166" y="191"/>
                  </a:lnTo>
                  <a:lnTo>
                    <a:pt x="144" y="188"/>
                  </a:lnTo>
                  <a:lnTo>
                    <a:pt x="122" y="184"/>
                  </a:lnTo>
                  <a:lnTo>
                    <a:pt x="101" y="181"/>
                  </a:lnTo>
                  <a:lnTo>
                    <a:pt x="81" y="176"/>
                  </a:lnTo>
                  <a:lnTo>
                    <a:pt x="60" y="171"/>
                  </a:lnTo>
                  <a:lnTo>
                    <a:pt x="40" y="165"/>
                  </a:lnTo>
                  <a:lnTo>
                    <a:pt x="21" y="159"/>
                  </a:lnTo>
                  <a:lnTo>
                    <a:pt x="17" y="136"/>
                  </a:lnTo>
                  <a:lnTo>
                    <a:pt x="11" y="114"/>
                  </a:lnTo>
                  <a:lnTo>
                    <a:pt x="5" y="92"/>
                  </a:lnTo>
                  <a:lnTo>
                    <a:pt x="0" y="70"/>
                  </a:lnTo>
                  <a:lnTo>
                    <a:pt x="13" y="68"/>
                  </a:lnTo>
                  <a:lnTo>
                    <a:pt x="24" y="62"/>
                  </a:lnTo>
                  <a:lnTo>
                    <a:pt x="36" y="55"/>
                  </a:lnTo>
                  <a:lnTo>
                    <a:pt x="46" y="46"/>
                  </a:lnTo>
                  <a:lnTo>
                    <a:pt x="55" y="36"/>
                  </a:lnTo>
                  <a:lnTo>
                    <a:pt x="63" y="24"/>
                  </a:lnTo>
                  <a:lnTo>
                    <a:pt x="71" y="14"/>
                  </a:lnTo>
                  <a:lnTo>
                    <a:pt x="78" y="2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3" y="1"/>
                  </a:lnTo>
                  <a:lnTo>
                    <a:pt x="98" y="2"/>
                  </a:lnTo>
                  <a:lnTo>
                    <a:pt x="103" y="5"/>
                  </a:lnTo>
                  <a:lnTo>
                    <a:pt x="107" y="6"/>
                  </a:lnTo>
                  <a:lnTo>
                    <a:pt x="112" y="8"/>
                  </a:lnTo>
                  <a:lnTo>
                    <a:pt x="116" y="9"/>
                  </a:lnTo>
                  <a:lnTo>
                    <a:pt x="123" y="15"/>
                  </a:lnTo>
                  <a:lnTo>
                    <a:pt x="128" y="23"/>
                  </a:lnTo>
                  <a:lnTo>
                    <a:pt x="132" y="31"/>
                  </a:lnTo>
                  <a:lnTo>
                    <a:pt x="136" y="39"/>
                  </a:lnTo>
                  <a:lnTo>
                    <a:pt x="139" y="46"/>
                  </a:lnTo>
                  <a:lnTo>
                    <a:pt x="144" y="53"/>
                  </a:lnTo>
                  <a:lnTo>
                    <a:pt x="151" y="59"/>
                  </a:lnTo>
                  <a:lnTo>
                    <a:pt x="160" y="62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97000" y="3109680"/>
              <a:ext cx="106560" cy="15084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71" y="0"/>
                  </a:moveTo>
                  <a:lnTo>
                    <a:pt x="69" y="27"/>
                  </a:lnTo>
                  <a:lnTo>
                    <a:pt x="65" y="54"/>
                  </a:lnTo>
                  <a:lnTo>
                    <a:pt x="62" y="81"/>
                  </a:lnTo>
                  <a:lnTo>
                    <a:pt x="59" y="108"/>
                  </a:lnTo>
                  <a:lnTo>
                    <a:pt x="47" y="97"/>
                  </a:lnTo>
                  <a:lnTo>
                    <a:pt x="37" y="85"/>
                  </a:lnTo>
                  <a:lnTo>
                    <a:pt x="26" y="73"/>
                  </a:lnTo>
                  <a:lnTo>
                    <a:pt x="17" y="60"/>
                  </a:lnTo>
                  <a:lnTo>
                    <a:pt x="10" y="46"/>
                  </a:lnTo>
                  <a:lnTo>
                    <a:pt x="4" y="32"/>
                  </a:lnTo>
                  <a:lnTo>
                    <a:pt x="1" y="18"/>
                  </a:lnTo>
                  <a:lnTo>
                    <a:pt x="0" y="5"/>
                  </a:lnTo>
                  <a:lnTo>
                    <a:pt x="9" y="3"/>
                  </a:lnTo>
                  <a:lnTo>
                    <a:pt x="17" y="2"/>
                  </a:lnTo>
                  <a:lnTo>
                    <a:pt x="26" y="2"/>
                  </a:lnTo>
                  <a:lnTo>
                    <a:pt x="35" y="1"/>
                  </a:lnTo>
                  <a:lnTo>
                    <a:pt x="44" y="1"/>
                  </a:lnTo>
                  <a:lnTo>
                    <a:pt x="53" y="1"/>
                  </a:lnTo>
                  <a:lnTo>
                    <a:pt x="62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57960" y="3120840"/>
              <a:ext cx="20520" cy="6372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15" y="42"/>
                  </a:moveTo>
                  <a:lnTo>
                    <a:pt x="10" y="46"/>
                  </a:lnTo>
                  <a:lnTo>
                    <a:pt x="6" y="37"/>
                  </a:lnTo>
                  <a:lnTo>
                    <a:pt x="3" y="28"/>
                  </a:lnTo>
                  <a:lnTo>
                    <a:pt x="0" y="18"/>
                  </a:lnTo>
                  <a:lnTo>
                    <a:pt x="5" y="7"/>
                  </a:lnTo>
                  <a:lnTo>
                    <a:pt x="3" y="0"/>
                  </a:lnTo>
                  <a:lnTo>
                    <a:pt x="11" y="8"/>
                  </a:lnTo>
                  <a:lnTo>
                    <a:pt x="14" y="19"/>
                  </a:lnTo>
                  <a:lnTo>
                    <a:pt x="15" y="31"/>
                  </a:lnTo>
                  <a:lnTo>
                    <a:pt x="15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66600" y="3227040"/>
              <a:ext cx="11880" cy="4716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9" y="36"/>
                  </a:moveTo>
                  <a:lnTo>
                    <a:pt x="1" y="28"/>
                  </a:lnTo>
                  <a:lnTo>
                    <a:pt x="0" y="20"/>
                  </a:lnTo>
                  <a:lnTo>
                    <a:pt x="1" y="9"/>
                  </a:lnTo>
                  <a:lnTo>
                    <a:pt x="4" y="0"/>
                  </a:lnTo>
                  <a:lnTo>
                    <a:pt x="7" y="8"/>
                  </a:lnTo>
                  <a:lnTo>
                    <a:pt x="9" y="17"/>
                  </a:lnTo>
                  <a:lnTo>
                    <a:pt x="9" y="27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73800" y="2004480"/>
              <a:ext cx="842400" cy="846000"/>
            </a:xfrm>
            <a:custGeom>
              <a:avLst/>
              <a:gdLst/>
              <a:ahLst/>
              <a:rect l="l" t="t" r="r" b="b"/>
              <a:pathLst>
                <a:path w="571" h="608">
                  <a:moveTo>
                    <a:pt x="568" y="299"/>
                  </a:moveTo>
                  <a:lnTo>
                    <a:pt x="566" y="278"/>
                  </a:lnTo>
                  <a:lnTo>
                    <a:pt x="565" y="252"/>
                  </a:lnTo>
                  <a:lnTo>
                    <a:pt x="566" y="230"/>
                  </a:lnTo>
                  <a:lnTo>
                    <a:pt x="566" y="219"/>
                  </a:lnTo>
                  <a:lnTo>
                    <a:pt x="565" y="218"/>
                  </a:lnTo>
                  <a:lnTo>
                    <a:pt x="562" y="215"/>
                  </a:lnTo>
                  <a:lnTo>
                    <a:pt x="557" y="211"/>
                  </a:lnTo>
                  <a:lnTo>
                    <a:pt x="551" y="207"/>
                  </a:lnTo>
                  <a:lnTo>
                    <a:pt x="544" y="202"/>
                  </a:lnTo>
                  <a:lnTo>
                    <a:pt x="537" y="200"/>
                  </a:lnTo>
                  <a:lnTo>
                    <a:pt x="530" y="197"/>
                  </a:lnTo>
                  <a:lnTo>
                    <a:pt x="524" y="199"/>
                  </a:lnTo>
                  <a:lnTo>
                    <a:pt x="524" y="194"/>
                  </a:lnTo>
                  <a:lnTo>
                    <a:pt x="524" y="182"/>
                  </a:lnTo>
                  <a:lnTo>
                    <a:pt x="524" y="167"/>
                  </a:lnTo>
                  <a:lnTo>
                    <a:pt x="526" y="152"/>
                  </a:lnTo>
                  <a:lnTo>
                    <a:pt x="525" y="132"/>
                  </a:lnTo>
                  <a:lnTo>
                    <a:pt x="522" y="127"/>
                  </a:lnTo>
                  <a:lnTo>
                    <a:pt x="520" y="121"/>
                  </a:lnTo>
                  <a:lnTo>
                    <a:pt x="517" y="117"/>
                  </a:lnTo>
                  <a:lnTo>
                    <a:pt x="512" y="113"/>
                  </a:lnTo>
                  <a:lnTo>
                    <a:pt x="506" y="110"/>
                  </a:lnTo>
                  <a:lnTo>
                    <a:pt x="500" y="108"/>
                  </a:lnTo>
                  <a:lnTo>
                    <a:pt x="495" y="108"/>
                  </a:lnTo>
                  <a:lnTo>
                    <a:pt x="488" y="108"/>
                  </a:lnTo>
                  <a:lnTo>
                    <a:pt x="482" y="109"/>
                  </a:lnTo>
                  <a:lnTo>
                    <a:pt x="476" y="112"/>
                  </a:lnTo>
                  <a:lnTo>
                    <a:pt x="472" y="116"/>
                  </a:lnTo>
                  <a:lnTo>
                    <a:pt x="467" y="120"/>
                  </a:lnTo>
                  <a:lnTo>
                    <a:pt x="461" y="127"/>
                  </a:lnTo>
                  <a:lnTo>
                    <a:pt x="447" y="148"/>
                  </a:lnTo>
                  <a:lnTo>
                    <a:pt x="426" y="178"/>
                  </a:lnTo>
                  <a:lnTo>
                    <a:pt x="399" y="215"/>
                  </a:lnTo>
                  <a:lnTo>
                    <a:pt x="369" y="256"/>
                  </a:lnTo>
                  <a:lnTo>
                    <a:pt x="339" y="298"/>
                  </a:lnTo>
                  <a:lnTo>
                    <a:pt x="310" y="338"/>
                  </a:lnTo>
                  <a:lnTo>
                    <a:pt x="285" y="373"/>
                  </a:lnTo>
                  <a:lnTo>
                    <a:pt x="277" y="383"/>
                  </a:lnTo>
                  <a:lnTo>
                    <a:pt x="269" y="394"/>
                  </a:lnTo>
                  <a:lnTo>
                    <a:pt x="260" y="405"/>
                  </a:lnTo>
                  <a:lnTo>
                    <a:pt x="252" y="415"/>
                  </a:lnTo>
                  <a:lnTo>
                    <a:pt x="242" y="424"/>
                  </a:lnTo>
                  <a:lnTo>
                    <a:pt x="234" y="435"/>
                  </a:lnTo>
                  <a:lnTo>
                    <a:pt x="225" y="445"/>
                  </a:lnTo>
                  <a:lnTo>
                    <a:pt x="216" y="454"/>
                  </a:lnTo>
                  <a:lnTo>
                    <a:pt x="222" y="442"/>
                  </a:lnTo>
                  <a:lnTo>
                    <a:pt x="231" y="422"/>
                  </a:lnTo>
                  <a:lnTo>
                    <a:pt x="242" y="397"/>
                  </a:lnTo>
                  <a:lnTo>
                    <a:pt x="257" y="368"/>
                  </a:lnTo>
                  <a:lnTo>
                    <a:pt x="273" y="336"/>
                  </a:lnTo>
                  <a:lnTo>
                    <a:pt x="291" y="300"/>
                  </a:lnTo>
                  <a:lnTo>
                    <a:pt x="308" y="264"/>
                  </a:lnTo>
                  <a:lnTo>
                    <a:pt x="326" y="227"/>
                  </a:lnTo>
                  <a:lnTo>
                    <a:pt x="345" y="192"/>
                  </a:lnTo>
                  <a:lnTo>
                    <a:pt x="362" y="157"/>
                  </a:lnTo>
                  <a:lnTo>
                    <a:pt x="378" y="125"/>
                  </a:lnTo>
                  <a:lnTo>
                    <a:pt x="392" y="97"/>
                  </a:lnTo>
                  <a:lnTo>
                    <a:pt x="404" y="73"/>
                  </a:lnTo>
                  <a:lnTo>
                    <a:pt x="413" y="56"/>
                  </a:lnTo>
                  <a:lnTo>
                    <a:pt x="419" y="44"/>
                  </a:lnTo>
                  <a:lnTo>
                    <a:pt x="421" y="40"/>
                  </a:lnTo>
                  <a:lnTo>
                    <a:pt x="421" y="27"/>
                  </a:lnTo>
                  <a:lnTo>
                    <a:pt x="417" y="17"/>
                  </a:lnTo>
                  <a:lnTo>
                    <a:pt x="409" y="7"/>
                  </a:lnTo>
                  <a:lnTo>
                    <a:pt x="399" y="2"/>
                  </a:lnTo>
                  <a:lnTo>
                    <a:pt x="393" y="0"/>
                  </a:lnTo>
                  <a:lnTo>
                    <a:pt x="386" y="3"/>
                  </a:lnTo>
                  <a:lnTo>
                    <a:pt x="379" y="6"/>
                  </a:lnTo>
                  <a:lnTo>
                    <a:pt x="374" y="11"/>
                  </a:lnTo>
                  <a:lnTo>
                    <a:pt x="368" y="15"/>
                  </a:lnTo>
                  <a:lnTo>
                    <a:pt x="363" y="19"/>
                  </a:lnTo>
                  <a:lnTo>
                    <a:pt x="360" y="22"/>
                  </a:lnTo>
                  <a:lnTo>
                    <a:pt x="359" y="23"/>
                  </a:lnTo>
                  <a:lnTo>
                    <a:pt x="359" y="23"/>
                  </a:lnTo>
                  <a:lnTo>
                    <a:pt x="359" y="25"/>
                  </a:lnTo>
                  <a:lnTo>
                    <a:pt x="344" y="53"/>
                  </a:lnTo>
                  <a:lnTo>
                    <a:pt x="329" y="82"/>
                  </a:lnTo>
                  <a:lnTo>
                    <a:pt x="315" y="111"/>
                  </a:lnTo>
                  <a:lnTo>
                    <a:pt x="300" y="140"/>
                  </a:lnTo>
                  <a:lnTo>
                    <a:pt x="286" y="169"/>
                  </a:lnTo>
                  <a:lnTo>
                    <a:pt x="271" y="197"/>
                  </a:lnTo>
                  <a:lnTo>
                    <a:pt x="255" y="226"/>
                  </a:lnTo>
                  <a:lnTo>
                    <a:pt x="239" y="255"/>
                  </a:lnTo>
                  <a:lnTo>
                    <a:pt x="226" y="270"/>
                  </a:lnTo>
                  <a:lnTo>
                    <a:pt x="212" y="286"/>
                  </a:lnTo>
                  <a:lnTo>
                    <a:pt x="200" y="301"/>
                  </a:lnTo>
                  <a:lnTo>
                    <a:pt x="186" y="316"/>
                  </a:lnTo>
                  <a:lnTo>
                    <a:pt x="173" y="331"/>
                  </a:lnTo>
                  <a:lnTo>
                    <a:pt x="159" y="346"/>
                  </a:lnTo>
                  <a:lnTo>
                    <a:pt x="147" y="362"/>
                  </a:lnTo>
                  <a:lnTo>
                    <a:pt x="134" y="377"/>
                  </a:lnTo>
                  <a:lnTo>
                    <a:pt x="135" y="370"/>
                  </a:lnTo>
                  <a:lnTo>
                    <a:pt x="136" y="356"/>
                  </a:lnTo>
                  <a:lnTo>
                    <a:pt x="135" y="340"/>
                  </a:lnTo>
                  <a:lnTo>
                    <a:pt x="131" y="329"/>
                  </a:lnTo>
                  <a:lnTo>
                    <a:pt x="125" y="325"/>
                  </a:lnTo>
                  <a:lnTo>
                    <a:pt x="119" y="323"/>
                  </a:lnTo>
                  <a:lnTo>
                    <a:pt x="113" y="322"/>
                  </a:lnTo>
                  <a:lnTo>
                    <a:pt x="107" y="322"/>
                  </a:lnTo>
                  <a:lnTo>
                    <a:pt x="102" y="323"/>
                  </a:lnTo>
                  <a:lnTo>
                    <a:pt x="96" y="324"/>
                  </a:lnTo>
                  <a:lnTo>
                    <a:pt x="90" y="328"/>
                  </a:lnTo>
                  <a:lnTo>
                    <a:pt x="86" y="332"/>
                  </a:lnTo>
                  <a:lnTo>
                    <a:pt x="82" y="337"/>
                  </a:lnTo>
                  <a:lnTo>
                    <a:pt x="74" y="347"/>
                  </a:lnTo>
                  <a:lnTo>
                    <a:pt x="65" y="359"/>
                  </a:lnTo>
                  <a:lnTo>
                    <a:pt x="58" y="368"/>
                  </a:lnTo>
                  <a:lnTo>
                    <a:pt x="53" y="362"/>
                  </a:lnTo>
                  <a:lnTo>
                    <a:pt x="48" y="359"/>
                  </a:lnTo>
                  <a:lnTo>
                    <a:pt x="41" y="356"/>
                  </a:lnTo>
                  <a:lnTo>
                    <a:pt x="33" y="355"/>
                  </a:lnTo>
                  <a:lnTo>
                    <a:pt x="20" y="358"/>
                  </a:lnTo>
                  <a:lnTo>
                    <a:pt x="10" y="364"/>
                  </a:lnTo>
                  <a:lnTo>
                    <a:pt x="3" y="375"/>
                  </a:lnTo>
                  <a:lnTo>
                    <a:pt x="0" y="388"/>
                  </a:lnTo>
                  <a:lnTo>
                    <a:pt x="0" y="407"/>
                  </a:lnTo>
                  <a:lnTo>
                    <a:pt x="0" y="428"/>
                  </a:lnTo>
                  <a:lnTo>
                    <a:pt x="0" y="449"/>
                  </a:lnTo>
                  <a:lnTo>
                    <a:pt x="0" y="468"/>
                  </a:lnTo>
                  <a:lnTo>
                    <a:pt x="3" y="474"/>
                  </a:lnTo>
                  <a:lnTo>
                    <a:pt x="7" y="488"/>
                  </a:lnTo>
                  <a:lnTo>
                    <a:pt x="15" y="503"/>
                  </a:lnTo>
                  <a:lnTo>
                    <a:pt x="24" y="511"/>
                  </a:lnTo>
                  <a:lnTo>
                    <a:pt x="24" y="513"/>
                  </a:lnTo>
                  <a:lnTo>
                    <a:pt x="24" y="518"/>
                  </a:lnTo>
                  <a:lnTo>
                    <a:pt x="24" y="523"/>
                  </a:lnTo>
                  <a:lnTo>
                    <a:pt x="24" y="527"/>
                  </a:lnTo>
                  <a:lnTo>
                    <a:pt x="27" y="533"/>
                  </a:lnTo>
                  <a:lnTo>
                    <a:pt x="29" y="538"/>
                  </a:lnTo>
                  <a:lnTo>
                    <a:pt x="33" y="543"/>
                  </a:lnTo>
                  <a:lnTo>
                    <a:pt x="38" y="548"/>
                  </a:lnTo>
                  <a:lnTo>
                    <a:pt x="43" y="551"/>
                  </a:lnTo>
                  <a:lnTo>
                    <a:pt x="49" y="552"/>
                  </a:lnTo>
                  <a:lnTo>
                    <a:pt x="54" y="553"/>
                  </a:lnTo>
                  <a:lnTo>
                    <a:pt x="61" y="553"/>
                  </a:lnTo>
                  <a:lnTo>
                    <a:pt x="64" y="551"/>
                  </a:lnTo>
                  <a:lnTo>
                    <a:pt x="71" y="545"/>
                  </a:lnTo>
                  <a:lnTo>
                    <a:pt x="80" y="536"/>
                  </a:lnTo>
                  <a:lnTo>
                    <a:pt x="91" y="526"/>
                  </a:lnTo>
                  <a:lnTo>
                    <a:pt x="104" y="514"/>
                  </a:lnTo>
                  <a:lnTo>
                    <a:pt x="116" y="503"/>
                  </a:lnTo>
                  <a:lnTo>
                    <a:pt x="126" y="492"/>
                  </a:lnTo>
                  <a:lnTo>
                    <a:pt x="134" y="483"/>
                  </a:lnTo>
                  <a:lnTo>
                    <a:pt x="131" y="492"/>
                  </a:lnTo>
                  <a:lnTo>
                    <a:pt x="126" y="502"/>
                  </a:lnTo>
                  <a:lnTo>
                    <a:pt x="121" y="511"/>
                  </a:lnTo>
                  <a:lnTo>
                    <a:pt x="118" y="520"/>
                  </a:lnTo>
                  <a:lnTo>
                    <a:pt x="113" y="529"/>
                  </a:lnTo>
                  <a:lnTo>
                    <a:pt x="109" y="538"/>
                  </a:lnTo>
                  <a:lnTo>
                    <a:pt x="103" y="548"/>
                  </a:lnTo>
                  <a:lnTo>
                    <a:pt x="98" y="557"/>
                  </a:lnTo>
                  <a:lnTo>
                    <a:pt x="99" y="565"/>
                  </a:lnTo>
                  <a:lnTo>
                    <a:pt x="103" y="582"/>
                  </a:lnTo>
                  <a:lnTo>
                    <a:pt x="111" y="599"/>
                  </a:lnTo>
                  <a:lnTo>
                    <a:pt x="121" y="608"/>
                  </a:lnTo>
                  <a:lnTo>
                    <a:pt x="157" y="601"/>
                  </a:lnTo>
                  <a:lnTo>
                    <a:pt x="179" y="582"/>
                  </a:lnTo>
                  <a:lnTo>
                    <a:pt x="200" y="564"/>
                  </a:lnTo>
                  <a:lnTo>
                    <a:pt x="220" y="544"/>
                  </a:lnTo>
                  <a:lnTo>
                    <a:pt x="240" y="523"/>
                  </a:lnTo>
                  <a:lnTo>
                    <a:pt x="258" y="503"/>
                  </a:lnTo>
                  <a:lnTo>
                    <a:pt x="277" y="482"/>
                  </a:lnTo>
                  <a:lnTo>
                    <a:pt x="294" y="460"/>
                  </a:lnTo>
                  <a:lnTo>
                    <a:pt x="311" y="438"/>
                  </a:lnTo>
                  <a:lnTo>
                    <a:pt x="329" y="416"/>
                  </a:lnTo>
                  <a:lnTo>
                    <a:pt x="345" y="393"/>
                  </a:lnTo>
                  <a:lnTo>
                    <a:pt x="362" y="370"/>
                  </a:lnTo>
                  <a:lnTo>
                    <a:pt x="378" y="346"/>
                  </a:lnTo>
                  <a:lnTo>
                    <a:pt x="394" y="322"/>
                  </a:lnTo>
                  <a:lnTo>
                    <a:pt x="411" y="298"/>
                  </a:lnTo>
                  <a:lnTo>
                    <a:pt x="427" y="273"/>
                  </a:lnTo>
                  <a:lnTo>
                    <a:pt x="444" y="249"/>
                  </a:lnTo>
                  <a:lnTo>
                    <a:pt x="447" y="257"/>
                  </a:lnTo>
                  <a:lnTo>
                    <a:pt x="454" y="271"/>
                  </a:lnTo>
                  <a:lnTo>
                    <a:pt x="460" y="285"/>
                  </a:lnTo>
                  <a:lnTo>
                    <a:pt x="464" y="292"/>
                  </a:lnTo>
                  <a:lnTo>
                    <a:pt x="468" y="293"/>
                  </a:lnTo>
                  <a:lnTo>
                    <a:pt x="474" y="294"/>
                  </a:lnTo>
                  <a:lnTo>
                    <a:pt x="480" y="294"/>
                  </a:lnTo>
                  <a:lnTo>
                    <a:pt x="487" y="293"/>
                  </a:lnTo>
                  <a:lnTo>
                    <a:pt x="492" y="292"/>
                  </a:lnTo>
                  <a:lnTo>
                    <a:pt x="498" y="291"/>
                  </a:lnTo>
                  <a:lnTo>
                    <a:pt x="502" y="290"/>
                  </a:lnTo>
                  <a:lnTo>
                    <a:pt x="503" y="290"/>
                  </a:lnTo>
                  <a:lnTo>
                    <a:pt x="504" y="295"/>
                  </a:lnTo>
                  <a:lnTo>
                    <a:pt x="507" y="303"/>
                  </a:lnTo>
                  <a:lnTo>
                    <a:pt x="513" y="311"/>
                  </a:lnTo>
                  <a:lnTo>
                    <a:pt x="520" y="322"/>
                  </a:lnTo>
                  <a:lnTo>
                    <a:pt x="528" y="330"/>
                  </a:lnTo>
                  <a:lnTo>
                    <a:pt x="536" y="337"/>
                  </a:lnTo>
                  <a:lnTo>
                    <a:pt x="543" y="340"/>
                  </a:lnTo>
                  <a:lnTo>
                    <a:pt x="550" y="340"/>
                  </a:lnTo>
                  <a:lnTo>
                    <a:pt x="562" y="333"/>
                  </a:lnTo>
                  <a:lnTo>
                    <a:pt x="568" y="324"/>
                  </a:lnTo>
                  <a:lnTo>
                    <a:pt x="571" y="311"/>
                  </a:lnTo>
                  <a:lnTo>
                    <a:pt x="568" y="299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8920" y="2525040"/>
              <a:ext cx="3240" cy="288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ss and Energy (e=mc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)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Cloud"/>
          <p:cNvSpPr/>
          <p:nvPr/>
        </p:nvSpPr>
        <p:spPr>
          <a:xfrm>
            <a:off x="5310360" y="4195800"/>
            <a:ext cx="2743200" cy="18381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81040" y="1317600"/>
            <a:ext cx="3506760" cy="3363480"/>
            <a:chOff x="581040" y="1317600"/>
            <a:chExt cx="3506760" cy="3363480"/>
          </a:xfrm>
        </p:grpSpPr>
        <p:sp>
          <p:nvSpPr>
            <p:cNvPr id="253" name=""/>
            <p:cNvSpPr/>
            <p:nvPr/>
          </p:nvSpPr>
          <p:spPr>
            <a:xfrm>
              <a:off x="3522600" y="1701720"/>
              <a:ext cx="525600" cy="1039320"/>
            </a:xfrm>
            <a:custGeom>
              <a:avLst/>
              <a:gdLst/>
              <a:ahLst/>
              <a:rect l="l" t="t" r="r" b="b"/>
              <a:pathLst>
                <a:path w="664" h="1310">
                  <a:moveTo>
                    <a:pt x="21" y="0"/>
                  </a:moveTo>
                  <a:lnTo>
                    <a:pt x="101" y="45"/>
                  </a:lnTo>
                  <a:lnTo>
                    <a:pt x="105" y="203"/>
                  </a:lnTo>
                  <a:lnTo>
                    <a:pt x="536" y="376"/>
                  </a:lnTo>
                  <a:lnTo>
                    <a:pt x="536" y="1219"/>
                  </a:lnTo>
                  <a:lnTo>
                    <a:pt x="658" y="1232"/>
                  </a:lnTo>
                  <a:lnTo>
                    <a:pt x="664" y="1310"/>
                  </a:lnTo>
                  <a:lnTo>
                    <a:pt x="434" y="1291"/>
                  </a:lnTo>
                  <a:lnTo>
                    <a:pt x="0" y="20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90760" y="1552320"/>
              <a:ext cx="762120" cy="1265040"/>
            </a:xfrm>
            <a:custGeom>
              <a:avLst/>
              <a:gdLst/>
              <a:ahLst/>
              <a:rect l="l" t="t" r="r" b="b"/>
              <a:pathLst>
                <a:path w="960" h="1593">
                  <a:moveTo>
                    <a:pt x="960" y="1580"/>
                  </a:moveTo>
                  <a:lnTo>
                    <a:pt x="955" y="1464"/>
                  </a:lnTo>
                  <a:lnTo>
                    <a:pt x="782" y="1456"/>
                  </a:lnTo>
                  <a:lnTo>
                    <a:pt x="782" y="591"/>
                  </a:lnTo>
                  <a:lnTo>
                    <a:pt x="341" y="427"/>
                  </a:lnTo>
                  <a:lnTo>
                    <a:pt x="341" y="201"/>
                  </a:lnTo>
                  <a:lnTo>
                    <a:pt x="0" y="0"/>
                  </a:lnTo>
                  <a:lnTo>
                    <a:pt x="4" y="194"/>
                  </a:lnTo>
                  <a:lnTo>
                    <a:pt x="686" y="1593"/>
                  </a:lnTo>
                  <a:lnTo>
                    <a:pt x="960" y="1580"/>
                  </a:lnTo>
                  <a:lnTo>
                    <a:pt x="960" y="158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22720" y="1527120"/>
              <a:ext cx="838080" cy="1504440"/>
            </a:xfrm>
            <a:custGeom>
              <a:avLst/>
              <a:gdLst/>
              <a:ahLst/>
              <a:rect l="l" t="t" r="r" b="b"/>
              <a:pathLst>
                <a:path w="1055" h="1896">
                  <a:moveTo>
                    <a:pt x="1055" y="1732"/>
                  </a:moveTo>
                  <a:lnTo>
                    <a:pt x="1045" y="1599"/>
                  </a:lnTo>
                  <a:lnTo>
                    <a:pt x="800" y="1590"/>
                  </a:lnTo>
                  <a:lnTo>
                    <a:pt x="800" y="689"/>
                  </a:lnTo>
                  <a:lnTo>
                    <a:pt x="353" y="517"/>
                  </a:lnTo>
                  <a:lnTo>
                    <a:pt x="353" y="251"/>
                  </a:lnTo>
                  <a:lnTo>
                    <a:pt x="99" y="116"/>
                  </a:lnTo>
                  <a:lnTo>
                    <a:pt x="95" y="35"/>
                  </a:lnTo>
                  <a:lnTo>
                    <a:pt x="40" y="0"/>
                  </a:lnTo>
                  <a:lnTo>
                    <a:pt x="0" y="55"/>
                  </a:lnTo>
                  <a:lnTo>
                    <a:pt x="129" y="1099"/>
                  </a:lnTo>
                  <a:lnTo>
                    <a:pt x="663" y="1896"/>
                  </a:lnTo>
                  <a:lnTo>
                    <a:pt x="1055" y="1732"/>
                  </a:lnTo>
                  <a:lnTo>
                    <a:pt x="1055" y="1732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73400" y="1495080"/>
              <a:ext cx="895320" cy="1623600"/>
            </a:xfrm>
            <a:custGeom>
              <a:avLst/>
              <a:gdLst/>
              <a:ahLst/>
              <a:rect l="l" t="t" r="r" b="b"/>
              <a:pathLst>
                <a:path w="1127" h="2046">
                  <a:moveTo>
                    <a:pt x="1127" y="1896"/>
                  </a:moveTo>
                  <a:lnTo>
                    <a:pt x="1116" y="1734"/>
                  </a:lnTo>
                  <a:lnTo>
                    <a:pt x="795" y="1721"/>
                  </a:lnTo>
                  <a:lnTo>
                    <a:pt x="795" y="778"/>
                  </a:lnTo>
                  <a:lnTo>
                    <a:pt x="344" y="601"/>
                  </a:lnTo>
                  <a:lnTo>
                    <a:pt x="344" y="316"/>
                  </a:lnTo>
                  <a:lnTo>
                    <a:pt x="103" y="198"/>
                  </a:lnTo>
                  <a:lnTo>
                    <a:pt x="103" y="40"/>
                  </a:lnTo>
                  <a:lnTo>
                    <a:pt x="38" y="0"/>
                  </a:lnTo>
                  <a:lnTo>
                    <a:pt x="0" y="301"/>
                  </a:lnTo>
                  <a:lnTo>
                    <a:pt x="610" y="2046"/>
                  </a:lnTo>
                  <a:lnTo>
                    <a:pt x="1127" y="1896"/>
                  </a:lnTo>
                  <a:lnTo>
                    <a:pt x="1127" y="1896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1040" y="2427120"/>
              <a:ext cx="3506760" cy="2253960"/>
            </a:xfrm>
            <a:custGeom>
              <a:avLst/>
              <a:gdLst/>
              <a:ahLst/>
              <a:rect l="l" t="t" r="r" b="b"/>
              <a:pathLst>
                <a:path w="4418" h="2841">
                  <a:moveTo>
                    <a:pt x="0" y="2122"/>
                  </a:moveTo>
                  <a:lnTo>
                    <a:pt x="1909" y="2841"/>
                  </a:lnTo>
                  <a:lnTo>
                    <a:pt x="4418" y="1044"/>
                  </a:lnTo>
                  <a:lnTo>
                    <a:pt x="4388" y="668"/>
                  </a:lnTo>
                  <a:lnTo>
                    <a:pt x="2958" y="613"/>
                  </a:lnTo>
                  <a:lnTo>
                    <a:pt x="2044" y="0"/>
                  </a:lnTo>
                  <a:lnTo>
                    <a:pt x="1213" y="499"/>
                  </a:lnTo>
                  <a:lnTo>
                    <a:pt x="11" y="1936"/>
                  </a:lnTo>
                  <a:lnTo>
                    <a:pt x="0" y="2122"/>
                  </a:lnTo>
                  <a:lnTo>
                    <a:pt x="0" y="212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58760" y="3641400"/>
              <a:ext cx="2246400" cy="541080"/>
            </a:xfrm>
            <a:custGeom>
              <a:avLst/>
              <a:gdLst/>
              <a:ahLst/>
              <a:rect l="l" t="t" r="r" b="b"/>
              <a:pathLst>
                <a:path w="2828" h="683">
                  <a:moveTo>
                    <a:pt x="2828" y="222"/>
                  </a:moveTo>
                  <a:lnTo>
                    <a:pt x="1842" y="350"/>
                  </a:lnTo>
                  <a:lnTo>
                    <a:pt x="1393" y="184"/>
                  </a:lnTo>
                  <a:lnTo>
                    <a:pt x="1068" y="245"/>
                  </a:lnTo>
                  <a:lnTo>
                    <a:pt x="587" y="122"/>
                  </a:lnTo>
                  <a:lnTo>
                    <a:pt x="442" y="8"/>
                  </a:lnTo>
                  <a:lnTo>
                    <a:pt x="30" y="0"/>
                  </a:lnTo>
                  <a:lnTo>
                    <a:pt x="0" y="215"/>
                  </a:lnTo>
                  <a:lnTo>
                    <a:pt x="2009" y="683"/>
                  </a:lnTo>
                  <a:lnTo>
                    <a:pt x="2541" y="424"/>
                  </a:lnTo>
                  <a:lnTo>
                    <a:pt x="2828" y="222"/>
                  </a:lnTo>
                  <a:lnTo>
                    <a:pt x="2828" y="222"/>
                  </a:lnTo>
                  <a:close/>
                </a:path>
              </a:pathLst>
            </a:cu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60400" y="3722400"/>
              <a:ext cx="2260800" cy="544320"/>
            </a:xfrm>
            <a:custGeom>
              <a:avLst/>
              <a:gdLst/>
              <a:ahLst/>
              <a:rect l="l" t="t" r="r" b="b"/>
              <a:pathLst>
                <a:path w="2847" h="684">
                  <a:moveTo>
                    <a:pt x="2452" y="568"/>
                  </a:moveTo>
                  <a:lnTo>
                    <a:pt x="2847" y="285"/>
                  </a:lnTo>
                  <a:lnTo>
                    <a:pt x="2093" y="407"/>
                  </a:lnTo>
                  <a:lnTo>
                    <a:pt x="1674" y="222"/>
                  </a:lnTo>
                  <a:lnTo>
                    <a:pt x="1344" y="285"/>
                  </a:lnTo>
                  <a:lnTo>
                    <a:pt x="830" y="127"/>
                  </a:lnTo>
                  <a:lnTo>
                    <a:pt x="690" y="0"/>
                  </a:lnTo>
                  <a:lnTo>
                    <a:pt x="78" y="0"/>
                  </a:lnTo>
                  <a:lnTo>
                    <a:pt x="0" y="167"/>
                  </a:lnTo>
                  <a:lnTo>
                    <a:pt x="2024" y="684"/>
                  </a:lnTo>
                  <a:lnTo>
                    <a:pt x="2452" y="568"/>
                  </a:lnTo>
                  <a:lnTo>
                    <a:pt x="2452" y="568"/>
                  </a:lnTo>
                  <a:close/>
                </a:path>
              </a:pathLst>
            </a:custGeom>
            <a:solidFill>
              <a:srgbClr val="786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5240" y="3798720"/>
              <a:ext cx="2079720" cy="542520"/>
            </a:xfrm>
            <a:custGeom>
              <a:avLst/>
              <a:gdLst/>
              <a:ahLst/>
              <a:rect l="l" t="t" r="r" b="b"/>
              <a:pathLst>
                <a:path w="2620" h="684">
                  <a:moveTo>
                    <a:pt x="2620" y="418"/>
                  </a:moveTo>
                  <a:lnTo>
                    <a:pt x="2152" y="473"/>
                  </a:lnTo>
                  <a:lnTo>
                    <a:pt x="1774" y="275"/>
                  </a:lnTo>
                  <a:lnTo>
                    <a:pt x="1410" y="344"/>
                  </a:lnTo>
                  <a:lnTo>
                    <a:pt x="901" y="146"/>
                  </a:lnTo>
                  <a:lnTo>
                    <a:pt x="772" y="0"/>
                  </a:lnTo>
                  <a:lnTo>
                    <a:pt x="74" y="0"/>
                  </a:lnTo>
                  <a:lnTo>
                    <a:pt x="0" y="110"/>
                  </a:lnTo>
                  <a:lnTo>
                    <a:pt x="660" y="207"/>
                  </a:lnTo>
                  <a:lnTo>
                    <a:pt x="1198" y="536"/>
                  </a:lnTo>
                  <a:lnTo>
                    <a:pt x="2243" y="684"/>
                  </a:lnTo>
                  <a:lnTo>
                    <a:pt x="2620" y="418"/>
                  </a:lnTo>
                  <a:lnTo>
                    <a:pt x="2620" y="418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9440" y="3852720"/>
              <a:ext cx="2049480" cy="632880"/>
            </a:xfrm>
            <a:custGeom>
              <a:avLst/>
              <a:gdLst/>
              <a:ahLst/>
              <a:rect l="l" t="t" r="r" b="b"/>
              <a:pathLst>
                <a:path w="2582" h="799">
                  <a:moveTo>
                    <a:pt x="0" y="91"/>
                  </a:moveTo>
                  <a:lnTo>
                    <a:pt x="782" y="215"/>
                  </a:lnTo>
                  <a:lnTo>
                    <a:pt x="1337" y="620"/>
                  </a:lnTo>
                  <a:lnTo>
                    <a:pt x="1732" y="584"/>
                  </a:lnTo>
                  <a:lnTo>
                    <a:pt x="2177" y="799"/>
                  </a:lnTo>
                  <a:lnTo>
                    <a:pt x="2582" y="517"/>
                  </a:lnTo>
                  <a:lnTo>
                    <a:pt x="2287" y="521"/>
                  </a:lnTo>
                  <a:lnTo>
                    <a:pt x="1928" y="377"/>
                  </a:lnTo>
                  <a:lnTo>
                    <a:pt x="1540" y="386"/>
                  </a:lnTo>
                  <a:lnTo>
                    <a:pt x="1018" y="158"/>
                  </a:lnTo>
                  <a:lnTo>
                    <a:pt x="968" y="42"/>
                  </a:lnTo>
                  <a:lnTo>
                    <a:pt x="185" y="0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84520" y="1317600"/>
              <a:ext cx="260280" cy="301320"/>
            </a:xfrm>
            <a:custGeom>
              <a:avLst/>
              <a:gdLst/>
              <a:ahLst/>
              <a:rect l="l" t="t" r="r" b="b"/>
              <a:pathLst>
                <a:path w="329" h="380">
                  <a:moveTo>
                    <a:pt x="28" y="97"/>
                  </a:moveTo>
                  <a:lnTo>
                    <a:pt x="268" y="0"/>
                  </a:lnTo>
                  <a:lnTo>
                    <a:pt x="329" y="87"/>
                  </a:lnTo>
                  <a:lnTo>
                    <a:pt x="276" y="340"/>
                  </a:lnTo>
                  <a:lnTo>
                    <a:pt x="0" y="380"/>
                  </a:lnTo>
                  <a:lnTo>
                    <a:pt x="28" y="97"/>
                  </a:lnTo>
                  <a:lnTo>
                    <a:pt x="28" y="97"/>
                  </a:lnTo>
                  <a:close/>
                </a:path>
              </a:pathLst>
            </a:cu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04960" y="1387080"/>
              <a:ext cx="300240" cy="279360"/>
            </a:xfrm>
            <a:custGeom>
              <a:avLst/>
              <a:gdLst/>
              <a:ahLst/>
              <a:rect l="l" t="t" r="r" b="b"/>
              <a:pathLst>
                <a:path w="379" h="352">
                  <a:moveTo>
                    <a:pt x="14" y="56"/>
                  </a:moveTo>
                  <a:lnTo>
                    <a:pt x="154" y="0"/>
                  </a:lnTo>
                  <a:lnTo>
                    <a:pt x="154" y="270"/>
                  </a:lnTo>
                  <a:lnTo>
                    <a:pt x="379" y="215"/>
                  </a:lnTo>
                  <a:lnTo>
                    <a:pt x="375" y="278"/>
                  </a:lnTo>
                  <a:lnTo>
                    <a:pt x="0" y="352"/>
                  </a:lnTo>
                  <a:lnTo>
                    <a:pt x="14" y="56"/>
                  </a:lnTo>
                  <a:lnTo>
                    <a:pt x="14" y="56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71840" y="1427040"/>
              <a:ext cx="342720" cy="285120"/>
            </a:xfrm>
            <a:custGeom>
              <a:avLst/>
              <a:gdLst/>
              <a:ahLst/>
              <a:rect l="l" t="t" r="r" b="b"/>
              <a:pathLst>
                <a:path w="434" h="359">
                  <a:moveTo>
                    <a:pt x="0" y="26"/>
                  </a:moveTo>
                  <a:lnTo>
                    <a:pt x="0" y="359"/>
                  </a:lnTo>
                  <a:lnTo>
                    <a:pt x="434" y="245"/>
                  </a:lnTo>
                  <a:lnTo>
                    <a:pt x="430" y="199"/>
                  </a:lnTo>
                  <a:lnTo>
                    <a:pt x="65" y="279"/>
                  </a:lnTo>
                  <a:lnTo>
                    <a:pt x="65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5e7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22480" y="1373040"/>
              <a:ext cx="285840" cy="350280"/>
            </a:xfrm>
            <a:custGeom>
              <a:avLst/>
              <a:gdLst/>
              <a:ahLst/>
              <a:rect l="l" t="t" r="r" b="b"/>
              <a:pathLst>
                <a:path w="360" h="441">
                  <a:moveTo>
                    <a:pt x="360" y="200"/>
                  </a:moveTo>
                  <a:lnTo>
                    <a:pt x="354" y="441"/>
                  </a:lnTo>
                  <a:lnTo>
                    <a:pt x="350" y="438"/>
                  </a:lnTo>
                  <a:lnTo>
                    <a:pt x="339" y="436"/>
                  </a:lnTo>
                  <a:lnTo>
                    <a:pt x="322" y="428"/>
                  </a:lnTo>
                  <a:lnTo>
                    <a:pt x="299" y="421"/>
                  </a:lnTo>
                  <a:lnTo>
                    <a:pt x="272" y="409"/>
                  </a:lnTo>
                  <a:lnTo>
                    <a:pt x="244" y="398"/>
                  </a:lnTo>
                  <a:lnTo>
                    <a:pt x="211" y="386"/>
                  </a:lnTo>
                  <a:lnTo>
                    <a:pt x="179" y="375"/>
                  </a:lnTo>
                  <a:lnTo>
                    <a:pt x="145" y="362"/>
                  </a:lnTo>
                  <a:lnTo>
                    <a:pt x="113" y="350"/>
                  </a:lnTo>
                  <a:lnTo>
                    <a:pt x="82" y="341"/>
                  </a:lnTo>
                  <a:lnTo>
                    <a:pt x="55" y="331"/>
                  </a:lnTo>
                  <a:lnTo>
                    <a:pt x="33" y="322"/>
                  </a:lnTo>
                  <a:lnTo>
                    <a:pt x="16" y="316"/>
                  </a:lnTo>
                  <a:lnTo>
                    <a:pt x="4" y="310"/>
                  </a:lnTo>
                  <a:lnTo>
                    <a:pt x="0" y="310"/>
                  </a:lnTo>
                  <a:lnTo>
                    <a:pt x="29" y="0"/>
                  </a:lnTo>
                  <a:lnTo>
                    <a:pt x="360" y="200"/>
                  </a:lnTo>
                  <a:lnTo>
                    <a:pt x="360" y="200"/>
                  </a:lnTo>
                  <a:close/>
                </a:path>
              </a:pathLst>
            </a:custGeom>
            <a:solidFill>
              <a:srgbClr val="001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97280" y="1320480"/>
              <a:ext cx="311040" cy="311040"/>
            </a:xfrm>
            <a:custGeom>
              <a:avLst/>
              <a:gdLst/>
              <a:ahLst/>
              <a:rect l="l" t="t" r="r" b="b"/>
              <a:pathLst>
                <a:path w="392" h="391">
                  <a:moveTo>
                    <a:pt x="0" y="391"/>
                  </a:moveTo>
                  <a:lnTo>
                    <a:pt x="0" y="0"/>
                  </a:lnTo>
                  <a:lnTo>
                    <a:pt x="392" y="224"/>
                  </a:lnTo>
                  <a:lnTo>
                    <a:pt x="392" y="298"/>
                  </a:lnTo>
                  <a:lnTo>
                    <a:pt x="78" y="142"/>
                  </a:lnTo>
                  <a:lnTo>
                    <a:pt x="70" y="376"/>
                  </a:lnTo>
                  <a:lnTo>
                    <a:pt x="0" y="391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89160" y="1663560"/>
              <a:ext cx="314280" cy="380520"/>
            </a:xfrm>
            <a:custGeom>
              <a:avLst/>
              <a:gdLst/>
              <a:ahLst/>
              <a:rect l="l" t="t" r="r" b="b"/>
              <a:pathLst>
                <a:path w="398" h="481">
                  <a:moveTo>
                    <a:pt x="398" y="219"/>
                  </a:moveTo>
                  <a:lnTo>
                    <a:pt x="398" y="481"/>
                  </a:lnTo>
                  <a:lnTo>
                    <a:pt x="0" y="343"/>
                  </a:lnTo>
                  <a:lnTo>
                    <a:pt x="14" y="0"/>
                  </a:lnTo>
                  <a:lnTo>
                    <a:pt x="398" y="219"/>
                  </a:lnTo>
                  <a:lnTo>
                    <a:pt x="398" y="219"/>
                  </a:lnTo>
                  <a:close/>
                </a:path>
              </a:pathLst>
            </a:custGeom>
            <a:solidFill>
              <a:srgbClr val="001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16080" y="1612800"/>
              <a:ext cx="387360" cy="352080"/>
            </a:xfrm>
            <a:custGeom>
              <a:avLst/>
              <a:gdLst/>
              <a:ahLst/>
              <a:rect l="l" t="t" r="r" b="b"/>
              <a:pathLst>
                <a:path w="489" h="443">
                  <a:moveTo>
                    <a:pt x="126" y="429"/>
                  </a:moveTo>
                  <a:lnTo>
                    <a:pt x="126" y="102"/>
                  </a:lnTo>
                  <a:lnTo>
                    <a:pt x="489" y="281"/>
                  </a:lnTo>
                  <a:lnTo>
                    <a:pt x="489" y="239"/>
                  </a:lnTo>
                  <a:lnTo>
                    <a:pt x="0" y="0"/>
                  </a:lnTo>
                  <a:lnTo>
                    <a:pt x="6" y="443"/>
                  </a:lnTo>
                  <a:lnTo>
                    <a:pt x="126" y="429"/>
                  </a:lnTo>
                  <a:lnTo>
                    <a:pt x="126" y="429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50960" y="1589040"/>
              <a:ext cx="425520" cy="388440"/>
            </a:xfrm>
            <a:custGeom>
              <a:avLst/>
              <a:gdLst/>
              <a:ahLst/>
              <a:rect l="l" t="t" r="r" b="b"/>
              <a:pathLst>
                <a:path w="536" h="491">
                  <a:moveTo>
                    <a:pt x="0" y="133"/>
                  </a:moveTo>
                  <a:lnTo>
                    <a:pt x="17" y="491"/>
                  </a:lnTo>
                  <a:lnTo>
                    <a:pt x="536" y="386"/>
                  </a:lnTo>
                  <a:lnTo>
                    <a:pt x="536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22440" y="1684080"/>
              <a:ext cx="554040" cy="345600"/>
            </a:xfrm>
            <a:custGeom>
              <a:avLst/>
              <a:gdLst/>
              <a:ahLst/>
              <a:rect l="l" t="t" r="r" b="b"/>
              <a:pathLst>
                <a:path w="700" h="435">
                  <a:moveTo>
                    <a:pt x="0" y="49"/>
                  </a:moveTo>
                  <a:lnTo>
                    <a:pt x="213" y="0"/>
                  </a:lnTo>
                  <a:lnTo>
                    <a:pt x="213" y="348"/>
                  </a:lnTo>
                  <a:lnTo>
                    <a:pt x="700" y="243"/>
                  </a:lnTo>
                  <a:lnTo>
                    <a:pt x="700" y="297"/>
                  </a:lnTo>
                  <a:lnTo>
                    <a:pt x="23" y="435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4520" y="1715760"/>
              <a:ext cx="568440" cy="363240"/>
            </a:xfrm>
            <a:custGeom>
              <a:avLst/>
              <a:gdLst/>
              <a:ahLst/>
              <a:rect l="l" t="t" r="r" b="b"/>
              <a:pathLst>
                <a:path w="716" h="458">
                  <a:moveTo>
                    <a:pt x="0" y="11"/>
                  </a:moveTo>
                  <a:lnTo>
                    <a:pt x="0" y="458"/>
                  </a:lnTo>
                  <a:lnTo>
                    <a:pt x="716" y="314"/>
                  </a:lnTo>
                  <a:lnTo>
                    <a:pt x="716" y="236"/>
                  </a:lnTo>
                  <a:lnTo>
                    <a:pt x="45" y="376"/>
                  </a:lnTo>
                  <a:lnTo>
                    <a:pt x="4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e7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0360" y="1576080"/>
              <a:ext cx="433080" cy="377640"/>
            </a:xfrm>
            <a:custGeom>
              <a:avLst/>
              <a:gdLst/>
              <a:ahLst/>
              <a:rect l="l" t="t" r="r" b="b"/>
              <a:pathLst>
                <a:path w="548" h="477">
                  <a:moveTo>
                    <a:pt x="0" y="0"/>
                  </a:moveTo>
                  <a:lnTo>
                    <a:pt x="0" y="477"/>
                  </a:lnTo>
                  <a:lnTo>
                    <a:pt x="82" y="466"/>
                  </a:lnTo>
                  <a:lnTo>
                    <a:pt x="78" y="70"/>
                  </a:lnTo>
                  <a:lnTo>
                    <a:pt x="548" y="302"/>
                  </a:lnTo>
                  <a:lnTo>
                    <a:pt x="548" y="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33680" y="2196720"/>
              <a:ext cx="311400" cy="1050840"/>
            </a:xfrm>
            <a:custGeom>
              <a:avLst/>
              <a:gdLst/>
              <a:ahLst/>
              <a:rect l="l" t="t" r="r" b="b"/>
              <a:pathLst>
                <a:path w="391" h="1324">
                  <a:moveTo>
                    <a:pt x="391" y="137"/>
                  </a:moveTo>
                  <a:lnTo>
                    <a:pt x="388" y="1204"/>
                  </a:lnTo>
                  <a:lnTo>
                    <a:pt x="0" y="1324"/>
                  </a:lnTo>
                  <a:lnTo>
                    <a:pt x="13" y="0"/>
                  </a:lnTo>
                  <a:lnTo>
                    <a:pt x="391" y="137"/>
                  </a:lnTo>
                  <a:lnTo>
                    <a:pt x="391" y="137"/>
                  </a:lnTo>
                  <a:close/>
                </a:path>
              </a:pathLst>
            </a:custGeom>
            <a:solidFill>
              <a:srgbClr val="001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48000" y="2106360"/>
              <a:ext cx="397080" cy="1166400"/>
            </a:xfrm>
            <a:custGeom>
              <a:avLst/>
              <a:gdLst/>
              <a:ahLst/>
              <a:rect l="l" t="t" r="r" b="b"/>
              <a:pathLst>
                <a:path w="500" h="1470">
                  <a:moveTo>
                    <a:pt x="500" y="196"/>
                  </a:moveTo>
                  <a:lnTo>
                    <a:pt x="500" y="278"/>
                  </a:lnTo>
                  <a:lnTo>
                    <a:pt x="147" y="160"/>
                  </a:lnTo>
                  <a:lnTo>
                    <a:pt x="141" y="1428"/>
                  </a:lnTo>
                  <a:lnTo>
                    <a:pt x="0" y="1470"/>
                  </a:lnTo>
                  <a:lnTo>
                    <a:pt x="23" y="0"/>
                  </a:lnTo>
                  <a:lnTo>
                    <a:pt x="500" y="196"/>
                  </a:lnTo>
                  <a:lnTo>
                    <a:pt x="500" y="196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62320" y="2050920"/>
              <a:ext cx="482760" cy="1255320"/>
            </a:xfrm>
            <a:custGeom>
              <a:avLst/>
              <a:gdLst/>
              <a:ahLst/>
              <a:rect l="l" t="t" r="r" b="b"/>
              <a:pathLst>
                <a:path w="608" h="1582">
                  <a:moveTo>
                    <a:pt x="608" y="238"/>
                  </a:moveTo>
                  <a:lnTo>
                    <a:pt x="608" y="306"/>
                  </a:lnTo>
                  <a:lnTo>
                    <a:pt x="148" y="143"/>
                  </a:lnTo>
                  <a:lnTo>
                    <a:pt x="154" y="1529"/>
                  </a:lnTo>
                  <a:lnTo>
                    <a:pt x="0" y="1582"/>
                  </a:lnTo>
                  <a:lnTo>
                    <a:pt x="19" y="0"/>
                  </a:lnTo>
                  <a:lnTo>
                    <a:pt x="608" y="238"/>
                  </a:lnTo>
                  <a:lnTo>
                    <a:pt x="608" y="238"/>
                  </a:lnTo>
                  <a:close/>
                </a:path>
              </a:pathLst>
            </a:custGeom>
            <a:solidFill>
              <a:srgbClr val="000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97160" y="1990440"/>
              <a:ext cx="547920" cy="1331640"/>
            </a:xfrm>
            <a:custGeom>
              <a:avLst/>
              <a:gdLst/>
              <a:ahLst/>
              <a:rect l="l" t="t" r="r" b="b"/>
              <a:pathLst>
                <a:path w="690" h="1679">
                  <a:moveTo>
                    <a:pt x="690" y="350"/>
                  </a:moveTo>
                  <a:lnTo>
                    <a:pt x="118" y="127"/>
                  </a:lnTo>
                  <a:lnTo>
                    <a:pt x="124" y="1643"/>
                  </a:lnTo>
                  <a:lnTo>
                    <a:pt x="4" y="1679"/>
                  </a:lnTo>
                  <a:lnTo>
                    <a:pt x="0" y="0"/>
                  </a:lnTo>
                  <a:lnTo>
                    <a:pt x="690" y="310"/>
                  </a:lnTo>
                  <a:lnTo>
                    <a:pt x="690" y="350"/>
                  </a:lnTo>
                  <a:lnTo>
                    <a:pt x="690" y="350"/>
                  </a:lnTo>
                  <a:close/>
                </a:path>
              </a:pathLst>
            </a:custGeom>
            <a:solidFill>
              <a:srgbClr val="000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57560" y="1941120"/>
              <a:ext cx="587520" cy="1395360"/>
            </a:xfrm>
            <a:custGeom>
              <a:avLst/>
              <a:gdLst/>
              <a:ahLst/>
              <a:rect l="l" t="t" r="r" b="b"/>
              <a:pathLst>
                <a:path w="739" h="1759">
                  <a:moveTo>
                    <a:pt x="8" y="1759"/>
                  </a:moveTo>
                  <a:lnTo>
                    <a:pt x="82" y="1738"/>
                  </a:lnTo>
                  <a:lnTo>
                    <a:pt x="84" y="118"/>
                  </a:lnTo>
                  <a:lnTo>
                    <a:pt x="739" y="386"/>
                  </a:lnTo>
                  <a:lnTo>
                    <a:pt x="739" y="323"/>
                  </a:lnTo>
                  <a:lnTo>
                    <a:pt x="0" y="0"/>
                  </a:lnTo>
                  <a:lnTo>
                    <a:pt x="8" y="1759"/>
                  </a:lnTo>
                  <a:lnTo>
                    <a:pt x="8" y="1759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90720" y="1909440"/>
              <a:ext cx="351000" cy="1184040"/>
            </a:xfrm>
            <a:custGeom>
              <a:avLst/>
              <a:gdLst/>
              <a:ahLst/>
              <a:rect l="l" t="t" r="r" b="b"/>
              <a:pathLst>
                <a:path w="441" h="1493">
                  <a:moveTo>
                    <a:pt x="0" y="88"/>
                  </a:moveTo>
                  <a:lnTo>
                    <a:pt x="433" y="0"/>
                  </a:lnTo>
                  <a:lnTo>
                    <a:pt x="441" y="1493"/>
                  </a:lnTo>
                  <a:lnTo>
                    <a:pt x="78" y="1407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b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84440" y="1955520"/>
              <a:ext cx="557280" cy="1203120"/>
            </a:xfrm>
            <a:custGeom>
              <a:avLst/>
              <a:gdLst/>
              <a:ahLst/>
              <a:rect l="l" t="t" r="r" b="b"/>
              <a:pathLst>
                <a:path w="701" h="1516">
                  <a:moveTo>
                    <a:pt x="15" y="76"/>
                  </a:moveTo>
                  <a:lnTo>
                    <a:pt x="403" y="0"/>
                  </a:lnTo>
                  <a:lnTo>
                    <a:pt x="403" y="1322"/>
                  </a:lnTo>
                  <a:lnTo>
                    <a:pt x="701" y="1400"/>
                  </a:lnTo>
                  <a:lnTo>
                    <a:pt x="699" y="1516"/>
                  </a:lnTo>
                  <a:lnTo>
                    <a:pt x="0" y="1339"/>
                  </a:lnTo>
                  <a:lnTo>
                    <a:pt x="15" y="76"/>
                  </a:lnTo>
                  <a:lnTo>
                    <a:pt x="15" y="76"/>
                  </a:lnTo>
                  <a:close/>
                </a:path>
              </a:pathLst>
            </a:cu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30280" y="2004840"/>
              <a:ext cx="809640" cy="1207800"/>
            </a:xfrm>
            <a:custGeom>
              <a:avLst/>
              <a:gdLst/>
              <a:ahLst/>
              <a:rect l="l" t="t" r="r" b="b"/>
              <a:pathLst>
                <a:path w="1021" h="1523">
                  <a:moveTo>
                    <a:pt x="19" y="78"/>
                  </a:moveTo>
                  <a:lnTo>
                    <a:pt x="401" y="0"/>
                  </a:lnTo>
                  <a:lnTo>
                    <a:pt x="401" y="1261"/>
                  </a:lnTo>
                  <a:lnTo>
                    <a:pt x="1021" y="1411"/>
                  </a:lnTo>
                  <a:lnTo>
                    <a:pt x="1021" y="1523"/>
                  </a:lnTo>
                  <a:lnTo>
                    <a:pt x="0" y="1310"/>
                  </a:lnTo>
                  <a:lnTo>
                    <a:pt x="19" y="78"/>
                  </a:lnTo>
                  <a:lnTo>
                    <a:pt x="19" y="78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39920" y="2062080"/>
              <a:ext cx="906480" cy="1245600"/>
            </a:xfrm>
            <a:custGeom>
              <a:avLst/>
              <a:gdLst/>
              <a:ahLst/>
              <a:rect l="l" t="t" r="r" b="b"/>
              <a:pathLst>
                <a:path w="1143" h="1571">
                  <a:moveTo>
                    <a:pt x="0" y="33"/>
                  </a:moveTo>
                  <a:lnTo>
                    <a:pt x="164" y="0"/>
                  </a:lnTo>
                  <a:lnTo>
                    <a:pt x="160" y="1215"/>
                  </a:lnTo>
                  <a:lnTo>
                    <a:pt x="1143" y="1453"/>
                  </a:lnTo>
                  <a:lnTo>
                    <a:pt x="1137" y="1571"/>
                  </a:lnTo>
                  <a:lnTo>
                    <a:pt x="6" y="1295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e7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11480" y="2084040"/>
              <a:ext cx="930240" cy="1263240"/>
            </a:xfrm>
            <a:custGeom>
              <a:avLst/>
              <a:gdLst/>
              <a:ahLst/>
              <a:rect l="l" t="t" r="r" b="b"/>
              <a:pathLst>
                <a:path w="1173" h="1591">
                  <a:moveTo>
                    <a:pt x="0" y="9"/>
                  </a:moveTo>
                  <a:lnTo>
                    <a:pt x="0" y="1304"/>
                  </a:lnTo>
                  <a:lnTo>
                    <a:pt x="1173" y="1591"/>
                  </a:lnTo>
                  <a:lnTo>
                    <a:pt x="1171" y="1517"/>
                  </a:lnTo>
                  <a:lnTo>
                    <a:pt x="59" y="1251"/>
                  </a:lnTo>
                  <a:lnTo>
                    <a:pt x="59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1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7320" y="1908000"/>
              <a:ext cx="617760" cy="1436400"/>
            </a:xfrm>
            <a:custGeom>
              <a:avLst/>
              <a:gdLst/>
              <a:ahLst/>
              <a:rect l="l" t="t" r="r" b="b"/>
              <a:pathLst>
                <a:path w="777" h="1810">
                  <a:moveTo>
                    <a:pt x="0" y="1810"/>
                  </a:moveTo>
                  <a:lnTo>
                    <a:pt x="6" y="0"/>
                  </a:lnTo>
                  <a:lnTo>
                    <a:pt x="777" y="318"/>
                  </a:lnTo>
                  <a:lnTo>
                    <a:pt x="777" y="373"/>
                  </a:lnTo>
                  <a:lnTo>
                    <a:pt x="57" y="67"/>
                  </a:lnTo>
                  <a:lnTo>
                    <a:pt x="57" y="1791"/>
                  </a:lnTo>
                  <a:lnTo>
                    <a:pt x="0" y="1810"/>
                  </a:lnTo>
                  <a:lnTo>
                    <a:pt x="0" y="1810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11200" y="3393720"/>
              <a:ext cx="91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</a:rPr>
                <a:t>Ma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735120" y="1755720"/>
              <a:ext cx="1819080" cy="168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 rot="1496400">
            <a:off x="3661920" y="3687840"/>
            <a:ext cx="1787760" cy="925560"/>
          </a:xfrm>
          <a:prstGeom prst="leftRightArrow">
            <a:avLst>
              <a:gd name="adj1" fmla="val 50000"/>
              <a:gd name="adj2" fmla="val 38452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nalogy: Mass to Entity/Energy to Ac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"/>
          <p:cNvSpPr/>
          <p:nvPr/>
        </p:nvSpPr>
        <p:spPr>
          <a:xfrm>
            <a:off x="1009800" y="12128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52680" y="124452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09800" y="1411200"/>
            <a:ext cx="1406520" cy="1855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09800" y="3143160"/>
            <a:ext cx="140652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37880" y="14335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37160" y="157464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37160" y="17146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35720" y="185724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38240" y="1998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37160" y="21416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36800" y="22827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37160" y="242244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8240" y="25653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38960" y="27068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37520" y="284940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719360" y="3279600"/>
            <a:ext cx="1440" cy="40032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52760" y="32796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69000" y="349416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16360" y="352908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69000" y="368928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69000" y="602928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4200" y="370836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4560" y="38498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93120" y="399096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4920" y="4132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93480" y="427356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3120" y="441648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93120" y="455760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0600" y="469908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93120" y="484020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1320" y="498168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92760" y="512460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91320" y="52657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92040" y="540864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94560" y="554832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680" y="56894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607080" y="6165720"/>
            <a:ext cx="180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40480" y="616572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496400">
            <a:off x="2628720" y="3180960"/>
            <a:ext cx="2900160" cy="925560"/>
          </a:xfrm>
          <a:prstGeom prst="leftRightArrow">
            <a:avLst>
              <a:gd name="adj1" fmla="val 50000"/>
              <a:gd name="adj2" fmla="val 6237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41960" y="18954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43880" y="48402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22:31:46Z</dcterms:created>
  <dc:creator>cosmatne</dc:creator>
  <dc:description/>
  <dc:language>en-US</dc:language>
  <cp:lastModifiedBy>ebiz suite</cp:lastModifiedBy>
  <dcterms:modified xsi:type="dcterms:W3CDTF">2007-12-16T04:29:51Z</dcterms:modified>
  <cp:revision>222</cp:revision>
  <dc:subject/>
  <dc:title>Developing Methods to Message Domain Knowledge Using NIC and LOINC Coding Systems </dc:title>
</cp:coreProperties>
</file>